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CE7-CB7E-404A-9A63-068AC860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360-D6E2-40F2-96E1-0ACEBE4B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6A9-03F3-480E-8193-E44A3A61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CA9-8EE3-4B70-A061-EAC03363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E4B-576B-4E63-99CE-B61939C8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D5F-B506-457A-92DD-04831E49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F29-0017-4850-8533-2E95211F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BE0-13A2-4533-94CA-3F879F46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788-ABA0-4A70-8E30-1DE45326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DFA-29E8-4E19-8501-F12B981E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B86-8B63-4967-A5E1-B0CE298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A50-A823-47F7-9B02-F2FE557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535C-BCD2-4C6F-87D3-A9FDF8A08E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horizontal and vertical asymptotes of this fu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(3x – 5)/(x +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2743200" y="106668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Ink 4"/>
          <p:cNvSpPr/>
          <p:nvPr/>
        </p:nvSpPr>
        <p:spPr>
          <a:xfrm>
            <a:off x="3017880" y="3456000"/>
            <a:ext cx="2448000" cy="2108160"/>
          </a:xfrm>
          <a:custGeom>
            <a:avLst/>
            <a:gdLst/>
            <a:ahLst/>
            <a:rect l="l" t="t" r="r" b="b"/>
            <a:pathLst>
              <a:path w="6797" h="5855">
                <a:moveTo>
                  <a:pt x="13395" y="11063"/>
                </a:moveTo>
                <a:cubicBezTo>
                  <a:pt x="13466" y="11054"/>
                  <a:pt x="13550" y="10959"/>
                  <a:pt x="13444" y="10988"/>
                </a:cubicBezTo>
                <a:cubicBezTo>
                  <a:pt x="13369" y="11009"/>
                  <a:pt x="13361" y="11057"/>
                  <a:pt x="13395" y="11112"/>
                </a:cubicBezTo>
                <a:cubicBezTo>
                  <a:pt x="13423" y="11126"/>
                  <a:pt x="13478" y="11118"/>
                  <a:pt x="13494" y="11063"/>
                </a:cubicBezTo>
                <a:cubicBezTo>
                  <a:pt x="13518" y="10980"/>
                  <a:pt x="13456" y="10939"/>
                  <a:pt x="13395" y="10988"/>
                </a:cubicBezTo>
                <a:cubicBezTo>
                  <a:pt x="13353" y="11021"/>
                  <a:pt x="13322" y="11092"/>
                  <a:pt x="13395" y="11112"/>
                </a:cubicBezTo>
                <a:cubicBezTo>
                  <a:pt x="13422" y="11120"/>
                  <a:pt x="13522" y="11077"/>
                  <a:pt x="13519" y="11038"/>
                </a:cubicBezTo>
                <a:cubicBezTo>
                  <a:pt x="13497" y="10994"/>
                  <a:pt x="13494" y="10983"/>
                  <a:pt x="13469" y="10964"/>
                </a:cubicBezTo>
                <a:cubicBezTo>
                  <a:pt x="13444" y="10967"/>
                  <a:pt x="13314" y="10985"/>
                  <a:pt x="13320" y="11038"/>
                </a:cubicBezTo>
                <a:cubicBezTo>
                  <a:pt x="13324" y="11077"/>
                  <a:pt x="13411" y="11123"/>
                  <a:pt x="13444" y="11112"/>
                </a:cubicBezTo>
                <a:cubicBezTo>
                  <a:pt x="13489" y="11098"/>
                  <a:pt x="13527" y="10986"/>
                  <a:pt x="13469" y="10964"/>
                </a:cubicBezTo>
                <a:cubicBezTo>
                  <a:pt x="13406" y="10940"/>
                  <a:pt x="13329" y="10998"/>
                  <a:pt x="13345" y="11063"/>
                </a:cubicBezTo>
                <a:cubicBezTo>
                  <a:pt x="13365" y="11147"/>
                  <a:pt x="13456" y="11116"/>
                  <a:pt x="13494" y="11063"/>
                </a:cubicBezTo>
                <a:cubicBezTo>
                  <a:pt x="13553" y="10981"/>
                  <a:pt x="13470" y="10936"/>
                  <a:pt x="13395" y="10964"/>
                </a:cubicBezTo>
                <a:cubicBezTo>
                  <a:pt x="13344" y="10983"/>
                  <a:pt x="13350" y="11049"/>
                  <a:pt x="13345" y="11088"/>
                </a:cubicBezTo>
                <a:cubicBezTo>
                  <a:pt x="13391" y="11115"/>
                  <a:pt x="13412" y="11112"/>
                  <a:pt x="13469" y="11112"/>
                </a:cubicBezTo>
                <a:cubicBezTo>
                  <a:pt x="13521" y="11062"/>
                  <a:pt x="13542" y="11029"/>
                  <a:pt x="13494" y="10964"/>
                </a:cubicBezTo>
                <a:cubicBezTo>
                  <a:pt x="13462" y="10920"/>
                  <a:pt x="13404" y="10982"/>
                  <a:pt x="13370" y="11013"/>
                </a:cubicBezTo>
                <a:cubicBezTo>
                  <a:pt x="13282" y="11092"/>
                  <a:pt x="13443" y="11110"/>
                  <a:pt x="13494" y="11088"/>
                </a:cubicBezTo>
                <a:cubicBezTo>
                  <a:pt x="13579" y="11051"/>
                  <a:pt x="13541" y="10970"/>
                  <a:pt x="13469" y="10964"/>
                </a:cubicBezTo>
                <a:cubicBezTo>
                  <a:pt x="13379" y="10956"/>
                  <a:pt x="13337" y="10983"/>
                  <a:pt x="13370" y="11063"/>
                </a:cubicBezTo>
                <a:cubicBezTo>
                  <a:pt x="13400" y="11136"/>
                  <a:pt x="13475" y="11126"/>
                  <a:pt x="13519" y="11063"/>
                </a:cubicBezTo>
                <a:cubicBezTo>
                  <a:pt x="13557" y="11009"/>
                  <a:pt x="13563" y="10897"/>
                  <a:pt x="13469" y="10914"/>
                </a:cubicBezTo>
                <a:cubicBezTo>
                  <a:pt x="13371" y="10931"/>
                  <a:pt x="13370" y="10981"/>
                  <a:pt x="13370" y="11063"/>
                </a:cubicBezTo>
                <a:cubicBezTo>
                  <a:pt x="13412" y="11105"/>
                  <a:pt x="13466" y="11152"/>
                  <a:pt x="13519" y="11088"/>
                </a:cubicBezTo>
                <a:cubicBezTo>
                  <a:pt x="13577" y="11019"/>
                  <a:pt x="13593" y="10926"/>
                  <a:pt x="13469" y="10939"/>
                </a:cubicBezTo>
                <a:cubicBezTo>
                  <a:pt x="13383" y="10948"/>
                  <a:pt x="13421" y="11001"/>
                  <a:pt x="13444" y="11038"/>
                </a:cubicBezTo>
              </a:path>
              <a:path w="6797" h="5855">
                <a:moveTo>
                  <a:pt x="11931" y="10294"/>
                </a:moveTo>
                <a:cubicBezTo>
                  <a:pt x="11905" y="10383"/>
                  <a:pt x="11922" y="10416"/>
                  <a:pt x="12005" y="10368"/>
                </a:cubicBezTo>
                <a:cubicBezTo>
                  <a:pt x="11995" y="10362"/>
                  <a:pt x="11877" y="10310"/>
                  <a:pt x="11881" y="10368"/>
                </a:cubicBezTo>
                <a:cubicBezTo>
                  <a:pt x="11889" y="10385"/>
                  <a:pt x="11898" y="10401"/>
                  <a:pt x="11906" y="10418"/>
                </a:cubicBezTo>
                <a:cubicBezTo>
                  <a:pt x="11944" y="10418"/>
                  <a:pt x="12114" y="10371"/>
                  <a:pt x="12005" y="10344"/>
                </a:cubicBezTo>
                <a:cubicBezTo>
                  <a:pt x="11950" y="10330"/>
                  <a:pt x="11900" y="10347"/>
                  <a:pt x="11857" y="10368"/>
                </a:cubicBezTo>
                <a:cubicBezTo>
                  <a:pt x="11894" y="10422"/>
                  <a:pt x="11963" y="10476"/>
                  <a:pt x="12030" y="10418"/>
                </a:cubicBezTo>
                <a:cubicBezTo>
                  <a:pt x="12134" y="10329"/>
                  <a:pt x="11975" y="10344"/>
                  <a:pt x="11931" y="10344"/>
                </a:cubicBezTo>
                <a:cubicBezTo>
                  <a:pt x="11842" y="10344"/>
                  <a:pt x="11820" y="10328"/>
                  <a:pt x="11807" y="10418"/>
                </a:cubicBezTo>
              </a:path>
              <a:path w="6797" h="5855">
                <a:moveTo>
                  <a:pt x="14957" y="14734"/>
                </a:moveTo>
                <a:cubicBezTo>
                  <a:pt x="14906" y="14703"/>
                  <a:pt x="14909" y="14703"/>
                  <a:pt x="14858" y="14734"/>
                </a:cubicBezTo>
                <a:cubicBezTo>
                  <a:pt x="14881" y="14757"/>
                  <a:pt x="14889" y="14761"/>
                  <a:pt x="14883" y="14784"/>
                </a:cubicBezTo>
              </a:path>
              <a:path w="6797" h="5855">
                <a:moveTo>
                  <a:pt x="14957" y="14734"/>
                </a:moveTo>
                <a:cubicBezTo>
                  <a:pt x="14974" y="14751"/>
                  <a:pt x="14990" y="14767"/>
                  <a:pt x="15007" y="14784"/>
                </a:cubicBezTo>
              </a:path>
              <a:path w="6797" h="5855">
                <a:moveTo>
                  <a:pt x="15007" y="14784"/>
                </a:moveTo>
                <a:cubicBezTo>
                  <a:pt x="14998" y="14720"/>
                  <a:pt x="14955" y="14661"/>
                  <a:pt x="14883" y="14734"/>
                </a:cubicBezTo>
                <a:cubicBezTo>
                  <a:pt x="14883" y="14742"/>
                  <a:pt x="14883" y="14751"/>
                  <a:pt x="14883" y="14759"/>
                </a:cubicBezTo>
              </a:path>
              <a:path w="6797" h="5855">
                <a:moveTo>
                  <a:pt x="15081" y="15329"/>
                </a:moveTo>
                <a:cubicBezTo>
                  <a:pt x="15067" y="15278"/>
                  <a:pt x="15045" y="15229"/>
                  <a:pt x="15032" y="15180"/>
                </a:cubicBezTo>
                <a:cubicBezTo>
                  <a:pt x="15009" y="15097"/>
                  <a:pt x="14981" y="15015"/>
                  <a:pt x="14957" y="14932"/>
                </a:cubicBezTo>
                <a:cubicBezTo>
                  <a:pt x="14938" y="14868"/>
                  <a:pt x="14924" y="14791"/>
                  <a:pt x="14908" y="14734"/>
                </a:cubicBezTo>
                <a:cubicBezTo>
                  <a:pt x="14883" y="14647"/>
                  <a:pt x="14876" y="14571"/>
                  <a:pt x="14858" y="14486"/>
                </a:cubicBezTo>
                <a:cubicBezTo>
                  <a:pt x="14845" y="14423"/>
                  <a:pt x="14823" y="14334"/>
                  <a:pt x="14808" y="14263"/>
                </a:cubicBezTo>
                <a:cubicBezTo>
                  <a:pt x="14791" y="14181"/>
                  <a:pt x="14754" y="14095"/>
                  <a:pt x="14734" y="14015"/>
                </a:cubicBezTo>
                <a:cubicBezTo>
                  <a:pt x="14715" y="13941"/>
                  <a:pt x="14702" y="13883"/>
                  <a:pt x="14684" y="13816"/>
                </a:cubicBezTo>
                <a:cubicBezTo>
                  <a:pt x="14666" y="13749"/>
                  <a:pt x="14628" y="13677"/>
                  <a:pt x="14610" y="13618"/>
                </a:cubicBezTo>
                <a:cubicBezTo>
                  <a:pt x="14585" y="13540"/>
                  <a:pt x="14559" y="13444"/>
                  <a:pt x="14536" y="13370"/>
                </a:cubicBezTo>
                <a:cubicBezTo>
                  <a:pt x="14513" y="13298"/>
                  <a:pt x="14487" y="13221"/>
                  <a:pt x="14461" y="13146"/>
                </a:cubicBezTo>
                <a:cubicBezTo>
                  <a:pt x="14427" y="13049"/>
                  <a:pt x="14390" y="12938"/>
                  <a:pt x="14362" y="12849"/>
                </a:cubicBezTo>
                <a:cubicBezTo>
                  <a:pt x="14343" y="12788"/>
                  <a:pt x="14332" y="12730"/>
                  <a:pt x="14312" y="12675"/>
                </a:cubicBezTo>
                <a:cubicBezTo>
                  <a:pt x="14281" y="12592"/>
                  <a:pt x="14244" y="12511"/>
                  <a:pt x="14213" y="12427"/>
                </a:cubicBezTo>
                <a:cubicBezTo>
                  <a:pt x="14190" y="12364"/>
                  <a:pt x="14162" y="12294"/>
                  <a:pt x="14139" y="12229"/>
                </a:cubicBezTo>
                <a:cubicBezTo>
                  <a:pt x="14115" y="12160"/>
                  <a:pt x="14090" y="12082"/>
                  <a:pt x="14064" y="12005"/>
                </a:cubicBezTo>
                <a:cubicBezTo>
                  <a:pt x="14040" y="11936"/>
                  <a:pt x="14020" y="11865"/>
                  <a:pt x="13990" y="11807"/>
                </a:cubicBezTo>
                <a:cubicBezTo>
                  <a:pt x="13963" y="11755"/>
                  <a:pt x="13920" y="11709"/>
                  <a:pt x="13891" y="11658"/>
                </a:cubicBezTo>
                <a:cubicBezTo>
                  <a:pt x="13848" y="11583"/>
                  <a:pt x="13804" y="11485"/>
                  <a:pt x="13742" y="11410"/>
                </a:cubicBezTo>
                <a:cubicBezTo>
                  <a:pt x="13535" y="11163"/>
                  <a:pt x="13260" y="10917"/>
                  <a:pt x="12998" y="10740"/>
                </a:cubicBezTo>
                <a:cubicBezTo>
                  <a:pt x="12935" y="10698"/>
                  <a:pt x="12875" y="10670"/>
                  <a:pt x="12824" y="10641"/>
                </a:cubicBezTo>
                <a:cubicBezTo>
                  <a:pt x="12775" y="10614"/>
                  <a:pt x="12732" y="10594"/>
                  <a:pt x="12675" y="10567"/>
                </a:cubicBezTo>
                <a:cubicBezTo>
                  <a:pt x="12619" y="10541"/>
                  <a:pt x="12529" y="10470"/>
                  <a:pt x="12477" y="10443"/>
                </a:cubicBezTo>
                <a:cubicBezTo>
                  <a:pt x="12418" y="10413"/>
                  <a:pt x="12369" y="10376"/>
                  <a:pt x="12303" y="10344"/>
                </a:cubicBezTo>
                <a:cubicBezTo>
                  <a:pt x="12255" y="10321"/>
                  <a:pt x="12185" y="10288"/>
                  <a:pt x="12129" y="10269"/>
                </a:cubicBezTo>
                <a:cubicBezTo>
                  <a:pt x="12068" y="10248"/>
                  <a:pt x="11994" y="10233"/>
                  <a:pt x="11931" y="10220"/>
                </a:cubicBezTo>
                <a:cubicBezTo>
                  <a:pt x="11883" y="10210"/>
                  <a:pt x="11813" y="10207"/>
                  <a:pt x="11757" y="10195"/>
                </a:cubicBezTo>
                <a:cubicBezTo>
                  <a:pt x="11699" y="10182"/>
                  <a:pt x="11585" y="10149"/>
                  <a:pt x="11559" y="10145"/>
                </a:cubicBezTo>
                <a:cubicBezTo>
                  <a:pt x="11480" y="10132"/>
                  <a:pt x="11391" y="10126"/>
                  <a:pt x="11311" y="10120"/>
                </a:cubicBezTo>
                <a:cubicBezTo>
                  <a:pt x="11200" y="10112"/>
                  <a:pt x="11101" y="10086"/>
                  <a:pt x="11013" y="10071"/>
                </a:cubicBezTo>
                <a:cubicBezTo>
                  <a:pt x="10948" y="10060"/>
                  <a:pt x="10879" y="10050"/>
                  <a:pt x="10815" y="10046"/>
                </a:cubicBezTo>
                <a:cubicBezTo>
                  <a:pt x="10678" y="10037"/>
                  <a:pt x="10571" y="10017"/>
                  <a:pt x="10443" y="9996"/>
                </a:cubicBezTo>
                <a:cubicBezTo>
                  <a:pt x="10357" y="9982"/>
                  <a:pt x="10284" y="9977"/>
                  <a:pt x="10195" y="9971"/>
                </a:cubicBezTo>
                <a:cubicBezTo>
                  <a:pt x="10087" y="9964"/>
                  <a:pt x="9982" y="9934"/>
                  <a:pt x="9897" y="9922"/>
                </a:cubicBezTo>
                <a:cubicBezTo>
                  <a:pt x="9793" y="9908"/>
                  <a:pt x="9679" y="9904"/>
                  <a:pt x="9575" y="9897"/>
                </a:cubicBezTo>
                <a:cubicBezTo>
                  <a:pt x="9275" y="9877"/>
                  <a:pt x="8941" y="9892"/>
                  <a:pt x="8657" y="9922"/>
                </a:cubicBezTo>
              </a:path>
              <a:path w="6797" h="5855">
                <a:moveTo>
                  <a:pt x="8806" y="9599"/>
                </a:moveTo>
                <a:cubicBezTo>
                  <a:pt x="8740" y="9608"/>
                  <a:pt x="8706" y="9645"/>
                  <a:pt x="8657" y="9674"/>
                </a:cubicBezTo>
                <a:cubicBezTo>
                  <a:pt x="8627" y="9691"/>
                  <a:pt x="8531" y="9748"/>
                  <a:pt x="8508" y="9773"/>
                </a:cubicBezTo>
                <a:cubicBezTo>
                  <a:pt x="8463" y="9822"/>
                  <a:pt x="8409" y="9822"/>
                  <a:pt x="8384" y="9897"/>
                </a:cubicBezTo>
                <a:cubicBezTo>
                  <a:pt x="8367" y="9948"/>
                  <a:pt x="8472" y="10032"/>
                  <a:pt x="8508" y="10046"/>
                </a:cubicBezTo>
                <a:cubicBezTo>
                  <a:pt x="8581" y="10074"/>
                  <a:pt x="8640" y="10089"/>
                  <a:pt x="8706" y="10145"/>
                </a:cubicBezTo>
                <a:cubicBezTo>
                  <a:pt x="8758" y="10188"/>
                  <a:pt x="8804" y="10225"/>
                  <a:pt x="8855" y="10269"/>
                </a:cubicBezTo>
              </a:path>
              <a:path w="6797" h="5855">
                <a:moveTo>
                  <a:pt x="15056" y="14858"/>
                </a:moveTo>
                <a:cubicBezTo>
                  <a:pt x="15092" y="14894"/>
                  <a:pt x="15122" y="14938"/>
                  <a:pt x="15131" y="14982"/>
                </a:cubicBezTo>
                <a:cubicBezTo>
                  <a:pt x="15145" y="15053"/>
                  <a:pt x="15173" y="15132"/>
                  <a:pt x="15180" y="15205"/>
                </a:cubicBezTo>
                <a:cubicBezTo>
                  <a:pt x="15192" y="15329"/>
                  <a:pt x="15172" y="15374"/>
                  <a:pt x="15056" y="15379"/>
                </a:cubicBezTo>
                <a:cubicBezTo>
                  <a:pt x="14976" y="15382"/>
                  <a:pt x="14925" y="15408"/>
                  <a:pt x="14858" y="15429"/>
                </a:cubicBezTo>
                <a:cubicBezTo>
                  <a:pt x="14773" y="15456"/>
                  <a:pt x="14697" y="15453"/>
                  <a:pt x="14610" y="154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5"/>
          <p:cNvSpPr/>
          <p:nvPr/>
        </p:nvSpPr>
        <p:spPr>
          <a:xfrm>
            <a:off x="5643720" y="1197000"/>
            <a:ext cx="17280" cy="357120"/>
          </a:xfrm>
          <a:custGeom>
            <a:avLst/>
            <a:gdLst/>
            <a:ahLst/>
            <a:rect l="l" t="t" r="r" b="b"/>
            <a:pathLst>
              <a:path w="50" h="993">
                <a:moveTo>
                  <a:pt x="15726" y="3324"/>
                </a:moveTo>
                <a:cubicBezTo>
                  <a:pt x="15693" y="3379"/>
                  <a:pt x="15701" y="3429"/>
                  <a:pt x="15701" y="3497"/>
                </a:cubicBezTo>
                <a:cubicBezTo>
                  <a:pt x="15701" y="3563"/>
                  <a:pt x="15689" y="3609"/>
                  <a:pt x="15677" y="3671"/>
                </a:cubicBezTo>
              </a:path>
              <a:path w="50" h="993">
                <a:moveTo>
                  <a:pt x="15677" y="3944"/>
                </a:moveTo>
                <a:cubicBezTo>
                  <a:pt x="15677" y="4018"/>
                  <a:pt x="15690" y="4074"/>
                  <a:pt x="15701" y="4142"/>
                </a:cubicBezTo>
                <a:cubicBezTo>
                  <a:pt x="15710" y="4195"/>
                  <a:pt x="15701" y="4263"/>
                  <a:pt x="15701" y="43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6"/>
          <p:cNvSpPr/>
          <p:nvPr/>
        </p:nvSpPr>
        <p:spPr>
          <a:xfrm>
            <a:off x="5634000" y="1724040"/>
            <a:ext cx="19080" cy="544320"/>
          </a:xfrm>
          <a:custGeom>
            <a:avLst/>
            <a:gdLst/>
            <a:ahLst/>
            <a:rect l="l" t="t" r="r" b="b"/>
            <a:pathLst>
              <a:path w="50" h="1514">
                <a:moveTo>
                  <a:pt x="15677" y="4787"/>
                </a:moveTo>
                <a:cubicBezTo>
                  <a:pt x="15700" y="4876"/>
                  <a:pt x="15701" y="4943"/>
                  <a:pt x="15701" y="5035"/>
                </a:cubicBezTo>
                <a:cubicBezTo>
                  <a:pt x="15701" y="5117"/>
                  <a:pt x="15688" y="5179"/>
                  <a:pt x="15677" y="5259"/>
                </a:cubicBezTo>
                <a:cubicBezTo>
                  <a:pt x="15677" y="5275"/>
                  <a:pt x="15677" y="5292"/>
                  <a:pt x="15677" y="5308"/>
                </a:cubicBezTo>
              </a:path>
              <a:path w="50" h="1514">
                <a:moveTo>
                  <a:pt x="15701" y="5730"/>
                </a:moveTo>
                <a:cubicBezTo>
                  <a:pt x="15671" y="5813"/>
                  <a:pt x="15677" y="5888"/>
                  <a:pt x="15677" y="5978"/>
                </a:cubicBezTo>
                <a:cubicBezTo>
                  <a:pt x="15677" y="6086"/>
                  <a:pt x="15695" y="6201"/>
                  <a:pt x="15652" y="63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7"/>
          <p:cNvSpPr/>
          <p:nvPr/>
        </p:nvSpPr>
        <p:spPr>
          <a:xfrm>
            <a:off x="5616720" y="2446200"/>
            <a:ext cx="19080" cy="196920"/>
          </a:xfrm>
          <a:custGeom>
            <a:avLst/>
            <a:gdLst/>
            <a:ahLst/>
            <a:rect l="l" t="t" r="r" b="b"/>
            <a:pathLst>
              <a:path w="51" h="547">
                <a:moveTo>
                  <a:pt x="15652" y="6796"/>
                </a:moveTo>
                <a:cubicBezTo>
                  <a:pt x="15645" y="6885"/>
                  <a:pt x="15627" y="6932"/>
                  <a:pt x="15627" y="7020"/>
                </a:cubicBezTo>
                <a:cubicBezTo>
                  <a:pt x="15627" y="7118"/>
                  <a:pt x="15616" y="7198"/>
                  <a:pt x="15602" y="7293"/>
                </a:cubicBezTo>
                <a:cubicBezTo>
                  <a:pt x="15602" y="7309"/>
                  <a:pt x="15602" y="7326"/>
                  <a:pt x="15602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8"/>
          <p:cNvSpPr/>
          <p:nvPr/>
        </p:nvSpPr>
        <p:spPr>
          <a:xfrm>
            <a:off x="5607000" y="2830680"/>
            <a:ext cx="9720" cy="258480"/>
          </a:xfrm>
          <a:custGeom>
            <a:avLst/>
            <a:gdLst/>
            <a:ahLst/>
            <a:rect l="l" t="t" r="r" b="b"/>
            <a:pathLst>
              <a:path w="26" h="720">
                <a:moveTo>
                  <a:pt x="15602" y="7863"/>
                </a:moveTo>
                <a:cubicBezTo>
                  <a:pt x="15602" y="8095"/>
                  <a:pt x="15617" y="8332"/>
                  <a:pt x="15577" y="8558"/>
                </a:cubicBezTo>
                <a:cubicBezTo>
                  <a:pt x="15577" y="8566"/>
                  <a:pt x="15577" y="8574"/>
                  <a:pt x="15577" y="85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9"/>
          <p:cNvSpPr/>
          <p:nvPr/>
        </p:nvSpPr>
        <p:spPr>
          <a:xfrm>
            <a:off x="5616720" y="3268800"/>
            <a:ext cx="9360" cy="152280"/>
          </a:xfrm>
          <a:custGeom>
            <a:avLst/>
            <a:gdLst/>
            <a:ahLst/>
            <a:rect l="l" t="t" r="r" b="b"/>
            <a:pathLst>
              <a:path w="26" h="422">
                <a:moveTo>
                  <a:pt x="15602" y="9079"/>
                </a:moveTo>
                <a:cubicBezTo>
                  <a:pt x="15610" y="9160"/>
                  <a:pt x="15627" y="9216"/>
                  <a:pt x="15627" y="9302"/>
                </a:cubicBezTo>
                <a:cubicBezTo>
                  <a:pt x="15627" y="9378"/>
                  <a:pt x="15621" y="9413"/>
                  <a:pt x="15602" y="9475"/>
                </a:cubicBezTo>
                <a:cubicBezTo>
                  <a:pt x="15602" y="9483"/>
                  <a:pt x="15602" y="9492"/>
                  <a:pt x="15602" y="95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10"/>
          <p:cNvSpPr/>
          <p:nvPr/>
        </p:nvSpPr>
        <p:spPr>
          <a:xfrm>
            <a:off x="5607000" y="3589200"/>
            <a:ext cx="97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5577" y="9971"/>
                </a:moveTo>
                <a:cubicBezTo>
                  <a:pt x="15577" y="10108"/>
                  <a:pt x="15579" y="10247"/>
                  <a:pt x="15602" y="10368"/>
                </a:cubicBezTo>
                <a:cubicBezTo>
                  <a:pt x="15602" y="10385"/>
                  <a:pt x="15602" y="10401"/>
                  <a:pt x="15602" y="10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1"/>
          <p:cNvSpPr/>
          <p:nvPr/>
        </p:nvSpPr>
        <p:spPr>
          <a:xfrm>
            <a:off x="5634000" y="3963960"/>
            <a:ext cx="36720" cy="385920"/>
          </a:xfrm>
          <a:custGeom>
            <a:avLst/>
            <a:gdLst/>
            <a:ahLst/>
            <a:rect l="l" t="t" r="r" b="b"/>
            <a:pathLst>
              <a:path w="100" h="1068">
                <a:moveTo>
                  <a:pt x="15652" y="11013"/>
                </a:moveTo>
                <a:cubicBezTo>
                  <a:pt x="15652" y="11094"/>
                  <a:pt x="15673" y="11134"/>
                  <a:pt x="15677" y="11212"/>
                </a:cubicBezTo>
                <a:cubicBezTo>
                  <a:pt x="15677" y="11263"/>
                  <a:pt x="15678" y="11281"/>
                  <a:pt x="15701" y="11311"/>
                </a:cubicBezTo>
              </a:path>
              <a:path w="100" h="1068">
                <a:moveTo>
                  <a:pt x="15726" y="11757"/>
                </a:moveTo>
                <a:cubicBezTo>
                  <a:pt x="15714" y="11825"/>
                  <a:pt x="15705" y="11908"/>
                  <a:pt x="15726" y="11981"/>
                </a:cubicBezTo>
                <a:cubicBezTo>
                  <a:pt x="15750" y="12029"/>
                  <a:pt x="15759" y="12043"/>
                  <a:pt x="15751" y="120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2"/>
          <p:cNvSpPr/>
          <p:nvPr/>
        </p:nvSpPr>
        <p:spPr>
          <a:xfrm>
            <a:off x="5616720" y="4554360"/>
            <a:ext cx="71280" cy="928800"/>
          </a:xfrm>
          <a:custGeom>
            <a:avLst/>
            <a:gdLst/>
            <a:ahLst/>
            <a:rect l="l" t="t" r="r" b="b"/>
            <a:pathLst>
              <a:path w="200" h="2581">
                <a:moveTo>
                  <a:pt x="15776" y="12650"/>
                </a:moveTo>
                <a:cubicBezTo>
                  <a:pt x="15776" y="12754"/>
                  <a:pt x="15782" y="12828"/>
                  <a:pt x="15801" y="12923"/>
                </a:cubicBezTo>
              </a:path>
              <a:path w="200" h="2581">
                <a:moveTo>
                  <a:pt x="15776" y="13320"/>
                </a:moveTo>
                <a:cubicBezTo>
                  <a:pt x="15751" y="13419"/>
                  <a:pt x="15763" y="13455"/>
                  <a:pt x="15776" y="13543"/>
                </a:cubicBezTo>
              </a:path>
              <a:path w="200" h="2581">
                <a:moveTo>
                  <a:pt x="15726" y="13915"/>
                </a:moveTo>
                <a:cubicBezTo>
                  <a:pt x="15710" y="14046"/>
                  <a:pt x="15719" y="14110"/>
                  <a:pt x="15751" y="14238"/>
                </a:cubicBezTo>
              </a:path>
              <a:path w="200" h="2581">
                <a:moveTo>
                  <a:pt x="15677" y="14560"/>
                </a:moveTo>
                <a:cubicBezTo>
                  <a:pt x="15656" y="14645"/>
                  <a:pt x="15632" y="14710"/>
                  <a:pt x="15677" y="14784"/>
                </a:cubicBezTo>
              </a:path>
              <a:path w="200" h="2581">
                <a:moveTo>
                  <a:pt x="15627" y="15056"/>
                </a:moveTo>
                <a:cubicBezTo>
                  <a:pt x="15611" y="15167"/>
                  <a:pt x="15609" y="15141"/>
                  <a:pt x="15627" y="152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3"/>
          <p:cNvSpPr/>
          <p:nvPr/>
        </p:nvSpPr>
        <p:spPr>
          <a:xfrm>
            <a:off x="1874880" y="5456160"/>
            <a:ext cx="1440" cy="36720"/>
          </a:xfrm>
          <a:custGeom>
            <a:avLst/>
            <a:gdLst/>
            <a:ahLst/>
            <a:rect l="l" t="t" r="r" b="b"/>
            <a:pathLst>
              <a:path w="1" h="100">
                <a:moveTo>
                  <a:pt x="5209" y="15156"/>
                </a:moveTo>
                <a:cubicBezTo>
                  <a:pt x="5209" y="15189"/>
                  <a:pt x="5209" y="15222"/>
                  <a:pt x="5209" y="152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4"/>
          <p:cNvSpPr/>
          <p:nvPr/>
        </p:nvSpPr>
        <p:spPr>
          <a:xfrm>
            <a:off x="2536920" y="3348000"/>
            <a:ext cx="142920" cy="9720"/>
          </a:xfrm>
          <a:custGeom>
            <a:avLst/>
            <a:gdLst/>
            <a:ahLst/>
            <a:rect l="l" t="t" r="r" b="b"/>
            <a:pathLst>
              <a:path w="397" h="26">
                <a:moveTo>
                  <a:pt x="7441" y="9302"/>
                </a:moveTo>
                <a:cubicBezTo>
                  <a:pt x="7300" y="9317"/>
                  <a:pt x="7183" y="9327"/>
                  <a:pt x="7045" y="93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5"/>
          <p:cNvSpPr/>
          <p:nvPr/>
        </p:nvSpPr>
        <p:spPr>
          <a:xfrm>
            <a:off x="2840040" y="332100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8285" y="9227"/>
                </a:moveTo>
                <a:cubicBezTo>
                  <a:pt x="8145" y="9248"/>
                  <a:pt x="8029" y="9252"/>
                  <a:pt x="7888" y="92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16"/>
          <p:cNvSpPr/>
          <p:nvPr/>
        </p:nvSpPr>
        <p:spPr>
          <a:xfrm>
            <a:off x="3152880" y="3321000"/>
            <a:ext cx="982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9029" y="9227"/>
                </a:moveTo>
                <a:cubicBezTo>
                  <a:pt x="8938" y="9227"/>
                  <a:pt x="8847" y="9227"/>
                  <a:pt x="8756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17"/>
          <p:cNvSpPr/>
          <p:nvPr/>
        </p:nvSpPr>
        <p:spPr>
          <a:xfrm>
            <a:off x="3411360" y="3321000"/>
            <a:ext cx="142920" cy="1800"/>
          </a:xfrm>
          <a:custGeom>
            <a:avLst/>
            <a:gdLst/>
            <a:ahLst/>
            <a:rect l="l" t="t" r="r" b="b"/>
            <a:pathLst>
              <a:path w="398" h="1">
                <a:moveTo>
                  <a:pt x="9872" y="9227"/>
                </a:moveTo>
                <a:cubicBezTo>
                  <a:pt x="9740" y="9227"/>
                  <a:pt x="9607" y="9227"/>
                  <a:pt x="9475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8"/>
          <p:cNvSpPr/>
          <p:nvPr/>
        </p:nvSpPr>
        <p:spPr>
          <a:xfrm>
            <a:off x="3697200" y="3321000"/>
            <a:ext cx="81000" cy="1800"/>
          </a:xfrm>
          <a:custGeom>
            <a:avLst/>
            <a:gdLst/>
            <a:ahLst/>
            <a:rect l="l" t="t" r="r" b="b"/>
            <a:pathLst>
              <a:path w="224" h="1">
                <a:moveTo>
                  <a:pt x="10492" y="9227"/>
                </a:moveTo>
                <a:cubicBezTo>
                  <a:pt x="10418" y="9227"/>
                  <a:pt x="10343" y="9227"/>
                  <a:pt x="10269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9"/>
          <p:cNvSpPr/>
          <p:nvPr/>
        </p:nvSpPr>
        <p:spPr>
          <a:xfrm>
            <a:off x="3983040" y="3348000"/>
            <a:ext cx="5400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1212" y="9302"/>
                </a:moveTo>
                <a:cubicBezTo>
                  <a:pt x="11129" y="9302"/>
                  <a:pt x="11113" y="9302"/>
                  <a:pt x="11063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20"/>
          <p:cNvSpPr/>
          <p:nvPr/>
        </p:nvSpPr>
        <p:spPr>
          <a:xfrm>
            <a:off x="4205160" y="3348000"/>
            <a:ext cx="1000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11956" y="9302"/>
                </a:moveTo>
                <a:cubicBezTo>
                  <a:pt x="11865" y="9302"/>
                  <a:pt x="11774" y="9302"/>
                  <a:pt x="11683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21"/>
          <p:cNvSpPr/>
          <p:nvPr/>
        </p:nvSpPr>
        <p:spPr>
          <a:xfrm>
            <a:off x="4446720" y="334800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12502" y="9327"/>
                </a:moveTo>
                <a:cubicBezTo>
                  <a:pt x="12448" y="9320"/>
                  <a:pt x="12407" y="9309"/>
                  <a:pt x="12353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22"/>
          <p:cNvSpPr/>
          <p:nvPr/>
        </p:nvSpPr>
        <p:spPr>
          <a:xfrm>
            <a:off x="4633920" y="3321000"/>
            <a:ext cx="196920" cy="9720"/>
          </a:xfrm>
          <a:custGeom>
            <a:avLst/>
            <a:gdLst/>
            <a:ahLst/>
            <a:rect l="l" t="t" r="r" b="b"/>
            <a:pathLst>
              <a:path w="546" h="26">
                <a:moveTo>
                  <a:pt x="12874" y="9227"/>
                </a:moveTo>
                <a:cubicBezTo>
                  <a:pt x="13044" y="9227"/>
                  <a:pt x="13205" y="9229"/>
                  <a:pt x="13370" y="9252"/>
                </a:cubicBezTo>
                <a:cubicBezTo>
                  <a:pt x="13386" y="9252"/>
                  <a:pt x="13403" y="9252"/>
                  <a:pt x="13419" y="92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23"/>
          <p:cNvSpPr/>
          <p:nvPr/>
        </p:nvSpPr>
        <p:spPr>
          <a:xfrm>
            <a:off x="4983120" y="3295800"/>
            <a:ext cx="12528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3841" y="9153"/>
                </a:moveTo>
                <a:cubicBezTo>
                  <a:pt x="13957" y="9153"/>
                  <a:pt x="14072" y="9153"/>
                  <a:pt x="14188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24"/>
          <p:cNvSpPr/>
          <p:nvPr/>
        </p:nvSpPr>
        <p:spPr>
          <a:xfrm>
            <a:off x="5295960" y="3295800"/>
            <a:ext cx="792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4709" y="9153"/>
                </a:moveTo>
                <a:cubicBezTo>
                  <a:pt x="14796" y="9169"/>
                  <a:pt x="14849" y="9178"/>
                  <a:pt x="14932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25"/>
          <p:cNvSpPr/>
          <p:nvPr/>
        </p:nvSpPr>
        <p:spPr>
          <a:xfrm>
            <a:off x="5572080" y="3321000"/>
            <a:ext cx="10800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15478" y="9227"/>
                </a:moveTo>
                <a:cubicBezTo>
                  <a:pt x="15577" y="9227"/>
                  <a:pt x="15677" y="9227"/>
                  <a:pt x="15776" y="92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26"/>
          <p:cNvSpPr/>
          <p:nvPr/>
        </p:nvSpPr>
        <p:spPr>
          <a:xfrm>
            <a:off x="5840280" y="3303720"/>
            <a:ext cx="106560" cy="19080"/>
          </a:xfrm>
          <a:custGeom>
            <a:avLst/>
            <a:gdLst/>
            <a:ahLst/>
            <a:rect l="l" t="t" r="r" b="b"/>
            <a:pathLst>
              <a:path w="299" h="50">
                <a:moveTo>
                  <a:pt x="16222" y="9227"/>
                </a:moveTo>
                <a:cubicBezTo>
                  <a:pt x="16353" y="9227"/>
                  <a:pt x="16400" y="9229"/>
                  <a:pt x="16520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27"/>
          <p:cNvSpPr/>
          <p:nvPr/>
        </p:nvSpPr>
        <p:spPr>
          <a:xfrm>
            <a:off x="6081840" y="3303720"/>
            <a:ext cx="339480" cy="46080"/>
          </a:xfrm>
          <a:custGeom>
            <a:avLst/>
            <a:gdLst/>
            <a:ahLst/>
            <a:rect l="l" t="t" r="r" b="b"/>
            <a:pathLst>
              <a:path w="944" h="125">
                <a:moveTo>
                  <a:pt x="16892" y="9178"/>
                </a:moveTo>
                <a:cubicBezTo>
                  <a:pt x="16996" y="9222"/>
                  <a:pt x="17032" y="9227"/>
                  <a:pt x="17140" y="9227"/>
                </a:cubicBezTo>
                <a:cubicBezTo>
                  <a:pt x="17157" y="9227"/>
                  <a:pt x="17173" y="9227"/>
                  <a:pt x="17190" y="9227"/>
                </a:cubicBezTo>
              </a:path>
              <a:path w="944" h="125">
                <a:moveTo>
                  <a:pt x="17413" y="9227"/>
                </a:moveTo>
                <a:cubicBezTo>
                  <a:pt x="17517" y="9227"/>
                  <a:pt x="17639" y="9209"/>
                  <a:pt x="17735" y="9252"/>
                </a:cubicBezTo>
                <a:cubicBezTo>
                  <a:pt x="17768" y="9269"/>
                  <a:pt x="17802" y="9285"/>
                  <a:pt x="17835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28"/>
          <p:cNvSpPr/>
          <p:nvPr/>
        </p:nvSpPr>
        <p:spPr>
          <a:xfrm>
            <a:off x="6572160" y="3348000"/>
            <a:ext cx="15264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18256" y="9376"/>
                </a:moveTo>
                <a:cubicBezTo>
                  <a:pt x="18345" y="9376"/>
                  <a:pt x="18371" y="9383"/>
                  <a:pt x="18405" y="9327"/>
                </a:cubicBezTo>
              </a:path>
              <a:path w="423" h="75">
                <a:moveTo>
                  <a:pt x="18604" y="9302"/>
                </a:moveTo>
                <a:cubicBezTo>
                  <a:pt x="18629" y="9302"/>
                  <a:pt x="18653" y="9302"/>
                  <a:pt x="18678" y="9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29"/>
          <p:cNvSpPr/>
          <p:nvPr/>
        </p:nvSpPr>
        <p:spPr>
          <a:xfrm>
            <a:off x="5072040" y="433080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4213" y="12030"/>
                </a:moveTo>
                <a:cubicBezTo>
                  <a:pt x="14213" y="12047"/>
                  <a:pt x="14213" y="12063"/>
                  <a:pt x="14213" y="12080"/>
                </a:cubicBezTo>
              </a:path>
              <a:path w="150" h="100">
                <a:moveTo>
                  <a:pt x="14213" y="12030"/>
                </a:moveTo>
                <a:cubicBezTo>
                  <a:pt x="14221" y="12030"/>
                  <a:pt x="14230" y="12030"/>
                  <a:pt x="14238" y="12030"/>
                </a:cubicBezTo>
              </a:path>
              <a:path w="150" h="100">
                <a:moveTo>
                  <a:pt x="14238" y="12030"/>
                </a:moveTo>
                <a:cubicBezTo>
                  <a:pt x="14149" y="12030"/>
                  <a:pt x="14127" y="12015"/>
                  <a:pt x="14114" y="12105"/>
                </a:cubicBezTo>
                <a:cubicBezTo>
                  <a:pt x="14155" y="12129"/>
                  <a:pt x="14245" y="12129"/>
                  <a:pt x="14238" y="12055"/>
                </a:cubicBezTo>
                <a:cubicBezTo>
                  <a:pt x="14232" y="11991"/>
                  <a:pt x="14109" y="12043"/>
                  <a:pt x="14089" y="12055"/>
                </a:cubicBezTo>
                <a:cubicBezTo>
                  <a:pt x="14103" y="12069"/>
                  <a:pt x="14213" y="12161"/>
                  <a:pt x="14213" y="12080"/>
                </a:cubicBezTo>
                <a:cubicBezTo>
                  <a:pt x="14190" y="12057"/>
                  <a:pt x="14186" y="12049"/>
                  <a:pt x="14163" y="120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30"/>
          <p:cNvSpPr/>
          <p:nvPr/>
        </p:nvSpPr>
        <p:spPr>
          <a:xfrm>
            <a:off x="5688000" y="1062000"/>
            <a:ext cx="1339920" cy="1992240"/>
          </a:xfrm>
          <a:custGeom>
            <a:avLst/>
            <a:gdLst/>
            <a:ahLst/>
            <a:rect l="l" t="t" r="r" b="b"/>
            <a:pathLst>
              <a:path w="3721" h="5532">
                <a:moveTo>
                  <a:pt x="16346" y="3770"/>
                </a:moveTo>
                <a:cubicBezTo>
                  <a:pt x="16326" y="3877"/>
                  <a:pt x="16330" y="3893"/>
                  <a:pt x="16421" y="3820"/>
                </a:cubicBezTo>
                <a:cubicBezTo>
                  <a:pt x="16449" y="3792"/>
                  <a:pt x="16458" y="3779"/>
                  <a:pt x="16446" y="3746"/>
                </a:cubicBezTo>
                <a:cubicBezTo>
                  <a:pt x="16371" y="3804"/>
                  <a:pt x="16347" y="3799"/>
                  <a:pt x="16371" y="3894"/>
                </a:cubicBezTo>
                <a:cubicBezTo>
                  <a:pt x="16426" y="3886"/>
                  <a:pt x="16488" y="3873"/>
                  <a:pt x="16470" y="3795"/>
                </a:cubicBezTo>
                <a:cubicBezTo>
                  <a:pt x="16462" y="3779"/>
                  <a:pt x="16454" y="3762"/>
                  <a:pt x="16446" y="3746"/>
                </a:cubicBezTo>
                <a:cubicBezTo>
                  <a:pt x="16415" y="3763"/>
                  <a:pt x="16333" y="3804"/>
                  <a:pt x="16321" y="3845"/>
                </a:cubicBezTo>
                <a:cubicBezTo>
                  <a:pt x="16301" y="3914"/>
                  <a:pt x="16398" y="3956"/>
                  <a:pt x="16446" y="3919"/>
                </a:cubicBezTo>
                <a:cubicBezTo>
                  <a:pt x="16499" y="3878"/>
                  <a:pt x="16505" y="3791"/>
                  <a:pt x="16470" y="3746"/>
                </a:cubicBezTo>
                <a:cubicBezTo>
                  <a:pt x="16462" y="3738"/>
                  <a:pt x="16454" y="3729"/>
                  <a:pt x="16446" y="3721"/>
                </a:cubicBezTo>
                <a:cubicBezTo>
                  <a:pt x="16398" y="3740"/>
                  <a:pt x="16321" y="3763"/>
                  <a:pt x="16297" y="3820"/>
                </a:cubicBezTo>
                <a:cubicBezTo>
                  <a:pt x="16297" y="3828"/>
                  <a:pt x="16297" y="3837"/>
                  <a:pt x="16297" y="3845"/>
                </a:cubicBezTo>
              </a:path>
              <a:path w="3721" h="5532">
                <a:moveTo>
                  <a:pt x="17115" y="6598"/>
                </a:moveTo>
                <a:cubicBezTo>
                  <a:pt x="17163" y="6655"/>
                  <a:pt x="17148" y="6664"/>
                  <a:pt x="17214" y="6623"/>
                </a:cubicBezTo>
                <a:cubicBezTo>
                  <a:pt x="17257" y="6538"/>
                  <a:pt x="17160" y="6592"/>
                  <a:pt x="17115" y="6623"/>
                </a:cubicBezTo>
                <a:cubicBezTo>
                  <a:pt x="17107" y="6631"/>
                  <a:pt x="17098" y="6640"/>
                  <a:pt x="17090" y="6648"/>
                </a:cubicBezTo>
                <a:cubicBezTo>
                  <a:pt x="17137" y="6648"/>
                  <a:pt x="17221" y="6662"/>
                  <a:pt x="17239" y="6598"/>
                </a:cubicBezTo>
                <a:cubicBezTo>
                  <a:pt x="17265" y="6506"/>
                  <a:pt x="17234" y="6488"/>
                  <a:pt x="17165" y="6524"/>
                </a:cubicBezTo>
                <a:cubicBezTo>
                  <a:pt x="17102" y="6557"/>
                  <a:pt x="17089" y="6546"/>
                  <a:pt x="17115" y="6598"/>
                </a:cubicBezTo>
                <a:cubicBezTo>
                  <a:pt x="17184" y="6588"/>
                  <a:pt x="17212" y="6546"/>
                  <a:pt x="17140" y="6573"/>
                </a:cubicBezTo>
                <a:cubicBezTo>
                  <a:pt x="17115" y="6581"/>
                  <a:pt x="17091" y="6590"/>
                  <a:pt x="17066" y="6598"/>
                </a:cubicBezTo>
              </a:path>
              <a:path w="3721" h="5532">
                <a:moveTo>
                  <a:pt x="17884" y="7516"/>
                </a:moveTo>
                <a:cubicBezTo>
                  <a:pt x="17884" y="7568"/>
                  <a:pt x="17866" y="7671"/>
                  <a:pt x="17959" y="7640"/>
                </a:cubicBezTo>
                <a:cubicBezTo>
                  <a:pt x="17983" y="7615"/>
                  <a:pt x="17991" y="7606"/>
                  <a:pt x="18008" y="7590"/>
                </a:cubicBezTo>
                <a:cubicBezTo>
                  <a:pt x="17954" y="7536"/>
                  <a:pt x="17976" y="7537"/>
                  <a:pt x="17909" y="7590"/>
                </a:cubicBezTo>
                <a:cubicBezTo>
                  <a:pt x="17938" y="7605"/>
                  <a:pt x="18063" y="7586"/>
                  <a:pt x="17959" y="7541"/>
                </a:cubicBezTo>
                <a:cubicBezTo>
                  <a:pt x="17951" y="7541"/>
                  <a:pt x="17942" y="7541"/>
                  <a:pt x="17934" y="7541"/>
                </a:cubicBezTo>
              </a:path>
              <a:path w="3721" h="5532">
                <a:moveTo>
                  <a:pt x="16222" y="3026"/>
                </a:moveTo>
                <a:cubicBezTo>
                  <a:pt x="16213" y="3077"/>
                  <a:pt x="16176" y="3156"/>
                  <a:pt x="16173" y="3200"/>
                </a:cubicBezTo>
                <a:cubicBezTo>
                  <a:pt x="16164" y="3319"/>
                  <a:pt x="16191" y="3436"/>
                  <a:pt x="16197" y="3547"/>
                </a:cubicBezTo>
                <a:cubicBezTo>
                  <a:pt x="16201" y="3625"/>
                  <a:pt x="16213" y="3707"/>
                  <a:pt x="16222" y="3770"/>
                </a:cubicBezTo>
                <a:cubicBezTo>
                  <a:pt x="16232" y="3839"/>
                  <a:pt x="16229" y="3928"/>
                  <a:pt x="16247" y="3994"/>
                </a:cubicBezTo>
                <a:cubicBezTo>
                  <a:pt x="16261" y="4045"/>
                  <a:pt x="16283" y="4108"/>
                  <a:pt x="16297" y="4167"/>
                </a:cubicBezTo>
                <a:cubicBezTo>
                  <a:pt x="16316" y="4248"/>
                  <a:pt x="16323" y="4339"/>
                  <a:pt x="16346" y="4415"/>
                </a:cubicBezTo>
                <a:cubicBezTo>
                  <a:pt x="16366" y="4481"/>
                  <a:pt x="16406" y="4555"/>
                  <a:pt x="16421" y="4614"/>
                </a:cubicBezTo>
                <a:cubicBezTo>
                  <a:pt x="16436" y="4673"/>
                  <a:pt x="16435" y="4730"/>
                  <a:pt x="16446" y="4787"/>
                </a:cubicBezTo>
                <a:cubicBezTo>
                  <a:pt x="16459" y="4851"/>
                  <a:pt x="16473" y="4896"/>
                  <a:pt x="16495" y="4961"/>
                </a:cubicBezTo>
                <a:cubicBezTo>
                  <a:pt x="16520" y="5034"/>
                  <a:pt x="16530" y="5091"/>
                  <a:pt x="16545" y="5159"/>
                </a:cubicBezTo>
                <a:cubicBezTo>
                  <a:pt x="16558" y="5217"/>
                  <a:pt x="16576" y="5296"/>
                  <a:pt x="16594" y="5358"/>
                </a:cubicBezTo>
                <a:cubicBezTo>
                  <a:pt x="16619" y="5446"/>
                  <a:pt x="16661" y="5555"/>
                  <a:pt x="16694" y="5631"/>
                </a:cubicBezTo>
                <a:cubicBezTo>
                  <a:pt x="16746" y="5751"/>
                  <a:pt x="16805" y="5886"/>
                  <a:pt x="16867" y="6003"/>
                </a:cubicBezTo>
                <a:cubicBezTo>
                  <a:pt x="16892" y="6049"/>
                  <a:pt x="16914" y="6080"/>
                  <a:pt x="16942" y="6127"/>
                </a:cubicBezTo>
                <a:cubicBezTo>
                  <a:pt x="16976" y="6185"/>
                  <a:pt x="17007" y="6242"/>
                  <a:pt x="17041" y="6300"/>
                </a:cubicBezTo>
                <a:cubicBezTo>
                  <a:pt x="17075" y="6357"/>
                  <a:pt x="17102" y="6417"/>
                  <a:pt x="17140" y="6474"/>
                </a:cubicBezTo>
                <a:cubicBezTo>
                  <a:pt x="17169" y="6517"/>
                  <a:pt x="17210" y="6554"/>
                  <a:pt x="17239" y="6598"/>
                </a:cubicBezTo>
                <a:cubicBezTo>
                  <a:pt x="17281" y="6663"/>
                  <a:pt x="17321" y="6733"/>
                  <a:pt x="17363" y="6796"/>
                </a:cubicBezTo>
                <a:cubicBezTo>
                  <a:pt x="17396" y="6846"/>
                  <a:pt x="17430" y="6894"/>
                  <a:pt x="17462" y="6945"/>
                </a:cubicBezTo>
                <a:cubicBezTo>
                  <a:pt x="17494" y="6997"/>
                  <a:pt x="17531" y="7044"/>
                  <a:pt x="17562" y="7094"/>
                </a:cubicBezTo>
                <a:cubicBezTo>
                  <a:pt x="17594" y="7146"/>
                  <a:pt x="17622" y="7196"/>
                  <a:pt x="17661" y="7243"/>
                </a:cubicBezTo>
                <a:cubicBezTo>
                  <a:pt x="17763" y="7368"/>
                  <a:pt x="17892" y="7488"/>
                  <a:pt x="18008" y="7590"/>
                </a:cubicBezTo>
                <a:cubicBezTo>
                  <a:pt x="18081" y="7655"/>
                  <a:pt x="18148" y="7691"/>
                  <a:pt x="18231" y="7739"/>
                </a:cubicBezTo>
                <a:cubicBezTo>
                  <a:pt x="18281" y="7768"/>
                  <a:pt x="18334" y="7805"/>
                  <a:pt x="18380" y="7838"/>
                </a:cubicBezTo>
                <a:cubicBezTo>
                  <a:pt x="18439" y="7880"/>
                  <a:pt x="18503" y="7907"/>
                  <a:pt x="18554" y="7938"/>
                </a:cubicBezTo>
                <a:cubicBezTo>
                  <a:pt x="18605" y="7969"/>
                  <a:pt x="18651" y="8006"/>
                  <a:pt x="18703" y="8037"/>
                </a:cubicBezTo>
                <a:cubicBezTo>
                  <a:pt x="18761" y="8071"/>
                  <a:pt x="18815" y="8106"/>
                  <a:pt x="18876" y="8136"/>
                </a:cubicBezTo>
                <a:cubicBezTo>
                  <a:pt x="18926" y="8161"/>
                  <a:pt x="18992" y="8180"/>
                  <a:pt x="19050" y="8210"/>
                </a:cubicBezTo>
                <a:cubicBezTo>
                  <a:pt x="19099" y="8235"/>
                  <a:pt x="19143" y="8261"/>
                  <a:pt x="19199" y="8285"/>
                </a:cubicBezTo>
                <a:cubicBezTo>
                  <a:pt x="19261" y="8311"/>
                  <a:pt x="19327" y="8321"/>
                  <a:pt x="19397" y="8334"/>
                </a:cubicBezTo>
                <a:cubicBezTo>
                  <a:pt x="19429" y="8340"/>
                  <a:pt x="19464" y="8332"/>
                  <a:pt x="19496" y="8334"/>
                </a:cubicBezTo>
              </a:path>
              <a:path w="3721" h="5532">
                <a:moveTo>
                  <a:pt x="19100" y="7813"/>
                </a:moveTo>
                <a:cubicBezTo>
                  <a:pt x="19153" y="7867"/>
                  <a:pt x="19211" y="7921"/>
                  <a:pt x="19273" y="7962"/>
                </a:cubicBezTo>
                <a:cubicBezTo>
                  <a:pt x="19348" y="8012"/>
                  <a:pt x="19408" y="8071"/>
                  <a:pt x="19472" y="8136"/>
                </a:cubicBezTo>
                <a:cubicBezTo>
                  <a:pt x="19554" y="8219"/>
                  <a:pt x="19510" y="8244"/>
                  <a:pt x="19472" y="8334"/>
                </a:cubicBezTo>
                <a:cubicBezTo>
                  <a:pt x="19466" y="8348"/>
                  <a:pt x="19388" y="8493"/>
                  <a:pt x="19348" y="8483"/>
                </a:cubicBezTo>
                <a:cubicBezTo>
                  <a:pt x="19340" y="8467"/>
                  <a:pt x="19331" y="8450"/>
                  <a:pt x="19323" y="8434"/>
                </a:cubicBezTo>
              </a:path>
              <a:path w="3721" h="5532">
                <a:moveTo>
                  <a:pt x="15801" y="3473"/>
                </a:moveTo>
                <a:cubicBezTo>
                  <a:pt x="15840" y="3433"/>
                  <a:pt x="15863" y="3389"/>
                  <a:pt x="15900" y="3349"/>
                </a:cubicBezTo>
                <a:cubicBezTo>
                  <a:pt x="15954" y="3291"/>
                  <a:pt x="15993" y="3232"/>
                  <a:pt x="16049" y="3175"/>
                </a:cubicBezTo>
                <a:cubicBezTo>
                  <a:pt x="16110" y="3114"/>
                  <a:pt x="16126" y="3046"/>
                  <a:pt x="16173" y="2977"/>
                </a:cubicBezTo>
                <a:cubicBezTo>
                  <a:pt x="16181" y="2969"/>
                  <a:pt x="16189" y="2960"/>
                  <a:pt x="16197" y="2952"/>
                </a:cubicBezTo>
                <a:cubicBezTo>
                  <a:pt x="16274" y="3003"/>
                  <a:pt x="16365" y="3025"/>
                  <a:pt x="16446" y="3076"/>
                </a:cubicBezTo>
                <a:cubicBezTo>
                  <a:pt x="16528" y="3128"/>
                  <a:pt x="16612" y="3174"/>
                  <a:pt x="16694" y="32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(-x + 2)/(x +4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4"/>
          <p:cNvSpPr/>
          <p:nvPr/>
        </p:nvSpPr>
        <p:spPr>
          <a:xfrm>
            <a:off x="2000160" y="543888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5556" y="15106"/>
                </a:moveTo>
                <a:cubicBezTo>
                  <a:pt x="5564" y="15131"/>
                  <a:pt x="5573" y="15155"/>
                  <a:pt x="5581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5"/>
          <p:cNvSpPr/>
          <p:nvPr/>
        </p:nvSpPr>
        <p:spPr>
          <a:xfrm>
            <a:off x="3071880" y="1268280"/>
            <a:ext cx="1589040" cy="857520"/>
          </a:xfrm>
          <a:custGeom>
            <a:avLst/>
            <a:gdLst/>
            <a:ahLst/>
            <a:rect l="l" t="t" r="r" b="b"/>
            <a:pathLst>
              <a:path w="4416" h="2383">
                <a:moveTo>
                  <a:pt x="8533" y="4291"/>
                </a:moveTo>
                <a:cubicBezTo>
                  <a:pt x="8566" y="4349"/>
                  <a:pt x="8607" y="4402"/>
                  <a:pt x="8632" y="4465"/>
                </a:cubicBezTo>
                <a:cubicBezTo>
                  <a:pt x="8664" y="4547"/>
                  <a:pt x="8708" y="4638"/>
                  <a:pt x="8756" y="4713"/>
                </a:cubicBezTo>
                <a:cubicBezTo>
                  <a:pt x="8791" y="4768"/>
                  <a:pt x="8833" y="4815"/>
                  <a:pt x="8880" y="4862"/>
                </a:cubicBezTo>
                <a:cubicBezTo>
                  <a:pt x="8908" y="4891"/>
                  <a:pt x="8918" y="4902"/>
                  <a:pt x="8954" y="4911"/>
                </a:cubicBezTo>
              </a:path>
              <a:path w="4416" h="2383">
                <a:moveTo>
                  <a:pt x="9004" y="4167"/>
                </a:moveTo>
                <a:cubicBezTo>
                  <a:pt x="9004" y="4268"/>
                  <a:pt x="8994" y="4366"/>
                  <a:pt x="8979" y="4465"/>
                </a:cubicBezTo>
                <a:cubicBezTo>
                  <a:pt x="8950" y="4656"/>
                  <a:pt x="8890" y="4844"/>
                  <a:pt x="8855" y="5035"/>
                </a:cubicBezTo>
                <a:cubicBezTo>
                  <a:pt x="8824" y="5200"/>
                  <a:pt x="8794" y="5366"/>
                  <a:pt x="8781" y="5531"/>
                </a:cubicBezTo>
                <a:cubicBezTo>
                  <a:pt x="8771" y="5663"/>
                  <a:pt x="8781" y="6012"/>
                  <a:pt x="8781" y="5879"/>
                </a:cubicBezTo>
                <a:cubicBezTo>
                  <a:pt x="8781" y="5846"/>
                  <a:pt x="8781" y="5812"/>
                  <a:pt x="8781" y="5779"/>
                </a:cubicBezTo>
              </a:path>
              <a:path w="4416" h="2383">
                <a:moveTo>
                  <a:pt x="9128" y="4415"/>
                </a:moveTo>
                <a:cubicBezTo>
                  <a:pt x="9216" y="4394"/>
                  <a:pt x="9318" y="4389"/>
                  <a:pt x="9401" y="4366"/>
                </a:cubicBezTo>
                <a:cubicBezTo>
                  <a:pt x="9472" y="4346"/>
                  <a:pt x="9522" y="4341"/>
                  <a:pt x="9599" y="4341"/>
                </a:cubicBezTo>
              </a:path>
              <a:path w="4416" h="2383">
                <a:moveTo>
                  <a:pt x="9227" y="4638"/>
                </a:moveTo>
                <a:cubicBezTo>
                  <a:pt x="9340" y="4632"/>
                  <a:pt x="9446" y="4619"/>
                  <a:pt x="9550" y="4564"/>
                </a:cubicBezTo>
                <a:cubicBezTo>
                  <a:pt x="9575" y="4547"/>
                  <a:pt x="9599" y="4531"/>
                  <a:pt x="9624" y="4514"/>
                </a:cubicBezTo>
              </a:path>
              <a:path w="4416" h="2383">
                <a:moveTo>
                  <a:pt x="10096" y="3795"/>
                </a:moveTo>
                <a:cubicBezTo>
                  <a:pt x="10040" y="3878"/>
                  <a:pt x="10042" y="3950"/>
                  <a:pt x="10021" y="4043"/>
                </a:cubicBezTo>
                <a:cubicBezTo>
                  <a:pt x="10000" y="4138"/>
                  <a:pt x="9977" y="4183"/>
                  <a:pt x="10046" y="4266"/>
                </a:cubicBezTo>
                <a:cubicBezTo>
                  <a:pt x="10087" y="4315"/>
                  <a:pt x="10195" y="4301"/>
                  <a:pt x="10244" y="4266"/>
                </a:cubicBezTo>
                <a:cubicBezTo>
                  <a:pt x="10336" y="4200"/>
                  <a:pt x="10359" y="4120"/>
                  <a:pt x="10393" y="4018"/>
                </a:cubicBezTo>
                <a:cubicBezTo>
                  <a:pt x="10428" y="3914"/>
                  <a:pt x="10424" y="3811"/>
                  <a:pt x="10344" y="3721"/>
                </a:cubicBezTo>
                <a:cubicBezTo>
                  <a:pt x="10303" y="3675"/>
                  <a:pt x="10179" y="3654"/>
                  <a:pt x="10120" y="3671"/>
                </a:cubicBezTo>
                <a:cubicBezTo>
                  <a:pt x="10051" y="3690"/>
                  <a:pt x="10054" y="3712"/>
                  <a:pt x="10046" y="3770"/>
                </a:cubicBezTo>
              </a:path>
              <a:path w="4416" h="2383">
                <a:moveTo>
                  <a:pt x="10691" y="3721"/>
                </a:moveTo>
                <a:cubicBezTo>
                  <a:pt x="10691" y="3902"/>
                  <a:pt x="10698" y="4027"/>
                  <a:pt x="10716" y="4192"/>
                </a:cubicBezTo>
              </a:path>
              <a:path w="4416" h="2383">
                <a:moveTo>
                  <a:pt x="10567" y="3944"/>
                </a:moveTo>
                <a:cubicBezTo>
                  <a:pt x="10625" y="3944"/>
                  <a:pt x="10682" y="3944"/>
                  <a:pt x="10740" y="3944"/>
                </a:cubicBezTo>
              </a:path>
              <a:path w="4416" h="2383">
                <a:moveTo>
                  <a:pt x="10939" y="3547"/>
                </a:moveTo>
                <a:cubicBezTo>
                  <a:pt x="11011" y="3520"/>
                  <a:pt x="11064" y="3522"/>
                  <a:pt x="11137" y="3547"/>
                </a:cubicBezTo>
                <a:cubicBezTo>
                  <a:pt x="11198" y="3567"/>
                  <a:pt x="11272" y="3627"/>
                  <a:pt x="11261" y="3696"/>
                </a:cubicBezTo>
                <a:cubicBezTo>
                  <a:pt x="11245" y="3796"/>
                  <a:pt x="11156" y="3815"/>
                  <a:pt x="11088" y="3870"/>
                </a:cubicBezTo>
                <a:cubicBezTo>
                  <a:pt x="11024" y="3922"/>
                  <a:pt x="10953" y="3943"/>
                  <a:pt x="10889" y="3994"/>
                </a:cubicBezTo>
                <a:cubicBezTo>
                  <a:pt x="10967" y="4045"/>
                  <a:pt x="11020" y="4043"/>
                  <a:pt x="11112" y="4043"/>
                </a:cubicBezTo>
                <a:cubicBezTo>
                  <a:pt x="11225" y="4043"/>
                  <a:pt x="11337" y="4041"/>
                  <a:pt x="11435" y="4068"/>
                </a:cubicBezTo>
                <a:cubicBezTo>
                  <a:pt x="11443" y="4068"/>
                  <a:pt x="11452" y="4068"/>
                  <a:pt x="11460" y="4068"/>
                </a:cubicBezTo>
              </a:path>
              <a:path w="4416" h="2383">
                <a:moveTo>
                  <a:pt x="9798" y="4341"/>
                </a:moveTo>
                <a:cubicBezTo>
                  <a:pt x="9907" y="4366"/>
                  <a:pt x="10046" y="4341"/>
                  <a:pt x="10170" y="4341"/>
                </a:cubicBezTo>
                <a:cubicBezTo>
                  <a:pt x="10478" y="4341"/>
                  <a:pt x="10781" y="4342"/>
                  <a:pt x="11088" y="4366"/>
                </a:cubicBezTo>
                <a:cubicBezTo>
                  <a:pt x="11137" y="4366"/>
                  <a:pt x="11154" y="4366"/>
                  <a:pt x="11187" y="4366"/>
                </a:cubicBezTo>
              </a:path>
              <a:path w="4416" h="2383">
                <a:moveTo>
                  <a:pt x="10071" y="4961"/>
                </a:moveTo>
                <a:cubicBezTo>
                  <a:pt x="10051" y="5121"/>
                  <a:pt x="10009" y="5203"/>
                  <a:pt x="10120" y="5308"/>
                </a:cubicBezTo>
                <a:cubicBezTo>
                  <a:pt x="10178" y="5363"/>
                  <a:pt x="10259" y="5381"/>
                  <a:pt x="10344" y="5358"/>
                </a:cubicBezTo>
                <a:cubicBezTo>
                  <a:pt x="10416" y="5339"/>
                  <a:pt x="10489" y="5249"/>
                  <a:pt x="10517" y="5184"/>
                </a:cubicBezTo>
                <a:cubicBezTo>
                  <a:pt x="10569" y="5066"/>
                  <a:pt x="10553" y="4943"/>
                  <a:pt x="10492" y="4837"/>
                </a:cubicBezTo>
                <a:cubicBezTo>
                  <a:pt x="10449" y="4762"/>
                  <a:pt x="10375" y="4745"/>
                  <a:pt x="10294" y="4762"/>
                </a:cubicBezTo>
                <a:cubicBezTo>
                  <a:pt x="10175" y="4787"/>
                  <a:pt x="10124" y="4860"/>
                  <a:pt x="10071" y="4961"/>
                </a:cubicBezTo>
                <a:cubicBezTo>
                  <a:pt x="10026" y="5047"/>
                  <a:pt x="10077" y="5043"/>
                  <a:pt x="10145" y="5060"/>
                </a:cubicBezTo>
              </a:path>
              <a:path w="4416" h="2383">
                <a:moveTo>
                  <a:pt x="10864" y="4787"/>
                </a:moveTo>
                <a:cubicBezTo>
                  <a:pt x="10889" y="4946"/>
                  <a:pt x="10978" y="5103"/>
                  <a:pt x="10939" y="5259"/>
                </a:cubicBezTo>
                <a:cubicBezTo>
                  <a:pt x="10931" y="5259"/>
                  <a:pt x="10922" y="5259"/>
                  <a:pt x="10914" y="5259"/>
                </a:cubicBezTo>
              </a:path>
              <a:path w="4416" h="2383">
                <a:moveTo>
                  <a:pt x="10641" y="4986"/>
                </a:moveTo>
                <a:cubicBezTo>
                  <a:pt x="10755" y="5024"/>
                  <a:pt x="10819" y="4989"/>
                  <a:pt x="10939" y="4961"/>
                </a:cubicBezTo>
              </a:path>
              <a:path w="4416" h="2383">
                <a:moveTo>
                  <a:pt x="11187" y="4862"/>
                </a:moveTo>
                <a:cubicBezTo>
                  <a:pt x="11172" y="4941"/>
                  <a:pt x="11159" y="4985"/>
                  <a:pt x="11237" y="5035"/>
                </a:cubicBezTo>
                <a:cubicBezTo>
                  <a:pt x="11293" y="5064"/>
                  <a:pt x="11317" y="5069"/>
                  <a:pt x="11361" y="5035"/>
                </a:cubicBezTo>
              </a:path>
              <a:path w="4416" h="2383">
                <a:moveTo>
                  <a:pt x="11435" y="4663"/>
                </a:moveTo>
                <a:cubicBezTo>
                  <a:pt x="11416" y="4824"/>
                  <a:pt x="11410" y="4973"/>
                  <a:pt x="11410" y="5135"/>
                </a:cubicBezTo>
                <a:cubicBezTo>
                  <a:pt x="11410" y="5218"/>
                  <a:pt x="11400" y="5332"/>
                  <a:pt x="11435" y="5407"/>
                </a:cubicBezTo>
                <a:cubicBezTo>
                  <a:pt x="11470" y="5483"/>
                  <a:pt x="11513" y="5408"/>
                  <a:pt x="11534" y="5383"/>
                </a:cubicBezTo>
              </a:path>
              <a:path w="4416" h="2383">
                <a:moveTo>
                  <a:pt x="11733" y="4663"/>
                </a:moveTo>
                <a:cubicBezTo>
                  <a:pt x="11850" y="4676"/>
                  <a:pt x="11942" y="4688"/>
                  <a:pt x="12055" y="4688"/>
                </a:cubicBezTo>
              </a:path>
              <a:path w="4416" h="2383">
                <a:moveTo>
                  <a:pt x="11832" y="4837"/>
                </a:moveTo>
                <a:cubicBezTo>
                  <a:pt x="11902" y="4857"/>
                  <a:pt x="11950" y="4839"/>
                  <a:pt x="12030" y="4812"/>
                </a:cubicBezTo>
              </a:path>
              <a:path w="4416" h="2383">
                <a:moveTo>
                  <a:pt x="12675" y="3671"/>
                </a:moveTo>
                <a:cubicBezTo>
                  <a:pt x="12685" y="3751"/>
                  <a:pt x="12707" y="3839"/>
                  <a:pt x="12725" y="3919"/>
                </a:cubicBezTo>
                <a:cubicBezTo>
                  <a:pt x="12746" y="4013"/>
                  <a:pt x="12759" y="4057"/>
                  <a:pt x="12750" y="4142"/>
                </a:cubicBezTo>
                <a:cubicBezTo>
                  <a:pt x="12750" y="4159"/>
                  <a:pt x="12750" y="4175"/>
                  <a:pt x="12750" y="4192"/>
                </a:cubicBezTo>
              </a:path>
              <a:path w="4416" h="2383">
                <a:moveTo>
                  <a:pt x="12353" y="4291"/>
                </a:moveTo>
                <a:cubicBezTo>
                  <a:pt x="12498" y="4291"/>
                  <a:pt x="12754" y="4338"/>
                  <a:pt x="12874" y="4266"/>
                </a:cubicBezTo>
              </a:path>
              <a:path w="4416" h="2383">
                <a:moveTo>
                  <a:pt x="12576" y="4539"/>
                </a:moveTo>
                <a:cubicBezTo>
                  <a:pt x="12637" y="4531"/>
                  <a:pt x="12719" y="4483"/>
                  <a:pt x="12774" y="4539"/>
                </a:cubicBezTo>
                <a:cubicBezTo>
                  <a:pt x="12825" y="4591"/>
                  <a:pt x="12736" y="4694"/>
                  <a:pt x="12700" y="4738"/>
                </a:cubicBezTo>
                <a:cubicBezTo>
                  <a:pt x="12627" y="4827"/>
                  <a:pt x="12551" y="4901"/>
                  <a:pt x="12477" y="4986"/>
                </a:cubicBezTo>
                <a:cubicBezTo>
                  <a:pt x="12452" y="5011"/>
                  <a:pt x="12444" y="5019"/>
                  <a:pt x="12427" y="5035"/>
                </a:cubicBezTo>
                <a:cubicBezTo>
                  <a:pt x="12481" y="5130"/>
                  <a:pt x="12517" y="5110"/>
                  <a:pt x="12626" y="5110"/>
                </a:cubicBezTo>
                <a:cubicBezTo>
                  <a:pt x="12744" y="5110"/>
                  <a:pt x="12835" y="5095"/>
                  <a:pt x="12948" y="50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6"/>
          <p:cNvSpPr/>
          <p:nvPr/>
        </p:nvSpPr>
        <p:spPr>
          <a:xfrm>
            <a:off x="4946760" y="1276200"/>
            <a:ext cx="839520" cy="536760"/>
          </a:xfrm>
          <a:custGeom>
            <a:avLst/>
            <a:gdLst/>
            <a:ahLst/>
            <a:rect l="l" t="t" r="r" b="b"/>
            <a:pathLst>
              <a:path w="2332" h="1489">
                <a:moveTo>
                  <a:pt x="13990" y="3770"/>
                </a:moveTo>
                <a:cubicBezTo>
                  <a:pt x="13914" y="3923"/>
                  <a:pt x="13817" y="4078"/>
                  <a:pt x="13767" y="4242"/>
                </a:cubicBezTo>
                <a:cubicBezTo>
                  <a:pt x="13739" y="4335"/>
                  <a:pt x="13724" y="4466"/>
                  <a:pt x="13742" y="4564"/>
                </a:cubicBezTo>
                <a:cubicBezTo>
                  <a:pt x="13754" y="4629"/>
                  <a:pt x="13760" y="4739"/>
                  <a:pt x="13816" y="4787"/>
                </a:cubicBezTo>
                <a:cubicBezTo>
                  <a:pt x="13864" y="4811"/>
                  <a:pt x="13878" y="4819"/>
                  <a:pt x="13915" y="4812"/>
                </a:cubicBezTo>
              </a:path>
              <a:path w="2332" h="1489">
                <a:moveTo>
                  <a:pt x="14288" y="4043"/>
                </a:moveTo>
                <a:cubicBezTo>
                  <a:pt x="14252" y="4181"/>
                  <a:pt x="14187" y="4343"/>
                  <a:pt x="14213" y="4490"/>
                </a:cubicBezTo>
                <a:cubicBezTo>
                  <a:pt x="14232" y="4595"/>
                  <a:pt x="14275" y="4620"/>
                  <a:pt x="14362" y="4663"/>
                </a:cubicBezTo>
                <a:cubicBezTo>
                  <a:pt x="14438" y="4701"/>
                  <a:pt x="14513" y="4690"/>
                  <a:pt x="14585" y="4638"/>
                </a:cubicBezTo>
                <a:cubicBezTo>
                  <a:pt x="14664" y="4580"/>
                  <a:pt x="14720" y="4462"/>
                  <a:pt x="14734" y="4366"/>
                </a:cubicBezTo>
                <a:cubicBezTo>
                  <a:pt x="14747" y="4275"/>
                  <a:pt x="14734" y="4147"/>
                  <a:pt x="14684" y="4068"/>
                </a:cubicBezTo>
                <a:cubicBezTo>
                  <a:pt x="14626" y="3976"/>
                  <a:pt x="14542" y="3947"/>
                  <a:pt x="14436" y="3969"/>
                </a:cubicBezTo>
                <a:cubicBezTo>
                  <a:pt x="14365" y="3984"/>
                  <a:pt x="14345" y="4035"/>
                  <a:pt x="14337" y="4093"/>
                </a:cubicBezTo>
              </a:path>
              <a:path w="2332" h="1489">
                <a:moveTo>
                  <a:pt x="14982" y="4713"/>
                </a:moveTo>
                <a:cubicBezTo>
                  <a:pt x="14964" y="4827"/>
                  <a:pt x="14817" y="5030"/>
                  <a:pt x="14932" y="5035"/>
                </a:cubicBezTo>
                <a:cubicBezTo>
                  <a:pt x="14932" y="5027"/>
                  <a:pt x="14932" y="5019"/>
                  <a:pt x="14932" y="5011"/>
                </a:cubicBezTo>
              </a:path>
              <a:path w="2332" h="1489">
                <a:moveTo>
                  <a:pt x="15230" y="3621"/>
                </a:moveTo>
                <a:cubicBezTo>
                  <a:pt x="15247" y="3760"/>
                  <a:pt x="15244" y="3891"/>
                  <a:pt x="15304" y="4018"/>
                </a:cubicBezTo>
                <a:cubicBezTo>
                  <a:pt x="15329" y="4070"/>
                  <a:pt x="15384" y="4116"/>
                  <a:pt x="15404" y="4167"/>
                </a:cubicBezTo>
                <a:cubicBezTo>
                  <a:pt x="15404" y="4175"/>
                  <a:pt x="15404" y="4184"/>
                  <a:pt x="15404" y="4192"/>
                </a:cubicBezTo>
              </a:path>
              <a:path w="2332" h="1489">
                <a:moveTo>
                  <a:pt x="15156" y="4217"/>
                </a:moveTo>
                <a:cubicBezTo>
                  <a:pt x="15265" y="4195"/>
                  <a:pt x="15372" y="4199"/>
                  <a:pt x="15478" y="4167"/>
                </a:cubicBezTo>
                <a:cubicBezTo>
                  <a:pt x="15543" y="4145"/>
                  <a:pt x="15558" y="4137"/>
                  <a:pt x="15602" y="4142"/>
                </a:cubicBezTo>
              </a:path>
              <a:path w="2332" h="1489">
                <a:moveTo>
                  <a:pt x="15354" y="4390"/>
                </a:moveTo>
                <a:cubicBezTo>
                  <a:pt x="15463" y="4331"/>
                  <a:pt x="15468" y="4336"/>
                  <a:pt x="15577" y="4390"/>
                </a:cubicBezTo>
                <a:cubicBezTo>
                  <a:pt x="15541" y="4492"/>
                  <a:pt x="15506" y="4538"/>
                  <a:pt x="15429" y="4614"/>
                </a:cubicBezTo>
                <a:cubicBezTo>
                  <a:pt x="15381" y="4662"/>
                  <a:pt x="15327" y="4689"/>
                  <a:pt x="15280" y="4738"/>
                </a:cubicBezTo>
                <a:cubicBezTo>
                  <a:pt x="15323" y="4781"/>
                  <a:pt x="15361" y="4824"/>
                  <a:pt x="15429" y="4812"/>
                </a:cubicBezTo>
                <a:cubicBezTo>
                  <a:pt x="15531" y="4794"/>
                  <a:pt x="15618" y="4719"/>
                  <a:pt x="15701" y="4663"/>
                </a:cubicBezTo>
              </a:path>
              <a:path w="2332" h="1489">
                <a:moveTo>
                  <a:pt x="15726" y="3547"/>
                </a:moveTo>
                <a:cubicBezTo>
                  <a:pt x="15944" y="3795"/>
                  <a:pt x="16043" y="3927"/>
                  <a:pt x="16073" y="4266"/>
                </a:cubicBezTo>
                <a:cubicBezTo>
                  <a:pt x="16084" y="4391"/>
                  <a:pt x="16059" y="4598"/>
                  <a:pt x="15999" y="4713"/>
                </a:cubicBezTo>
                <a:cubicBezTo>
                  <a:pt x="15949" y="4808"/>
                  <a:pt x="15880" y="4871"/>
                  <a:pt x="15801" y="493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7"/>
          <p:cNvSpPr/>
          <p:nvPr/>
        </p:nvSpPr>
        <p:spPr>
          <a:xfrm>
            <a:off x="3143160" y="2268360"/>
            <a:ext cx="1384560" cy="258840"/>
          </a:xfrm>
          <a:custGeom>
            <a:avLst/>
            <a:gdLst/>
            <a:ahLst/>
            <a:rect l="l" t="t" r="r" b="b"/>
            <a:pathLst>
              <a:path w="3846" h="721">
                <a:moveTo>
                  <a:pt x="8731" y="6648"/>
                </a:moveTo>
                <a:cubicBezTo>
                  <a:pt x="8819" y="6648"/>
                  <a:pt x="8895" y="6632"/>
                  <a:pt x="8979" y="6623"/>
                </a:cubicBezTo>
                <a:cubicBezTo>
                  <a:pt x="9054" y="6623"/>
                  <a:pt x="9078" y="6623"/>
                  <a:pt x="9128" y="6623"/>
                </a:cubicBezTo>
              </a:path>
              <a:path w="3846" h="721">
                <a:moveTo>
                  <a:pt x="9475" y="6449"/>
                </a:moveTo>
                <a:cubicBezTo>
                  <a:pt x="9512" y="6513"/>
                  <a:pt x="9548" y="6569"/>
                  <a:pt x="9599" y="6623"/>
                </a:cubicBezTo>
                <a:cubicBezTo>
                  <a:pt x="9707" y="6736"/>
                  <a:pt x="9845" y="6831"/>
                  <a:pt x="9947" y="6945"/>
                </a:cubicBezTo>
                <a:cubicBezTo>
                  <a:pt x="9970" y="6993"/>
                  <a:pt x="9976" y="7010"/>
                  <a:pt x="10021" y="6995"/>
                </a:cubicBezTo>
              </a:path>
              <a:path w="3846" h="721">
                <a:moveTo>
                  <a:pt x="9872" y="6474"/>
                </a:moveTo>
                <a:cubicBezTo>
                  <a:pt x="9770" y="6620"/>
                  <a:pt x="9649" y="6751"/>
                  <a:pt x="9550" y="6896"/>
                </a:cubicBezTo>
                <a:cubicBezTo>
                  <a:pt x="9520" y="6940"/>
                  <a:pt x="9525" y="6970"/>
                  <a:pt x="9525" y="7020"/>
                </a:cubicBezTo>
              </a:path>
              <a:path w="3846" h="721">
                <a:moveTo>
                  <a:pt x="10319" y="6400"/>
                </a:moveTo>
                <a:cubicBezTo>
                  <a:pt x="10305" y="6524"/>
                  <a:pt x="10294" y="6626"/>
                  <a:pt x="10294" y="6747"/>
                </a:cubicBezTo>
                <a:cubicBezTo>
                  <a:pt x="10294" y="6799"/>
                  <a:pt x="10308" y="6803"/>
                  <a:pt x="10319" y="6846"/>
                </a:cubicBezTo>
              </a:path>
              <a:path w="3846" h="721">
                <a:moveTo>
                  <a:pt x="10071" y="6623"/>
                </a:moveTo>
                <a:cubicBezTo>
                  <a:pt x="10169" y="6660"/>
                  <a:pt x="10218" y="6634"/>
                  <a:pt x="10319" y="6623"/>
                </a:cubicBezTo>
                <a:cubicBezTo>
                  <a:pt x="10395" y="6614"/>
                  <a:pt x="10445" y="6622"/>
                  <a:pt x="10517" y="6598"/>
                </a:cubicBezTo>
              </a:path>
              <a:path w="3846" h="721">
                <a:moveTo>
                  <a:pt x="10691" y="6350"/>
                </a:moveTo>
                <a:cubicBezTo>
                  <a:pt x="10766" y="6325"/>
                  <a:pt x="10840" y="6304"/>
                  <a:pt x="10914" y="6350"/>
                </a:cubicBezTo>
                <a:cubicBezTo>
                  <a:pt x="10974" y="6387"/>
                  <a:pt x="11002" y="6459"/>
                  <a:pt x="11013" y="6524"/>
                </a:cubicBezTo>
                <a:cubicBezTo>
                  <a:pt x="11026" y="6602"/>
                  <a:pt x="10962" y="6671"/>
                  <a:pt x="10914" y="6722"/>
                </a:cubicBezTo>
                <a:cubicBezTo>
                  <a:pt x="10892" y="6745"/>
                  <a:pt x="10788" y="6837"/>
                  <a:pt x="10790" y="6871"/>
                </a:cubicBezTo>
                <a:cubicBezTo>
                  <a:pt x="10795" y="6948"/>
                  <a:pt x="10883" y="6967"/>
                  <a:pt x="10939" y="6970"/>
                </a:cubicBezTo>
                <a:cubicBezTo>
                  <a:pt x="11000" y="6973"/>
                  <a:pt x="11055" y="6941"/>
                  <a:pt x="11112" y="6921"/>
                </a:cubicBezTo>
              </a:path>
              <a:path w="3846" h="721">
                <a:moveTo>
                  <a:pt x="11311" y="6548"/>
                </a:moveTo>
                <a:cubicBezTo>
                  <a:pt x="11420" y="6532"/>
                  <a:pt x="11526" y="6511"/>
                  <a:pt x="11633" y="6499"/>
                </a:cubicBezTo>
              </a:path>
              <a:path w="3846" h="721">
                <a:moveTo>
                  <a:pt x="11336" y="6772"/>
                </a:moveTo>
                <a:cubicBezTo>
                  <a:pt x="11439" y="6793"/>
                  <a:pt x="11530" y="6800"/>
                  <a:pt x="11633" y="6772"/>
                </a:cubicBezTo>
                <a:cubicBezTo>
                  <a:pt x="11690" y="6744"/>
                  <a:pt x="11713" y="6733"/>
                  <a:pt x="11757" y="6722"/>
                </a:cubicBezTo>
              </a:path>
              <a:path w="3846" h="721">
                <a:moveTo>
                  <a:pt x="12080" y="6350"/>
                </a:moveTo>
                <a:cubicBezTo>
                  <a:pt x="12028" y="6453"/>
                  <a:pt x="11966" y="6536"/>
                  <a:pt x="11956" y="6648"/>
                </a:cubicBezTo>
                <a:cubicBezTo>
                  <a:pt x="11948" y="6735"/>
                  <a:pt x="12035" y="6769"/>
                  <a:pt x="12105" y="6796"/>
                </a:cubicBezTo>
                <a:cubicBezTo>
                  <a:pt x="12190" y="6829"/>
                  <a:pt x="12293" y="6838"/>
                  <a:pt x="12378" y="6796"/>
                </a:cubicBezTo>
                <a:cubicBezTo>
                  <a:pt x="12459" y="6756"/>
                  <a:pt x="12547" y="6660"/>
                  <a:pt x="12576" y="6573"/>
                </a:cubicBezTo>
                <a:cubicBezTo>
                  <a:pt x="12602" y="6494"/>
                  <a:pt x="12543" y="6412"/>
                  <a:pt x="12477" y="6375"/>
                </a:cubicBezTo>
                <a:cubicBezTo>
                  <a:pt x="12380" y="6321"/>
                  <a:pt x="12260" y="6307"/>
                  <a:pt x="12154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8"/>
          <p:cNvSpPr/>
          <p:nvPr/>
        </p:nvSpPr>
        <p:spPr>
          <a:xfrm>
            <a:off x="3705120" y="2571840"/>
            <a:ext cx="617760" cy="214200"/>
          </a:xfrm>
          <a:custGeom>
            <a:avLst/>
            <a:gdLst/>
            <a:ahLst/>
            <a:rect l="l" t="t" r="r" b="b"/>
            <a:pathLst>
              <a:path w="1712" h="596">
                <a:moveTo>
                  <a:pt x="10294" y="7293"/>
                </a:moveTo>
                <a:cubicBezTo>
                  <a:pt x="10327" y="7382"/>
                  <a:pt x="10352" y="7447"/>
                  <a:pt x="10418" y="7516"/>
                </a:cubicBezTo>
                <a:cubicBezTo>
                  <a:pt x="10481" y="7582"/>
                  <a:pt x="10510" y="7643"/>
                  <a:pt x="10592" y="7689"/>
                </a:cubicBezTo>
                <a:cubicBezTo>
                  <a:pt x="10647" y="7719"/>
                  <a:pt x="10680" y="7731"/>
                  <a:pt x="10740" y="7739"/>
                </a:cubicBezTo>
              </a:path>
              <a:path w="1712" h="596">
                <a:moveTo>
                  <a:pt x="10542" y="7268"/>
                </a:moveTo>
                <a:cubicBezTo>
                  <a:pt x="10473" y="7393"/>
                  <a:pt x="10407" y="7513"/>
                  <a:pt x="10344" y="7640"/>
                </a:cubicBezTo>
                <a:cubicBezTo>
                  <a:pt x="10322" y="7683"/>
                  <a:pt x="10309" y="7695"/>
                  <a:pt x="10344" y="7714"/>
                </a:cubicBezTo>
              </a:path>
              <a:path w="1712" h="596">
                <a:moveTo>
                  <a:pt x="10815" y="7392"/>
                </a:moveTo>
                <a:cubicBezTo>
                  <a:pt x="10904" y="7392"/>
                  <a:pt x="10936" y="7396"/>
                  <a:pt x="11013" y="7367"/>
                </a:cubicBezTo>
              </a:path>
              <a:path w="1712" h="596">
                <a:moveTo>
                  <a:pt x="10840" y="7516"/>
                </a:moveTo>
                <a:cubicBezTo>
                  <a:pt x="10949" y="7516"/>
                  <a:pt x="11032" y="7503"/>
                  <a:pt x="11137" y="7491"/>
                </a:cubicBezTo>
              </a:path>
              <a:path w="1712" h="596">
                <a:moveTo>
                  <a:pt x="11336" y="7193"/>
                </a:moveTo>
                <a:cubicBezTo>
                  <a:pt x="11427" y="7157"/>
                  <a:pt x="11521" y="7105"/>
                  <a:pt x="11609" y="7169"/>
                </a:cubicBezTo>
                <a:cubicBezTo>
                  <a:pt x="11674" y="7216"/>
                  <a:pt x="11671" y="7275"/>
                  <a:pt x="11633" y="7342"/>
                </a:cubicBezTo>
                <a:cubicBezTo>
                  <a:pt x="11606" y="7389"/>
                  <a:pt x="11567" y="7447"/>
                  <a:pt x="11534" y="7491"/>
                </a:cubicBezTo>
                <a:cubicBezTo>
                  <a:pt x="11500" y="7537"/>
                  <a:pt x="11425" y="7584"/>
                  <a:pt x="11410" y="7640"/>
                </a:cubicBezTo>
                <a:cubicBezTo>
                  <a:pt x="11410" y="7656"/>
                  <a:pt x="11410" y="7673"/>
                  <a:pt x="11410" y="7689"/>
                </a:cubicBezTo>
                <a:cubicBezTo>
                  <a:pt x="11581" y="7689"/>
                  <a:pt x="11858" y="7737"/>
                  <a:pt x="12005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9"/>
          <p:cNvSpPr/>
          <p:nvPr/>
        </p:nvSpPr>
        <p:spPr>
          <a:xfrm>
            <a:off x="4680000" y="2320920"/>
            <a:ext cx="642960" cy="376200"/>
          </a:xfrm>
          <a:custGeom>
            <a:avLst/>
            <a:gdLst/>
            <a:ahLst/>
            <a:rect l="l" t="t" r="r" b="b"/>
            <a:pathLst>
              <a:path w="1787" h="1043">
                <a:moveTo>
                  <a:pt x="13097" y="6672"/>
                </a:moveTo>
                <a:cubicBezTo>
                  <a:pt x="13073" y="6777"/>
                  <a:pt x="13028" y="6888"/>
                  <a:pt x="13022" y="6995"/>
                </a:cubicBezTo>
                <a:cubicBezTo>
                  <a:pt x="13017" y="7084"/>
                  <a:pt x="12985" y="7133"/>
                  <a:pt x="13022" y="7218"/>
                </a:cubicBezTo>
                <a:cubicBezTo>
                  <a:pt x="13037" y="7252"/>
                  <a:pt x="13076" y="7357"/>
                  <a:pt x="13122" y="7367"/>
                </a:cubicBezTo>
                <a:cubicBezTo>
                  <a:pt x="13147" y="7367"/>
                  <a:pt x="13171" y="7367"/>
                  <a:pt x="13196" y="7367"/>
                </a:cubicBezTo>
              </a:path>
              <a:path w="1787" h="1043">
                <a:moveTo>
                  <a:pt x="13370" y="6821"/>
                </a:moveTo>
                <a:cubicBezTo>
                  <a:pt x="13400" y="6738"/>
                  <a:pt x="13417" y="6626"/>
                  <a:pt x="13519" y="6598"/>
                </a:cubicBezTo>
                <a:cubicBezTo>
                  <a:pt x="13591" y="6579"/>
                  <a:pt x="13626" y="6667"/>
                  <a:pt x="13643" y="6722"/>
                </a:cubicBezTo>
                <a:cubicBezTo>
                  <a:pt x="13675" y="6824"/>
                  <a:pt x="13671" y="6944"/>
                  <a:pt x="13643" y="7045"/>
                </a:cubicBezTo>
                <a:cubicBezTo>
                  <a:pt x="13624" y="7113"/>
                  <a:pt x="13590" y="7190"/>
                  <a:pt x="13543" y="7243"/>
                </a:cubicBezTo>
                <a:cubicBezTo>
                  <a:pt x="13475" y="7320"/>
                  <a:pt x="13450" y="7190"/>
                  <a:pt x="13444" y="7144"/>
                </a:cubicBezTo>
                <a:cubicBezTo>
                  <a:pt x="13513" y="7153"/>
                  <a:pt x="13564" y="7170"/>
                  <a:pt x="13618" y="7218"/>
                </a:cubicBezTo>
                <a:cubicBezTo>
                  <a:pt x="13681" y="7274"/>
                  <a:pt x="13720" y="7279"/>
                  <a:pt x="13791" y="7243"/>
                </a:cubicBezTo>
              </a:path>
              <a:path w="1787" h="1043">
                <a:moveTo>
                  <a:pt x="13940" y="6970"/>
                </a:moveTo>
                <a:cubicBezTo>
                  <a:pt x="13924" y="7057"/>
                  <a:pt x="13854" y="7250"/>
                  <a:pt x="13866" y="7342"/>
                </a:cubicBezTo>
                <a:cubicBezTo>
                  <a:pt x="13888" y="7364"/>
                  <a:pt x="13893" y="7373"/>
                  <a:pt x="13915" y="7367"/>
                </a:cubicBezTo>
              </a:path>
              <a:path w="1787" h="1043">
                <a:moveTo>
                  <a:pt x="14213" y="6672"/>
                </a:moveTo>
                <a:cubicBezTo>
                  <a:pt x="14175" y="6743"/>
                  <a:pt x="14061" y="6881"/>
                  <a:pt x="14064" y="6970"/>
                </a:cubicBezTo>
                <a:cubicBezTo>
                  <a:pt x="14065" y="7011"/>
                  <a:pt x="14103" y="7152"/>
                  <a:pt x="14163" y="7169"/>
                </a:cubicBezTo>
                <a:cubicBezTo>
                  <a:pt x="14220" y="7185"/>
                  <a:pt x="14302" y="7169"/>
                  <a:pt x="14337" y="7119"/>
                </a:cubicBezTo>
                <a:cubicBezTo>
                  <a:pt x="14402" y="7027"/>
                  <a:pt x="14399" y="6926"/>
                  <a:pt x="14362" y="6821"/>
                </a:cubicBezTo>
                <a:cubicBezTo>
                  <a:pt x="14339" y="6756"/>
                  <a:pt x="14213" y="6768"/>
                  <a:pt x="14163" y="6747"/>
                </a:cubicBezTo>
                <a:cubicBezTo>
                  <a:pt x="14120" y="6725"/>
                  <a:pt x="14099" y="6721"/>
                  <a:pt x="14139" y="6697"/>
                </a:cubicBezTo>
              </a:path>
              <a:path w="1787" h="1043">
                <a:moveTo>
                  <a:pt x="14610" y="6449"/>
                </a:moveTo>
                <a:cubicBezTo>
                  <a:pt x="14693" y="6608"/>
                  <a:pt x="14787" y="6757"/>
                  <a:pt x="14784" y="6945"/>
                </a:cubicBezTo>
                <a:cubicBezTo>
                  <a:pt x="14781" y="7176"/>
                  <a:pt x="14758" y="7300"/>
                  <a:pt x="14585" y="7441"/>
                </a:cubicBezTo>
                <a:cubicBezTo>
                  <a:pt x="14560" y="7458"/>
                  <a:pt x="14536" y="7474"/>
                  <a:pt x="14511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10"/>
          <p:cNvSpPr/>
          <p:nvPr/>
        </p:nvSpPr>
        <p:spPr>
          <a:xfrm>
            <a:off x="4929120" y="2874960"/>
            <a:ext cx="1044720" cy="339840"/>
          </a:xfrm>
          <a:custGeom>
            <a:avLst/>
            <a:gdLst/>
            <a:ahLst/>
            <a:rect l="l" t="t" r="r" b="b"/>
            <a:pathLst>
              <a:path w="2903" h="944">
                <a:moveTo>
                  <a:pt x="13692" y="8334"/>
                </a:moveTo>
                <a:cubicBezTo>
                  <a:pt x="13773" y="8445"/>
                  <a:pt x="13845" y="8558"/>
                  <a:pt x="13940" y="8657"/>
                </a:cubicBezTo>
                <a:cubicBezTo>
                  <a:pt x="14008" y="8728"/>
                  <a:pt x="14082" y="8801"/>
                  <a:pt x="14163" y="8855"/>
                </a:cubicBezTo>
                <a:cubicBezTo>
                  <a:pt x="14180" y="8863"/>
                  <a:pt x="14196" y="8872"/>
                  <a:pt x="14213" y="8880"/>
                </a:cubicBezTo>
              </a:path>
              <a:path w="2903" h="944">
                <a:moveTo>
                  <a:pt x="14089" y="8260"/>
                </a:moveTo>
                <a:cubicBezTo>
                  <a:pt x="14015" y="8419"/>
                  <a:pt x="13915" y="8552"/>
                  <a:pt x="13841" y="8706"/>
                </a:cubicBezTo>
                <a:cubicBezTo>
                  <a:pt x="13802" y="8786"/>
                  <a:pt x="13758" y="8821"/>
                  <a:pt x="13717" y="8880"/>
                </a:cubicBezTo>
                <a:cubicBezTo>
                  <a:pt x="13709" y="8897"/>
                  <a:pt x="13700" y="8913"/>
                  <a:pt x="13692" y="8930"/>
                </a:cubicBezTo>
              </a:path>
              <a:path w="2903" h="944">
                <a:moveTo>
                  <a:pt x="14461" y="8260"/>
                </a:moveTo>
                <a:cubicBezTo>
                  <a:pt x="14468" y="8337"/>
                  <a:pt x="14505" y="8430"/>
                  <a:pt x="14486" y="8508"/>
                </a:cubicBezTo>
                <a:cubicBezTo>
                  <a:pt x="14464" y="8598"/>
                  <a:pt x="14457" y="8620"/>
                  <a:pt x="14486" y="8706"/>
                </a:cubicBezTo>
              </a:path>
              <a:path w="2903" h="944">
                <a:moveTo>
                  <a:pt x="14263" y="8434"/>
                </a:moveTo>
                <a:cubicBezTo>
                  <a:pt x="14380" y="8497"/>
                  <a:pt x="14411" y="8467"/>
                  <a:pt x="14536" y="8434"/>
                </a:cubicBezTo>
                <a:cubicBezTo>
                  <a:pt x="14561" y="8426"/>
                  <a:pt x="14585" y="8417"/>
                  <a:pt x="14610" y="8409"/>
                </a:cubicBezTo>
              </a:path>
              <a:path w="2903" h="944">
                <a:moveTo>
                  <a:pt x="14908" y="8186"/>
                </a:moveTo>
                <a:cubicBezTo>
                  <a:pt x="14894" y="8211"/>
                  <a:pt x="14773" y="8371"/>
                  <a:pt x="14858" y="8409"/>
                </a:cubicBezTo>
                <a:cubicBezTo>
                  <a:pt x="14906" y="8430"/>
                  <a:pt x="15026" y="8409"/>
                  <a:pt x="15081" y="8409"/>
                </a:cubicBezTo>
              </a:path>
              <a:path w="2903" h="944">
                <a:moveTo>
                  <a:pt x="15180" y="7987"/>
                </a:moveTo>
                <a:cubicBezTo>
                  <a:pt x="15150" y="8102"/>
                  <a:pt x="15118" y="8217"/>
                  <a:pt x="15106" y="8334"/>
                </a:cubicBezTo>
                <a:cubicBezTo>
                  <a:pt x="15093" y="8468"/>
                  <a:pt x="15107" y="8614"/>
                  <a:pt x="15131" y="8731"/>
                </a:cubicBezTo>
                <a:cubicBezTo>
                  <a:pt x="15131" y="8748"/>
                  <a:pt x="15131" y="8764"/>
                  <a:pt x="15131" y="8781"/>
                </a:cubicBezTo>
              </a:path>
              <a:path w="2903" h="944">
                <a:moveTo>
                  <a:pt x="15379" y="8334"/>
                </a:moveTo>
                <a:cubicBezTo>
                  <a:pt x="15502" y="8348"/>
                  <a:pt x="15585" y="8359"/>
                  <a:pt x="15701" y="8359"/>
                </a:cubicBezTo>
              </a:path>
              <a:path w="2903" h="944">
                <a:moveTo>
                  <a:pt x="15404" y="8558"/>
                </a:moveTo>
                <a:cubicBezTo>
                  <a:pt x="15496" y="8582"/>
                  <a:pt x="15585" y="8602"/>
                  <a:pt x="15677" y="8558"/>
                </a:cubicBezTo>
                <a:cubicBezTo>
                  <a:pt x="15702" y="8541"/>
                  <a:pt x="15726" y="8525"/>
                  <a:pt x="15751" y="8508"/>
                </a:cubicBezTo>
              </a:path>
              <a:path w="2903" h="944">
                <a:moveTo>
                  <a:pt x="16098" y="8111"/>
                </a:moveTo>
                <a:cubicBezTo>
                  <a:pt x="16063" y="8188"/>
                  <a:pt x="15992" y="8319"/>
                  <a:pt x="15999" y="8409"/>
                </a:cubicBezTo>
                <a:cubicBezTo>
                  <a:pt x="16006" y="8505"/>
                  <a:pt x="16098" y="8609"/>
                  <a:pt x="16173" y="8632"/>
                </a:cubicBezTo>
                <a:cubicBezTo>
                  <a:pt x="16279" y="8665"/>
                  <a:pt x="16391" y="8627"/>
                  <a:pt x="16470" y="8582"/>
                </a:cubicBezTo>
                <a:cubicBezTo>
                  <a:pt x="16573" y="8523"/>
                  <a:pt x="16589" y="8447"/>
                  <a:pt x="16594" y="8334"/>
                </a:cubicBezTo>
                <a:cubicBezTo>
                  <a:pt x="16601" y="8172"/>
                  <a:pt x="16494" y="8139"/>
                  <a:pt x="16346" y="8111"/>
                </a:cubicBezTo>
                <a:cubicBezTo>
                  <a:pt x="16251" y="8093"/>
                  <a:pt x="16161" y="8134"/>
                  <a:pt x="16073" y="81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11"/>
          <p:cNvSpPr/>
          <p:nvPr/>
        </p:nvSpPr>
        <p:spPr>
          <a:xfrm>
            <a:off x="4071960" y="3116160"/>
            <a:ext cx="2232000" cy="1563840"/>
          </a:xfrm>
          <a:custGeom>
            <a:avLst/>
            <a:gdLst/>
            <a:ahLst/>
            <a:rect l="l" t="t" r="r" b="b"/>
            <a:pathLst>
              <a:path w="6202" h="4342">
                <a:moveTo>
                  <a:pt x="14908" y="8930"/>
                </a:moveTo>
                <a:cubicBezTo>
                  <a:pt x="14908" y="9017"/>
                  <a:pt x="14915" y="9098"/>
                  <a:pt x="14957" y="9178"/>
                </a:cubicBezTo>
                <a:cubicBezTo>
                  <a:pt x="15004" y="9267"/>
                  <a:pt x="15083" y="9405"/>
                  <a:pt x="15156" y="9475"/>
                </a:cubicBezTo>
                <a:cubicBezTo>
                  <a:pt x="15213" y="9529"/>
                  <a:pt x="15283" y="9610"/>
                  <a:pt x="15354" y="9624"/>
                </a:cubicBezTo>
                <a:cubicBezTo>
                  <a:pt x="15396" y="9624"/>
                  <a:pt x="15404" y="9624"/>
                  <a:pt x="15429" y="9624"/>
                </a:cubicBezTo>
              </a:path>
              <a:path w="6202" h="4342">
                <a:moveTo>
                  <a:pt x="15280" y="8930"/>
                </a:moveTo>
                <a:cubicBezTo>
                  <a:pt x="15170" y="8945"/>
                  <a:pt x="15170" y="9001"/>
                  <a:pt x="15131" y="9103"/>
                </a:cubicBezTo>
                <a:cubicBezTo>
                  <a:pt x="15086" y="9220"/>
                  <a:pt x="15020" y="9345"/>
                  <a:pt x="14957" y="9451"/>
                </a:cubicBezTo>
                <a:cubicBezTo>
                  <a:pt x="14925" y="9504"/>
                  <a:pt x="14932" y="9529"/>
                  <a:pt x="14932" y="9599"/>
                </a:cubicBezTo>
              </a:path>
              <a:path w="6202" h="4342">
                <a:moveTo>
                  <a:pt x="15354" y="9227"/>
                </a:moveTo>
                <a:cubicBezTo>
                  <a:pt x="15478" y="9227"/>
                  <a:pt x="15602" y="9227"/>
                  <a:pt x="15726" y="9227"/>
                </a:cubicBezTo>
              </a:path>
              <a:path w="6202" h="4342">
                <a:moveTo>
                  <a:pt x="15404" y="9376"/>
                </a:moveTo>
                <a:cubicBezTo>
                  <a:pt x="15495" y="9376"/>
                  <a:pt x="15586" y="9376"/>
                  <a:pt x="15677" y="9376"/>
                </a:cubicBezTo>
              </a:path>
              <a:path w="6202" h="4342">
                <a:moveTo>
                  <a:pt x="15999" y="9079"/>
                </a:moveTo>
                <a:cubicBezTo>
                  <a:pt x="16172" y="9092"/>
                  <a:pt x="16182" y="9091"/>
                  <a:pt x="16321" y="9079"/>
                </a:cubicBezTo>
              </a:path>
              <a:path w="6202" h="4342">
                <a:moveTo>
                  <a:pt x="16446" y="8930"/>
                </a:moveTo>
                <a:cubicBezTo>
                  <a:pt x="16422" y="9017"/>
                  <a:pt x="16356" y="9126"/>
                  <a:pt x="16495" y="9153"/>
                </a:cubicBezTo>
                <a:cubicBezTo>
                  <a:pt x="16546" y="9163"/>
                  <a:pt x="16592" y="9171"/>
                  <a:pt x="16644" y="9178"/>
                </a:cubicBezTo>
              </a:path>
              <a:path w="6202" h="4342">
                <a:moveTo>
                  <a:pt x="16793" y="8781"/>
                </a:moveTo>
                <a:cubicBezTo>
                  <a:pt x="16760" y="8904"/>
                  <a:pt x="16729" y="9029"/>
                  <a:pt x="16718" y="9153"/>
                </a:cubicBezTo>
                <a:cubicBezTo>
                  <a:pt x="16705" y="9304"/>
                  <a:pt x="16717" y="9454"/>
                  <a:pt x="16743" y="9599"/>
                </a:cubicBezTo>
                <a:cubicBezTo>
                  <a:pt x="16743" y="9607"/>
                  <a:pt x="16743" y="9616"/>
                  <a:pt x="16743" y="9624"/>
                </a:cubicBezTo>
              </a:path>
              <a:path w="6202" h="4342">
                <a:moveTo>
                  <a:pt x="14560" y="8880"/>
                </a:moveTo>
                <a:cubicBezTo>
                  <a:pt x="14560" y="9097"/>
                  <a:pt x="14566" y="9295"/>
                  <a:pt x="14585" y="9500"/>
                </a:cubicBezTo>
                <a:cubicBezTo>
                  <a:pt x="14593" y="9581"/>
                  <a:pt x="14586" y="9695"/>
                  <a:pt x="14610" y="9773"/>
                </a:cubicBezTo>
                <a:cubicBezTo>
                  <a:pt x="14635" y="9823"/>
                  <a:pt x="14643" y="9840"/>
                  <a:pt x="14610" y="9773"/>
                </a:cubicBezTo>
              </a:path>
              <a:path w="6202" h="4342">
                <a:moveTo>
                  <a:pt x="14511" y="8781"/>
                </a:moveTo>
                <a:cubicBezTo>
                  <a:pt x="14664" y="8694"/>
                  <a:pt x="14752" y="8706"/>
                  <a:pt x="14932" y="8706"/>
                </a:cubicBezTo>
                <a:cubicBezTo>
                  <a:pt x="15347" y="8706"/>
                  <a:pt x="15760" y="8712"/>
                  <a:pt x="16173" y="8731"/>
                </a:cubicBezTo>
                <a:cubicBezTo>
                  <a:pt x="16375" y="8740"/>
                  <a:pt x="16570" y="8719"/>
                  <a:pt x="16768" y="8706"/>
                </a:cubicBezTo>
                <a:cubicBezTo>
                  <a:pt x="16859" y="8700"/>
                  <a:pt x="17173" y="8651"/>
                  <a:pt x="17214" y="8657"/>
                </a:cubicBezTo>
                <a:cubicBezTo>
                  <a:pt x="17284" y="8668"/>
                  <a:pt x="17307" y="8808"/>
                  <a:pt x="17314" y="8855"/>
                </a:cubicBezTo>
                <a:cubicBezTo>
                  <a:pt x="17336" y="9003"/>
                  <a:pt x="17331" y="9154"/>
                  <a:pt x="17363" y="9302"/>
                </a:cubicBezTo>
                <a:cubicBezTo>
                  <a:pt x="17400" y="9475"/>
                  <a:pt x="17448" y="9654"/>
                  <a:pt x="17487" y="9823"/>
                </a:cubicBezTo>
                <a:cubicBezTo>
                  <a:pt x="17506" y="9906"/>
                  <a:pt x="17499" y="9884"/>
                  <a:pt x="17462" y="9971"/>
                </a:cubicBezTo>
                <a:cubicBezTo>
                  <a:pt x="17381" y="9908"/>
                  <a:pt x="17285" y="9879"/>
                  <a:pt x="17190" y="9847"/>
                </a:cubicBezTo>
                <a:cubicBezTo>
                  <a:pt x="17034" y="9794"/>
                  <a:pt x="16875" y="9852"/>
                  <a:pt x="16718" y="9823"/>
                </a:cubicBezTo>
                <a:cubicBezTo>
                  <a:pt x="16481" y="9779"/>
                  <a:pt x="16268" y="9773"/>
                  <a:pt x="16024" y="9773"/>
                </a:cubicBezTo>
                <a:cubicBezTo>
                  <a:pt x="15767" y="9773"/>
                  <a:pt x="15529" y="9799"/>
                  <a:pt x="15280" y="9823"/>
                </a:cubicBezTo>
                <a:cubicBezTo>
                  <a:pt x="15055" y="9844"/>
                  <a:pt x="14880" y="9832"/>
                  <a:pt x="14660" y="9897"/>
                </a:cubicBezTo>
              </a:path>
              <a:path w="6202" h="4342">
                <a:moveTo>
                  <a:pt x="11708" y="11261"/>
                </a:moveTo>
                <a:cubicBezTo>
                  <a:pt x="11718" y="11329"/>
                  <a:pt x="11755" y="11367"/>
                  <a:pt x="11782" y="11435"/>
                </a:cubicBezTo>
                <a:cubicBezTo>
                  <a:pt x="11821" y="11534"/>
                  <a:pt x="11868" y="11670"/>
                  <a:pt x="11931" y="11757"/>
                </a:cubicBezTo>
                <a:cubicBezTo>
                  <a:pt x="12013" y="11869"/>
                  <a:pt x="12116" y="12022"/>
                  <a:pt x="12229" y="12105"/>
                </a:cubicBezTo>
                <a:cubicBezTo>
                  <a:pt x="12260" y="12128"/>
                  <a:pt x="12295" y="12146"/>
                  <a:pt x="12328" y="12154"/>
                </a:cubicBezTo>
              </a:path>
              <a:path w="6202" h="4342">
                <a:moveTo>
                  <a:pt x="12402" y="11311"/>
                </a:moveTo>
                <a:cubicBezTo>
                  <a:pt x="12395" y="11427"/>
                  <a:pt x="12392" y="11571"/>
                  <a:pt x="12353" y="11683"/>
                </a:cubicBezTo>
                <a:cubicBezTo>
                  <a:pt x="12299" y="11839"/>
                  <a:pt x="12259" y="11988"/>
                  <a:pt x="12229" y="12154"/>
                </a:cubicBezTo>
                <a:cubicBezTo>
                  <a:pt x="12196" y="12335"/>
                  <a:pt x="12167" y="12518"/>
                  <a:pt x="12154" y="12700"/>
                </a:cubicBezTo>
                <a:cubicBezTo>
                  <a:pt x="12148" y="12778"/>
                  <a:pt x="12129" y="12990"/>
                  <a:pt x="12179" y="12973"/>
                </a:cubicBezTo>
              </a:path>
              <a:path w="6202" h="4342">
                <a:moveTo>
                  <a:pt x="12725" y="11733"/>
                </a:moveTo>
                <a:cubicBezTo>
                  <a:pt x="12812" y="11733"/>
                  <a:pt x="12887" y="11754"/>
                  <a:pt x="12973" y="11757"/>
                </a:cubicBezTo>
                <a:cubicBezTo>
                  <a:pt x="13030" y="11759"/>
                  <a:pt x="13089" y="11757"/>
                  <a:pt x="13146" y="11757"/>
                </a:cubicBezTo>
              </a:path>
              <a:path w="6202" h="4342">
                <a:moveTo>
                  <a:pt x="12923" y="12105"/>
                </a:moveTo>
                <a:cubicBezTo>
                  <a:pt x="13053" y="12142"/>
                  <a:pt x="13123" y="12169"/>
                  <a:pt x="13246" y="12129"/>
                </a:cubicBezTo>
                <a:cubicBezTo>
                  <a:pt x="13312" y="12108"/>
                  <a:pt x="13312" y="12095"/>
                  <a:pt x="13370" y="12129"/>
                </a:cubicBezTo>
              </a:path>
              <a:path w="6202" h="4342">
                <a:moveTo>
                  <a:pt x="13345" y="12129"/>
                </a:moveTo>
                <a:cubicBezTo>
                  <a:pt x="13320" y="12105"/>
                  <a:pt x="13311" y="12097"/>
                  <a:pt x="13295" y="12080"/>
                </a:cubicBezTo>
              </a:path>
              <a:path w="6202" h="4342">
                <a:moveTo>
                  <a:pt x="13568" y="11385"/>
                </a:moveTo>
                <a:cubicBezTo>
                  <a:pt x="13676" y="11408"/>
                  <a:pt x="13828" y="11477"/>
                  <a:pt x="13940" y="11460"/>
                </a:cubicBezTo>
                <a:cubicBezTo>
                  <a:pt x="13965" y="11452"/>
                  <a:pt x="13990" y="11443"/>
                  <a:pt x="14015" y="11435"/>
                </a:cubicBezTo>
              </a:path>
              <a:path w="6202" h="4342">
                <a:moveTo>
                  <a:pt x="14238" y="11013"/>
                </a:moveTo>
                <a:cubicBezTo>
                  <a:pt x="14238" y="11225"/>
                  <a:pt x="14245" y="11381"/>
                  <a:pt x="14288" y="11584"/>
                </a:cubicBezTo>
                <a:cubicBezTo>
                  <a:pt x="14319" y="11729"/>
                  <a:pt x="14367" y="11885"/>
                  <a:pt x="14387" y="12030"/>
                </a:cubicBezTo>
                <a:cubicBezTo>
                  <a:pt x="14395" y="12085"/>
                  <a:pt x="14387" y="12148"/>
                  <a:pt x="14387" y="12204"/>
                </a:cubicBezTo>
              </a:path>
              <a:path w="6202" h="4342">
                <a:moveTo>
                  <a:pt x="11311" y="10939"/>
                </a:moveTo>
                <a:cubicBezTo>
                  <a:pt x="11333" y="11104"/>
                  <a:pt x="11370" y="11270"/>
                  <a:pt x="11385" y="11435"/>
                </a:cubicBezTo>
                <a:cubicBezTo>
                  <a:pt x="11398" y="11584"/>
                  <a:pt x="11421" y="11733"/>
                  <a:pt x="11435" y="11881"/>
                </a:cubicBezTo>
                <a:cubicBezTo>
                  <a:pt x="11442" y="11954"/>
                  <a:pt x="11435" y="12032"/>
                  <a:pt x="11435" y="12105"/>
                </a:cubicBezTo>
              </a:path>
              <a:path w="6202" h="4342">
                <a:moveTo>
                  <a:pt x="11509" y="10641"/>
                </a:moveTo>
                <a:cubicBezTo>
                  <a:pt x="11720" y="10559"/>
                  <a:pt x="11874" y="10567"/>
                  <a:pt x="12105" y="10567"/>
                </a:cubicBezTo>
                <a:cubicBezTo>
                  <a:pt x="12561" y="10567"/>
                  <a:pt x="13044" y="10531"/>
                  <a:pt x="13494" y="10592"/>
                </a:cubicBezTo>
                <a:cubicBezTo>
                  <a:pt x="13753" y="10627"/>
                  <a:pt x="13931" y="10602"/>
                  <a:pt x="14188" y="10592"/>
                </a:cubicBezTo>
                <a:cubicBezTo>
                  <a:pt x="14316" y="10587"/>
                  <a:pt x="14485" y="10597"/>
                  <a:pt x="14610" y="10567"/>
                </a:cubicBezTo>
                <a:cubicBezTo>
                  <a:pt x="14663" y="10554"/>
                  <a:pt x="14740" y="10524"/>
                  <a:pt x="14784" y="10517"/>
                </a:cubicBezTo>
                <a:cubicBezTo>
                  <a:pt x="14839" y="10692"/>
                  <a:pt x="14883" y="10877"/>
                  <a:pt x="14908" y="11063"/>
                </a:cubicBezTo>
                <a:cubicBezTo>
                  <a:pt x="14938" y="11290"/>
                  <a:pt x="14969" y="11528"/>
                  <a:pt x="14982" y="11757"/>
                </a:cubicBezTo>
                <a:cubicBezTo>
                  <a:pt x="15000" y="12081"/>
                  <a:pt x="15049" y="12534"/>
                  <a:pt x="14957" y="12849"/>
                </a:cubicBezTo>
                <a:cubicBezTo>
                  <a:pt x="14942" y="12902"/>
                  <a:pt x="14938" y="12938"/>
                  <a:pt x="14883" y="12973"/>
                </a:cubicBezTo>
                <a:cubicBezTo>
                  <a:pt x="14820" y="13013"/>
                  <a:pt x="14738" y="12997"/>
                  <a:pt x="14660" y="12998"/>
                </a:cubicBezTo>
                <a:cubicBezTo>
                  <a:pt x="14436" y="13002"/>
                  <a:pt x="14212" y="12997"/>
                  <a:pt x="13990" y="12973"/>
                </a:cubicBezTo>
                <a:cubicBezTo>
                  <a:pt x="13750" y="12947"/>
                  <a:pt x="13511" y="12942"/>
                  <a:pt x="13271" y="12923"/>
                </a:cubicBezTo>
                <a:cubicBezTo>
                  <a:pt x="12782" y="12884"/>
                  <a:pt x="12298" y="12812"/>
                  <a:pt x="11807" y="127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1600200" y="1143000"/>
            <a:ext cx="556272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Ink 4"/>
          <p:cNvSpPr/>
          <p:nvPr/>
        </p:nvSpPr>
        <p:spPr>
          <a:xfrm>
            <a:off x="1847880" y="5473800"/>
            <a:ext cx="936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5159" y="15205"/>
                </a:moveTo>
                <a:cubicBezTo>
                  <a:pt x="5151" y="15213"/>
                  <a:pt x="5143" y="15222"/>
                  <a:pt x="5135" y="152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5"/>
          <p:cNvSpPr/>
          <p:nvPr/>
        </p:nvSpPr>
        <p:spPr>
          <a:xfrm>
            <a:off x="3116160" y="1125360"/>
            <a:ext cx="2697120" cy="2303640"/>
          </a:xfrm>
          <a:custGeom>
            <a:avLst/>
            <a:gdLst/>
            <a:ahLst/>
            <a:rect l="l" t="t" r="r" b="b"/>
            <a:pathLst>
              <a:path w="7492" h="6401">
                <a:moveTo>
                  <a:pt x="12105" y="8334"/>
                </a:moveTo>
                <a:cubicBezTo>
                  <a:pt x="12073" y="8388"/>
                  <a:pt x="12075" y="8451"/>
                  <a:pt x="12154" y="8483"/>
                </a:cubicBezTo>
                <a:cubicBezTo>
                  <a:pt x="12196" y="8483"/>
                  <a:pt x="12204" y="8483"/>
                  <a:pt x="12229" y="8483"/>
                </a:cubicBezTo>
                <a:cubicBezTo>
                  <a:pt x="12292" y="8388"/>
                  <a:pt x="12312" y="8341"/>
                  <a:pt x="12179" y="8334"/>
                </a:cubicBezTo>
                <a:cubicBezTo>
                  <a:pt x="12064" y="8328"/>
                  <a:pt x="12102" y="8353"/>
                  <a:pt x="12030" y="8409"/>
                </a:cubicBezTo>
                <a:cubicBezTo>
                  <a:pt x="12022" y="8409"/>
                  <a:pt x="12013" y="8409"/>
                  <a:pt x="12005" y="8409"/>
                </a:cubicBezTo>
                <a:cubicBezTo>
                  <a:pt x="12036" y="8485"/>
                  <a:pt x="12047" y="8548"/>
                  <a:pt x="12129" y="8558"/>
                </a:cubicBezTo>
                <a:cubicBezTo>
                  <a:pt x="12189" y="8565"/>
                  <a:pt x="12235" y="8490"/>
                  <a:pt x="12254" y="8434"/>
                </a:cubicBezTo>
                <a:cubicBezTo>
                  <a:pt x="12254" y="8399"/>
                  <a:pt x="12249" y="8381"/>
                  <a:pt x="12229" y="8359"/>
                </a:cubicBezTo>
                <a:cubicBezTo>
                  <a:pt x="12121" y="8332"/>
                  <a:pt x="12130" y="8379"/>
                  <a:pt x="12055" y="8409"/>
                </a:cubicBezTo>
                <a:cubicBezTo>
                  <a:pt x="11997" y="8409"/>
                  <a:pt x="11980" y="8417"/>
                  <a:pt x="12005" y="8483"/>
                </a:cubicBezTo>
                <a:cubicBezTo>
                  <a:pt x="12056" y="8493"/>
                  <a:pt x="12123" y="8530"/>
                  <a:pt x="12179" y="8508"/>
                </a:cubicBezTo>
                <a:cubicBezTo>
                  <a:pt x="12239" y="8485"/>
                  <a:pt x="12256" y="8398"/>
                  <a:pt x="12229" y="8334"/>
                </a:cubicBezTo>
                <a:cubicBezTo>
                  <a:pt x="12220" y="8312"/>
                  <a:pt x="12073" y="8333"/>
                  <a:pt x="12055" y="8359"/>
                </a:cubicBezTo>
                <a:cubicBezTo>
                  <a:pt x="12012" y="8420"/>
                  <a:pt x="12038" y="8402"/>
                  <a:pt x="12080" y="8434"/>
                </a:cubicBezTo>
                <a:cubicBezTo>
                  <a:pt x="12125" y="8434"/>
                  <a:pt x="12302" y="8454"/>
                  <a:pt x="12229" y="8334"/>
                </a:cubicBezTo>
                <a:cubicBezTo>
                  <a:pt x="12201" y="8288"/>
                  <a:pt x="12098" y="8310"/>
                  <a:pt x="12055" y="8310"/>
                </a:cubicBezTo>
              </a:path>
              <a:path w="7492" h="6401">
                <a:moveTo>
                  <a:pt x="14139" y="8930"/>
                </a:moveTo>
                <a:cubicBezTo>
                  <a:pt x="14196" y="8930"/>
                  <a:pt x="14095" y="8947"/>
                  <a:pt x="14089" y="9004"/>
                </a:cubicBezTo>
                <a:cubicBezTo>
                  <a:pt x="14112" y="9009"/>
                  <a:pt x="14204" y="9040"/>
                  <a:pt x="14213" y="9004"/>
                </a:cubicBezTo>
                <a:cubicBezTo>
                  <a:pt x="14255" y="8838"/>
                  <a:pt x="14159" y="8912"/>
                  <a:pt x="14114" y="8930"/>
                </a:cubicBezTo>
                <a:cubicBezTo>
                  <a:pt x="14059" y="8952"/>
                  <a:pt x="13990" y="9001"/>
                  <a:pt x="14089" y="9079"/>
                </a:cubicBezTo>
                <a:cubicBezTo>
                  <a:pt x="14142" y="9120"/>
                  <a:pt x="14195" y="9056"/>
                  <a:pt x="14213" y="9029"/>
                </a:cubicBezTo>
                <a:cubicBezTo>
                  <a:pt x="14239" y="8978"/>
                  <a:pt x="14248" y="8964"/>
                  <a:pt x="14213" y="8930"/>
                </a:cubicBezTo>
                <a:cubicBezTo>
                  <a:pt x="14078" y="8930"/>
                  <a:pt x="14123" y="8937"/>
                  <a:pt x="14039" y="9004"/>
                </a:cubicBezTo>
                <a:cubicBezTo>
                  <a:pt x="14003" y="9032"/>
                  <a:pt x="14001" y="9090"/>
                  <a:pt x="14064" y="9103"/>
                </a:cubicBezTo>
                <a:cubicBezTo>
                  <a:pt x="14142" y="9119"/>
                  <a:pt x="14205" y="9102"/>
                  <a:pt x="14238" y="9029"/>
                </a:cubicBezTo>
                <a:cubicBezTo>
                  <a:pt x="14246" y="9004"/>
                  <a:pt x="14255" y="8979"/>
                  <a:pt x="14263" y="8954"/>
                </a:cubicBezTo>
                <a:cubicBezTo>
                  <a:pt x="14153" y="8901"/>
                  <a:pt x="14163" y="8952"/>
                  <a:pt x="14089" y="9004"/>
                </a:cubicBezTo>
                <a:cubicBezTo>
                  <a:pt x="14016" y="9055"/>
                  <a:pt x="14069" y="9079"/>
                  <a:pt x="14139" y="9079"/>
                </a:cubicBezTo>
                <a:cubicBezTo>
                  <a:pt x="14232" y="9079"/>
                  <a:pt x="14213" y="9003"/>
                  <a:pt x="14213" y="8930"/>
                </a:cubicBezTo>
              </a:path>
              <a:path w="7492" h="6401">
                <a:moveTo>
                  <a:pt x="10145" y="6945"/>
                </a:moveTo>
                <a:cubicBezTo>
                  <a:pt x="10191" y="6991"/>
                  <a:pt x="10212" y="7016"/>
                  <a:pt x="10269" y="6970"/>
                </a:cubicBezTo>
                <a:cubicBezTo>
                  <a:pt x="10277" y="6962"/>
                  <a:pt x="10286" y="6953"/>
                  <a:pt x="10294" y="6945"/>
                </a:cubicBezTo>
                <a:cubicBezTo>
                  <a:pt x="10260" y="6932"/>
                  <a:pt x="10167" y="6934"/>
                  <a:pt x="10145" y="6995"/>
                </a:cubicBezTo>
                <a:cubicBezTo>
                  <a:pt x="10145" y="7012"/>
                  <a:pt x="10145" y="7028"/>
                  <a:pt x="10145" y="7045"/>
                </a:cubicBezTo>
                <a:cubicBezTo>
                  <a:pt x="10187" y="7057"/>
                  <a:pt x="10250" y="7063"/>
                  <a:pt x="10269" y="6995"/>
                </a:cubicBezTo>
                <a:cubicBezTo>
                  <a:pt x="10303" y="6875"/>
                  <a:pt x="10111" y="6974"/>
                  <a:pt x="10096" y="7045"/>
                </a:cubicBezTo>
                <a:cubicBezTo>
                  <a:pt x="10087" y="7086"/>
                  <a:pt x="10184" y="7092"/>
                  <a:pt x="10195" y="7094"/>
                </a:cubicBezTo>
                <a:cubicBezTo>
                  <a:pt x="10232" y="7057"/>
                  <a:pt x="10283" y="7030"/>
                  <a:pt x="10269" y="6970"/>
                </a:cubicBezTo>
                <a:cubicBezTo>
                  <a:pt x="10250" y="6890"/>
                  <a:pt x="10150" y="6912"/>
                  <a:pt x="10096" y="6945"/>
                </a:cubicBezTo>
                <a:cubicBezTo>
                  <a:pt x="10056" y="6970"/>
                  <a:pt x="10115" y="7030"/>
                  <a:pt x="10096" y="6945"/>
                </a:cubicBezTo>
                <a:cubicBezTo>
                  <a:pt x="10096" y="6937"/>
                  <a:pt x="10096" y="6929"/>
                  <a:pt x="10096" y="6921"/>
                </a:cubicBezTo>
              </a:path>
              <a:path w="7492" h="6401">
                <a:moveTo>
                  <a:pt x="9153" y="3969"/>
                </a:moveTo>
                <a:cubicBezTo>
                  <a:pt x="9145" y="3977"/>
                  <a:pt x="9136" y="3986"/>
                  <a:pt x="9128" y="3994"/>
                </a:cubicBezTo>
                <a:cubicBezTo>
                  <a:pt x="9184" y="4021"/>
                  <a:pt x="9199" y="3984"/>
                  <a:pt x="9203" y="3919"/>
                </a:cubicBezTo>
                <a:cubicBezTo>
                  <a:pt x="9209" y="3819"/>
                  <a:pt x="9128" y="3904"/>
                  <a:pt x="9103" y="3944"/>
                </a:cubicBezTo>
                <a:cubicBezTo>
                  <a:pt x="9077" y="3998"/>
                  <a:pt x="9072" y="4018"/>
                  <a:pt x="9128" y="4043"/>
                </a:cubicBezTo>
                <a:cubicBezTo>
                  <a:pt x="9205" y="3982"/>
                  <a:pt x="9222" y="4000"/>
                  <a:pt x="9227" y="3894"/>
                </a:cubicBezTo>
                <a:cubicBezTo>
                  <a:pt x="9232" y="3788"/>
                  <a:pt x="9151" y="3814"/>
                  <a:pt x="9079" y="3845"/>
                </a:cubicBezTo>
                <a:cubicBezTo>
                  <a:pt x="9021" y="3869"/>
                  <a:pt x="9008" y="3888"/>
                  <a:pt x="8979" y="3845"/>
                </a:cubicBezTo>
              </a:path>
              <a:path w="7492" h="6401">
                <a:moveTo>
                  <a:pt x="8682" y="3125"/>
                </a:moveTo>
                <a:cubicBezTo>
                  <a:pt x="8675" y="3148"/>
                  <a:pt x="8659" y="3216"/>
                  <a:pt x="8657" y="3274"/>
                </a:cubicBezTo>
                <a:cubicBezTo>
                  <a:pt x="8655" y="3338"/>
                  <a:pt x="8663" y="3392"/>
                  <a:pt x="8682" y="3448"/>
                </a:cubicBezTo>
                <a:cubicBezTo>
                  <a:pt x="8713" y="3538"/>
                  <a:pt x="8713" y="3628"/>
                  <a:pt x="8731" y="3721"/>
                </a:cubicBezTo>
                <a:cubicBezTo>
                  <a:pt x="8745" y="3795"/>
                  <a:pt x="8742" y="3869"/>
                  <a:pt x="8756" y="3944"/>
                </a:cubicBezTo>
                <a:cubicBezTo>
                  <a:pt x="8766" y="4000"/>
                  <a:pt x="8787" y="4079"/>
                  <a:pt x="8806" y="4142"/>
                </a:cubicBezTo>
                <a:cubicBezTo>
                  <a:pt x="8823" y="4197"/>
                  <a:pt x="8834" y="4239"/>
                  <a:pt x="8855" y="4291"/>
                </a:cubicBezTo>
                <a:cubicBezTo>
                  <a:pt x="8881" y="4354"/>
                  <a:pt x="8903" y="4437"/>
                  <a:pt x="8930" y="4490"/>
                </a:cubicBezTo>
                <a:cubicBezTo>
                  <a:pt x="8954" y="4536"/>
                  <a:pt x="8982" y="4598"/>
                  <a:pt x="9004" y="4638"/>
                </a:cubicBezTo>
                <a:cubicBezTo>
                  <a:pt x="9030" y="4686"/>
                  <a:pt x="9057" y="4745"/>
                  <a:pt x="9079" y="4787"/>
                </a:cubicBezTo>
                <a:cubicBezTo>
                  <a:pt x="9109" y="4843"/>
                  <a:pt x="9154" y="4904"/>
                  <a:pt x="9178" y="4961"/>
                </a:cubicBezTo>
                <a:cubicBezTo>
                  <a:pt x="9203" y="5020"/>
                  <a:pt x="9223" y="5092"/>
                  <a:pt x="9252" y="5159"/>
                </a:cubicBezTo>
                <a:cubicBezTo>
                  <a:pt x="9287" y="5241"/>
                  <a:pt x="9301" y="5326"/>
                  <a:pt x="9327" y="5407"/>
                </a:cubicBezTo>
                <a:cubicBezTo>
                  <a:pt x="9344" y="5460"/>
                  <a:pt x="9373" y="5534"/>
                  <a:pt x="9401" y="5581"/>
                </a:cubicBezTo>
                <a:cubicBezTo>
                  <a:pt x="9439" y="5645"/>
                  <a:pt x="9493" y="5711"/>
                  <a:pt x="9525" y="5779"/>
                </a:cubicBezTo>
                <a:cubicBezTo>
                  <a:pt x="9548" y="5829"/>
                  <a:pt x="9526" y="5920"/>
                  <a:pt x="9550" y="5779"/>
                </a:cubicBezTo>
              </a:path>
              <a:path w="7492" h="6401">
                <a:moveTo>
                  <a:pt x="9029" y="3870"/>
                </a:moveTo>
                <a:cubicBezTo>
                  <a:pt x="9022" y="3877"/>
                  <a:pt x="8852" y="4018"/>
                  <a:pt x="8855" y="4043"/>
                </a:cubicBezTo>
                <a:cubicBezTo>
                  <a:pt x="8863" y="4051"/>
                  <a:pt x="8872" y="4060"/>
                  <a:pt x="8880" y="4068"/>
                </a:cubicBezTo>
                <a:cubicBezTo>
                  <a:pt x="8943" y="4060"/>
                  <a:pt x="9055" y="4042"/>
                  <a:pt x="9103" y="3994"/>
                </a:cubicBezTo>
                <a:cubicBezTo>
                  <a:pt x="9130" y="3967"/>
                  <a:pt x="9131" y="3924"/>
                  <a:pt x="9153" y="3894"/>
                </a:cubicBezTo>
                <a:cubicBezTo>
                  <a:pt x="9088" y="3830"/>
                  <a:pt x="9075" y="3882"/>
                  <a:pt x="9004" y="3944"/>
                </a:cubicBezTo>
                <a:cubicBezTo>
                  <a:pt x="8963" y="3985"/>
                  <a:pt x="8955" y="3993"/>
                  <a:pt x="8930" y="4018"/>
                </a:cubicBezTo>
                <a:cubicBezTo>
                  <a:pt x="8982" y="4082"/>
                  <a:pt x="9018" y="4071"/>
                  <a:pt x="9103" y="4043"/>
                </a:cubicBezTo>
                <a:cubicBezTo>
                  <a:pt x="9182" y="4017"/>
                  <a:pt x="9194" y="3941"/>
                  <a:pt x="9203" y="3870"/>
                </a:cubicBezTo>
                <a:cubicBezTo>
                  <a:pt x="9122" y="3870"/>
                  <a:pt x="9056" y="3890"/>
                  <a:pt x="8979" y="3894"/>
                </a:cubicBezTo>
                <a:cubicBezTo>
                  <a:pt x="8891" y="3899"/>
                  <a:pt x="8913" y="3872"/>
                  <a:pt x="8905" y="3795"/>
                </a:cubicBezTo>
              </a:path>
              <a:path w="7492" h="6401">
                <a:moveTo>
                  <a:pt x="8880" y="3572"/>
                </a:moveTo>
                <a:cubicBezTo>
                  <a:pt x="8858" y="3528"/>
                  <a:pt x="8855" y="3516"/>
                  <a:pt x="8830" y="3497"/>
                </a:cubicBezTo>
                <a:cubicBezTo>
                  <a:pt x="8835" y="3559"/>
                  <a:pt x="8846" y="3621"/>
                  <a:pt x="8855" y="3671"/>
                </a:cubicBezTo>
                <a:cubicBezTo>
                  <a:pt x="8867" y="3742"/>
                  <a:pt x="8885" y="3801"/>
                  <a:pt x="8905" y="3870"/>
                </a:cubicBezTo>
                <a:cubicBezTo>
                  <a:pt x="8925" y="3939"/>
                  <a:pt x="8932" y="4025"/>
                  <a:pt x="8954" y="4093"/>
                </a:cubicBezTo>
                <a:cubicBezTo>
                  <a:pt x="8987" y="4195"/>
                  <a:pt x="9039" y="4291"/>
                  <a:pt x="9079" y="4390"/>
                </a:cubicBezTo>
                <a:cubicBezTo>
                  <a:pt x="9112" y="4473"/>
                  <a:pt x="9145" y="4555"/>
                  <a:pt x="9178" y="4638"/>
                </a:cubicBezTo>
                <a:cubicBezTo>
                  <a:pt x="9208" y="4714"/>
                  <a:pt x="9246" y="4786"/>
                  <a:pt x="9277" y="4862"/>
                </a:cubicBezTo>
                <a:cubicBezTo>
                  <a:pt x="9317" y="4958"/>
                  <a:pt x="9367" y="5061"/>
                  <a:pt x="9401" y="5159"/>
                </a:cubicBezTo>
                <a:cubicBezTo>
                  <a:pt x="9445" y="5285"/>
                  <a:pt x="9487" y="5385"/>
                  <a:pt x="9550" y="5507"/>
                </a:cubicBezTo>
                <a:cubicBezTo>
                  <a:pt x="9622" y="5645"/>
                  <a:pt x="9673" y="5794"/>
                  <a:pt x="9748" y="5928"/>
                </a:cubicBezTo>
                <a:cubicBezTo>
                  <a:pt x="9795" y="6012"/>
                  <a:pt x="9847" y="6093"/>
                  <a:pt x="9897" y="6176"/>
                </a:cubicBezTo>
                <a:cubicBezTo>
                  <a:pt x="9931" y="6233"/>
                  <a:pt x="9960" y="6293"/>
                  <a:pt x="9996" y="6350"/>
                </a:cubicBezTo>
                <a:cubicBezTo>
                  <a:pt x="10054" y="6442"/>
                  <a:pt x="10114" y="6530"/>
                  <a:pt x="10170" y="6623"/>
                </a:cubicBezTo>
                <a:cubicBezTo>
                  <a:pt x="10210" y="6689"/>
                  <a:pt x="10254" y="6754"/>
                  <a:pt x="10294" y="6821"/>
                </a:cubicBezTo>
                <a:cubicBezTo>
                  <a:pt x="10324" y="6872"/>
                  <a:pt x="10364" y="6920"/>
                  <a:pt x="10393" y="6970"/>
                </a:cubicBezTo>
                <a:cubicBezTo>
                  <a:pt x="10434" y="7042"/>
                  <a:pt x="10482" y="7121"/>
                  <a:pt x="10517" y="7193"/>
                </a:cubicBezTo>
                <a:cubicBezTo>
                  <a:pt x="10542" y="7243"/>
                  <a:pt x="10556" y="7288"/>
                  <a:pt x="10592" y="7342"/>
                </a:cubicBezTo>
                <a:cubicBezTo>
                  <a:pt x="10629" y="7399"/>
                  <a:pt x="10671" y="7437"/>
                  <a:pt x="10716" y="7491"/>
                </a:cubicBezTo>
                <a:cubicBezTo>
                  <a:pt x="10782" y="7570"/>
                  <a:pt x="10845" y="7662"/>
                  <a:pt x="10914" y="7739"/>
                </a:cubicBezTo>
                <a:cubicBezTo>
                  <a:pt x="10950" y="7779"/>
                  <a:pt x="10997" y="7831"/>
                  <a:pt x="11038" y="7863"/>
                </a:cubicBezTo>
                <a:cubicBezTo>
                  <a:pt x="11085" y="7900"/>
                  <a:pt x="11141" y="7922"/>
                  <a:pt x="11187" y="7962"/>
                </a:cubicBezTo>
                <a:cubicBezTo>
                  <a:pt x="11238" y="8006"/>
                  <a:pt x="11273" y="8046"/>
                  <a:pt x="11336" y="8086"/>
                </a:cubicBezTo>
                <a:cubicBezTo>
                  <a:pt x="11401" y="8128"/>
                  <a:pt x="11466" y="8173"/>
                  <a:pt x="11534" y="8210"/>
                </a:cubicBezTo>
                <a:cubicBezTo>
                  <a:pt x="11603" y="8247"/>
                  <a:pt x="11681" y="8286"/>
                  <a:pt x="11757" y="8310"/>
                </a:cubicBezTo>
                <a:cubicBezTo>
                  <a:pt x="11830" y="8333"/>
                  <a:pt x="11936" y="8395"/>
                  <a:pt x="11981" y="8409"/>
                </a:cubicBezTo>
                <a:cubicBezTo>
                  <a:pt x="12031" y="8424"/>
                  <a:pt x="12082" y="8415"/>
                  <a:pt x="12129" y="8434"/>
                </a:cubicBezTo>
                <a:cubicBezTo>
                  <a:pt x="12175" y="8453"/>
                  <a:pt x="12265" y="8483"/>
                  <a:pt x="12328" y="8508"/>
                </a:cubicBezTo>
                <a:cubicBezTo>
                  <a:pt x="12352" y="8556"/>
                  <a:pt x="12358" y="8573"/>
                  <a:pt x="12402" y="8558"/>
                </a:cubicBezTo>
              </a:path>
              <a:path w="7492" h="6401">
                <a:moveTo>
                  <a:pt x="12055" y="8310"/>
                </a:moveTo>
                <a:cubicBezTo>
                  <a:pt x="12100" y="8325"/>
                  <a:pt x="12156" y="8334"/>
                  <a:pt x="12204" y="8359"/>
                </a:cubicBezTo>
                <a:cubicBezTo>
                  <a:pt x="12261" y="8389"/>
                  <a:pt x="12338" y="8390"/>
                  <a:pt x="12402" y="8434"/>
                </a:cubicBezTo>
                <a:cubicBezTo>
                  <a:pt x="12481" y="8487"/>
                  <a:pt x="12536" y="8477"/>
                  <a:pt x="12626" y="8508"/>
                </a:cubicBezTo>
                <a:cubicBezTo>
                  <a:pt x="12723" y="8541"/>
                  <a:pt x="12843" y="8588"/>
                  <a:pt x="12923" y="8632"/>
                </a:cubicBezTo>
                <a:cubicBezTo>
                  <a:pt x="13010" y="8680"/>
                  <a:pt x="13057" y="8685"/>
                  <a:pt x="13146" y="8706"/>
                </a:cubicBezTo>
                <a:cubicBezTo>
                  <a:pt x="13199" y="8718"/>
                  <a:pt x="13351" y="8759"/>
                  <a:pt x="13395" y="8781"/>
                </a:cubicBezTo>
                <a:cubicBezTo>
                  <a:pt x="13496" y="8833"/>
                  <a:pt x="13510" y="8832"/>
                  <a:pt x="13618" y="8855"/>
                </a:cubicBezTo>
                <a:cubicBezTo>
                  <a:pt x="13731" y="8879"/>
                  <a:pt x="13791" y="8922"/>
                  <a:pt x="13915" y="8930"/>
                </a:cubicBezTo>
                <a:cubicBezTo>
                  <a:pt x="14019" y="8936"/>
                  <a:pt x="14068" y="8982"/>
                  <a:pt x="14163" y="9004"/>
                </a:cubicBezTo>
                <a:cubicBezTo>
                  <a:pt x="14242" y="9022"/>
                  <a:pt x="14322" y="9062"/>
                  <a:pt x="14387" y="9079"/>
                </a:cubicBezTo>
                <a:cubicBezTo>
                  <a:pt x="14473" y="9101"/>
                  <a:pt x="14577" y="9071"/>
                  <a:pt x="14660" y="9103"/>
                </a:cubicBezTo>
                <a:cubicBezTo>
                  <a:pt x="14766" y="9144"/>
                  <a:pt x="14814" y="9153"/>
                  <a:pt x="14932" y="9153"/>
                </a:cubicBezTo>
                <a:cubicBezTo>
                  <a:pt x="15011" y="9153"/>
                  <a:pt x="15078" y="9172"/>
                  <a:pt x="15156" y="9178"/>
                </a:cubicBezTo>
                <a:cubicBezTo>
                  <a:pt x="15250" y="9185"/>
                  <a:pt x="15294" y="9209"/>
                  <a:pt x="15379" y="9227"/>
                </a:cubicBezTo>
                <a:cubicBezTo>
                  <a:pt x="15474" y="9247"/>
                  <a:pt x="15549" y="9237"/>
                  <a:pt x="15602" y="9178"/>
                </a:cubicBezTo>
                <a:cubicBezTo>
                  <a:pt x="15602" y="9170"/>
                  <a:pt x="15602" y="9161"/>
                  <a:pt x="15602" y="9153"/>
                </a:cubicBezTo>
              </a:path>
              <a:path w="7492" h="6401">
                <a:moveTo>
                  <a:pt x="15478" y="9029"/>
                </a:moveTo>
                <a:cubicBezTo>
                  <a:pt x="15540" y="9091"/>
                  <a:pt x="15616" y="9127"/>
                  <a:pt x="15701" y="9153"/>
                </a:cubicBezTo>
                <a:cubicBezTo>
                  <a:pt x="15796" y="9182"/>
                  <a:pt x="15855" y="9202"/>
                  <a:pt x="15949" y="9227"/>
                </a:cubicBezTo>
                <a:cubicBezTo>
                  <a:pt x="16027" y="9248"/>
                  <a:pt x="16078" y="9269"/>
                  <a:pt x="16148" y="9227"/>
                </a:cubicBezTo>
                <a:cubicBezTo>
                  <a:pt x="16049" y="9227"/>
                  <a:pt x="16012" y="9263"/>
                  <a:pt x="15925" y="9302"/>
                </a:cubicBezTo>
                <a:cubicBezTo>
                  <a:pt x="15825" y="9347"/>
                  <a:pt x="15741" y="9395"/>
                  <a:pt x="15652" y="9451"/>
                </a:cubicBezTo>
                <a:cubicBezTo>
                  <a:pt x="15601" y="9483"/>
                  <a:pt x="15590" y="9472"/>
                  <a:pt x="15577" y="95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6"/>
          <p:cNvSpPr/>
          <p:nvPr/>
        </p:nvSpPr>
        <p:spPr>
          <a:xfrm>
            <a:off x="3116160" y="1204920"/>
            <a:ext cx="322200" cy="304920"/>
          </a:xfrm>
          <a:custGeom>
            <a:avLst/>
            <a:gdLst/>
            <a:ahLst/>
            <a:rect l="l" t="t" r="r" b="b"/>
            <a:pathLst>
              <a:path w="894" h="844">
                <a:moveTo>
                  <a:pt x="8682" y="4192"/>
                </a:moveTo>
                <a:cubicBezTo>
                  <a:pt x="8649" y="4082"/>
                  <a:pt x="8670" y="4026"/>
                  <a:pt x="8682" y="3919"/>
                </a:cubicBezTo>
                <a:cubicBezTo>
                  <a:pt x="8691" y="3842"/>
                  <a:pt x="8631" y="3427"/>
                  <a:pt x="8706" y="3398"/>
                </a:cubicBezTo>
                <a:cubicBezTo>
                  <a:pt x="8812" y="3357"/>
                  <a:pt x="8990" y="3356"/>
                  <a:pt x="9103" y="3349"/>
                </a:cubicBezTo>
                <a:cubicBezTo>
                  <a:pt x="9251" y="3339"/>
                  <a:pt x="9402" y="3349"/>
                  <a:pt x="9550" y="33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7"/>
          <p:cNvSpPr/>
          <p:nvPr/>
        </p:nvSpPr>
        <p:spPr>
          <a:xfrm>
            <a:off x="1847880" y="3562200"/>
            <a:ext cx="162000" cy="27000"/>
          </a:xfrm>
          <a:custGeom>
            <a:avLst/>
            <a:gdLst/>
            <a:ahLst/>
            <a:rect l="l" t="t" r="r" b="b"/>
            <a:pathLst>
              <a:path w="447" h="75">
                <a:moveTo>
                  <a:pt x="5135" y="9897"/>
                </a:moveTo>
                <a:cubicBezTo>
                  <a:pt x="5232" y="9897"/>
                  <a:pt x="5270" y="9943"/>
                  <a:pt x="5358" y="9971"/>
                </a:cubicBezTo>
                <a:cubicBezTo>
                  <a:pt x="5419" y="9990"/>
                  <a:pt x="5517" y="9971"/>
                  <a:pt x="5581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8"/>
          <p:cNvSpPr/>
          <p:nvPr/>
        </p:nvSpPr>
        <p:spPr>
          <a:xfrm>
            <a:off x="2276640" y="3589200"/>
            <a:ext cx="358560" cy="27000"/>
          </a:xfrm>
          <a:custGeom>
            <a:avLst/>
            <a:gdLst/>
            <a:ahLst/>
            <a:rect l="l" t="t" r="r" b="b"/>
            <a:pathLst>
              <a:path w="993" h="76">
                <a:moveTo>
                  <a:pt x="6325" y="9996"/>
                </a:moveTo>
                <a:cubicBezTo>
                  <a:pt x="6485" y="10065"/>
                  <a:pt x="6447" y="10012"/>
                  <a:pt x="6598" y="9996"/>
                </a:cubicBezTo>
                <a:cubicBezTo>
                  <a:pt x="6654" y="9990"/>
                  <a:pt x="6716" y="9996"/>
                  <a:pt x="6772" y="9996"/>
                </a:cubicBezTo>
              </a:path>
              <a:path w="993" h="76">
                <a:moveTo>
                  <a:pt x="6995" y="9971"/>
                </a:moveTo>
                <a:cubicBezTo>
                  <a:pt x="7102" y="9971"/>
                  <a:pt x="7210" y="9971"/>
                  <a:pt x="7317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9"/>
          <p:cNvSpPr/>
          <p:nvPr/>
        </p:nvSpPr>
        <p:spPr>
          <a:xfrm>
            <a:off x="2813040" y="3571920"/>
            <a:ext cx="330120" cy="17280"/>
          </a:xfrm>
          <a:custGeom>
            <a:avLst/>
            <a:gdLst/>
            <a:ahLst/>
            <a:rect l="l" t="t" r="r" b="b"/>
            <a:pathLst>
              <a:path w="919" h="50">
                <a:moveTo>
                  <a:pt x="7813" y="9922"/>
                </a:moveTo>
                <a:cubicBezTo>
                  <a:pt x="7934" y="9958"/>
                  <a:pt x="7956" y="9971"/>
                  <a:pt x="8062" y="9971"/>
                </a:cubicBezTo>
              </a:path>
              <a:path w="919" h="50">
                <a:moveTo>
                  <a:pt x="8409" y="9922"/>
                </a:moveTo>
                <a:cubicBezTo>
                  <a:pt x="8516" y="9922"/>
                  <a:pt x="8624" y="9922"/>
                  <a:pt x="8731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0"/>
          <p:cNvSpPr/>
          <p:nvPr/>
        </p:nvSpPr>
        <p:spPr>
          <a:xfrm>
            <a:off x="3367080" y="3571920"/>
            <a:ext cx="133200" cy="1440"/>
          </a:xfrm>
          <a:custGeom>
            <a:avLst/>
            <a:gdLst/>
            <a:ahLst/>
            <a:rect l="l" t="t" r="r" b="b"/>
            <a:pathLst>
              <a:path w="373" h="1">
                <a:moveTo>
                  <a:pt x="9351" y="9922"/>
                </a:moveTo>
                <a:cubicBezTo>
                  <a:pt x="9475" y="9922"/>
                  <a:pt x="9599" y="9922"/>
                  <a:pt x="9723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1"/>
          <p:cNvSpPr/>
          <p:nvPr/>
        </p:nvSpPr>
        <p:spPr>
          <a:xfrm>
            <a:off x="3670200" y="3562200"/>
            <a:ext cx="169920" cy="972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0195" y="9897"/>
                </a:moveTo>
                <a:cubicBezTo>
                  <a:pt x="10307" y="9903"/>
                  <a:pt x="10405" y="9922"/>
                  <a:pt x="10517" y="9922"/>
                </a:cubicBezTo>
                <a:cubicBezTo>
                  <a:pt x="10592" y="9922"/>
                  <a:pt x="10616" y="9922"/>
                  <a:pt x="10666" y="99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2"/>
          <p:cNvSpPr/>
          <p:nvPr/>
        </p:nvSpPr>
        <p:spPr>
          <a:xfrm>
            <a:off x="4098960" y="3562200"/>
            <a:ext cx="179280" cy="1800"/>
          </a:xfrm>
          <a:custGeom>
            <a:avLst/>
            <a:gdLst/>
            <a:ahLst/>
            <a:rect l="l" t="t" r="r" b="b"/>
            <a:pathLst>
              <a:path w="497" h="1">
                <a:moveTo>
                  <a:pt x="11385" y="9897"/>
                </a:moveTo>
                <a:cubicBezTo>
                  <a:pt x="11550" y="9897"/>
                  <a:pt x="11716" y="9897"/>
                  <a:pt x="11881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3"/>
          <p:cNvSpPr/>
          <p:nvPr/>
        </p:nvSpPr>
        <p:spPr>
          <a:xfrm>
            <a:off x="4446720" y="3562200"/>
            <a:ext cx="161640" cy="1800"/>
          </a:xfrm>
          <a:custGeom>
            <a:avLst/>
            <a:gdLst/>
            <a:ahLst/>
            <a:rect l="l" t="t" r="r" b="b"/>
            <a:pathLst>
              <a:path w="447" h="1">
                <a:moveTo>
                  <a:pt x="12353" y="9897"/>
                </a:moveTo>
                <a:cubicBezTo>
                  <a:pt x="12502" y="9897"/>
                  <a:pt x="12650" y="9897"/>
                  <a:pt x="12799" y="98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4"/>
          <p:cNvSpPr/>
          <p:nvPr/>
        </p:nvSpPr>
        <p:spPr>
          <a:xfrm>
            <a:off x="4776840" y="3537000"/>
            <a:ext cx="501480" cy="7920"/>
          </a:xfrm>
          <a:custGeom>
            <a:avLst/>
            <a:gdLst/>
            <a:ahLst/>
            <a:rect l="l" t="t" r="r" b="b"/>
            <a:pathLst>
              <a:path w="1390" h="25">
                <a:moveTo>
                  <a:pt x="13271" y="9847"/>
                </a:moveTo>
                <a:cubicBezTo>
                  <a:pt x="13430" y="9847"/>
                  <a:pt x="13589" y="9860"/>
                  <a:pt x="13742" y="9823"/>
                </a:cubicBezTo>
              </a:path>
              <a:path w="1390" h="25">
                <a:moveTo>
                  <a:pt x="14139" y="9823"/>
                </a:moveTo>
                <a:cubicBezTo>
                  <a:pt x="14274" y="9823"/>
                  <a:pt x="14382" y="9843"/>
                  <a:pt x="14511" y="9847"/>
                </a:cubicBezTo>
                <a:cubicBezTo>
                  <a:pt x="14585" y="9847"/>
                  <a:pt x="14610" y="9847"/>
                  <a:pt x="14660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15"/>
          <p:cNvSpPr/>
          <p:nvPr/>
        </p:nvSpPr>
        <p:spPr>
          <a:xfrm>
            <a:off x="5491080" y="3571920"/>
            <a:ext cx="162000" cy="17280"/>
          </a:xfrm>
          <a:custGeom>
            <a:avLst/>
            <a:gdLst/>
            <a:ahLst/>
            <a:rect l="l" t="t" r="r" b="b"/>
            <a:pathLst>
              <a:path w="447" h="50">
                <a:moveTo>
                  <a:pt x="15255" y="9922"/>
                </a:moveTo>
                <a:cubicBezTo>
                  <a:pt x="15427" y="9956"/>
                  <a:pt x="15535" y="9971"/>
                  <a:pt x="15701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16"/>
          <p:cNvSpPr/>
          <p:nvPr/>
        </p:nvSpPr>
        <p:spPr>
          <a:xfrm>
            <a:off x="5857920" y="3589200"/>
            <a:ext cx="125280" cy="1800"/>
          </a:xfrm>
          <a:custGeom>
            <a:avLst/>
            <a:gdLst/>
            <a:ahLst/>
            <a:rect l="l" t="t" r="r" b="b"/>
            <a:pathLst>
              <a:path w="348" h="1">
                <a:moveTo>
                  <a:pt x="16272" y="9971"/>
                </a:moveTo>
                <a:cubicBezTo>
                  <a:pt x="16388" y="9971"/>
                  <a:pt x="16503" y="9971"/>
                  <a:pt x="16619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17"/>
          <p:cNvSpPr/>
          <p:nvPr/>
        </p:nvSpPr>
        <p:spPr>
          <a:xfrm>
            <a:off x="6180120" y="3544920"/>
            <a:ext cx="133200" cy="1440"/>
          </a:xfrm>
          <a:custGeom>
            <a:avLst/>
            <a:gdLst/>
            <a:ahLst/>
            <a:rect l="l" t="t" r="r" b="b"/>
            <a:pathLst>
              <a:path w="373" h="1">
                <a:moveTo>
                  <a:pt x="17165" y="9847"/>
                </a:moveTo>
                <a:cubicBezTo>
                  <a:pt x="17289" y="9847"/>
                  <a:pt x="17413" y="9847"/>
                  <a:pt x="17537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18"/>
          <p:cNvSpPr/>
          <p:nvPr/>
        </p:nvSpPr>
        <p:spPr>
          <a:xfrm>
            <a:off x="6491160" y="3537000"/>
            <a:ext cx="233640" cy="7920"/>
          </a:xfrm>
          <a:custGeom>
            <a:avLst/>
            <a:gdLst/>
            <a:ahLst/>
            <a:rect l="l" t="t" r="r" b="b"/>
            <a:pathLst>
              <a:path w="646" h="25">
                <a:moveTo>
                  <a:pt x="18033" y="9847"/>
                </a:moveTo>
                <a:cubicBezTo>
                  <a:pt x="18234" y="9847"/>
                  <a:pt x="18435" y="9850"/>
                  <a:pt x="18628" y="9823"/>
                </a:cubicBezTo>
                <a:cubicBezTo>
                  <a:pt x="18645" y="9823"/>
                  <a:pt x="18661" y="9823"/>
                  <a:pt x="18678" y="9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19"/>
          <p:cNvSpPr/>
          <p:nvPr/>
        </p:nvSpPr>
        <p:spPr>
          <a:xfrm>
            <a:off x="2820960" y="1374840"/>
            <a:ext cx="152280" cy="3706920"/>
          </a:xfrm>
          <a:custGeom>
            <a:avLst/>
            <a:gdLst/>
            <a:ahLst/>
            <a:rect l="l" t="t" r="r" b="b"/>
            <a:pathLst>
              <a:path w="423" h="10295">
                <a:moveTo>
                  <a:pt x="8111" y="3820"/>
                </a:moveTo>
                <a:cubicBezTo>
                  <a:pt x="8111" y="3837"/>
                  <a:pt x="8111" y="3853"/>
                  <a:pt x="8111" y="3870"/>
                </a:cubicBezTo>
              </a:path>
              <a:path w="423" h="10295">
                <a:moveTo>
                  <a:pt x="8037" y="4341"/>
                </a:moveTo>
                <a:cubicBezTo>
                  <a:pt x="8018" y="4475"/>
                  <a:pt x="7992" y="4497"/>
                  <a:pt x="8037" y="4564"/>
                </a:cubicBezTo>
              </a:path>
              <a:path w="423" h="10295">
                <a:moveTo>
                  <a:pt x="8111" y="4986"/>
                </a:moveTo>
                <a:cubicBezTo>
                  <a:pt x="8093" y="5085"/>
                  <a:pt x="8086" y="5161"/>
                  <a:pt x="8086" y="5259"/>
                </a:cubicBezTo>
              </a:path>
              <a:path w="423" h="10295">
                <a:moveTo>
                  <a:pt x="8136" y="5556"/>
                </a:moveTo>
                <a:cubicBezTo>
                  <a:pt x="8114" y="5699"/>
                  <a:pt x="8120" y="5731"/>
                  <a:pt x="8136" y="5854"/>
                </a:cubicBezTo>
              </a:path>
              <a:path w="423" h="10295">
                <a:moveTo>
                  <a:pt x="8136" y="6449"/>
                </a:moveTo>
                <a:cubicBezTo>
                  <a:pt x="8117" y="6564"/>
                  <a:pt x="8102" y="6596"/>
                  <a:pt x="8136" y="6697"/>
                </a:cubicBezTo>
              </a:path>
              <a:path w="423" h="10295">
                <a:moveTo>
                  <a:pt x="8136" y="7317"/>
                </a:moveTo>
                <a:cubicBezTo>
                  <a:pt x="8117" y="7490"/>
                  <a:pt x="8090" y="7548"/>
                  <a:pt x="8161" y="7689"/>
                </a:cubicBezTo>
                <a:cubicBezTo>
                  <a:pt x="8183" y="7733"/>
                  <a:pt x="8186" y="7744"/>
                  <a:pt x="8210" y="7764"/>
                </a:cubicBezTo>
              </a:path>
              <a:path w="423" h="10295">
                <a:moveTo>
                  <a:pt x="8260" y="7962"/>
                </a:moveTo>
                <a:cubicBezTo>
                  <a:pt x="8228" y="8124"/>
                  <a:pt x="8167" y="8315"/>
                  <a:pt x="8161" y="8483"/>
                </a:cubicBezTo>
                <a:cubicBezTo>
                  <a:pt x="8161" y="8559"/>
                  <a:pt x="8161" y="8585"/>
                  <a:pt x="8186" y="8632"/>
                </a:cubicBezTo>
              </a:path>
              <a:path w="423" h="10295">
                <a:moveTo>
                  <a:pt x="8210" y="8855"/>
                </a:moveTo>
                <a:cubicBezTo>
                  <a:pt x="8183" y="9009"/>
                  <a:pt x="8117" y="9213"/>
                  <a:pt x="8111" y="9376"/>
                </a:cubicBezTo>
                <a:cubicBezTo>
                  <a:pt x="8111" y="9434"/>
                  <a:pt x="8094" y="9459"/>
                  <a:pt x="8136" y="9451"/>
                </a:cubicBezTo>
              </a:path>
              <a:path w="423" h="10295">
                <a:moveTo>
                  <a:pt x="8136" y="9971"/>
                </a:moveTo>
                <a:cubicBezTo>
                  <a:pt x="8122" y="10044"/>
                  <a:pt x="8067" y="10185"/>
                  <a:pt x="8086" y="10269"/>
                </a:cubicBezTo>
                <a:cubicBezTo>
                  <a:pt x="8094" y="10294"/>
                  <a:pt x="8103" y="10319"/>
                  <a:pt x="8111" y="10344"/>
                </a:cubicBezTo>
              </a:path>
              <a:path w="423" h="10295">
                <a:moveTo>
                  <a:pt x="8111" y="10939"/>
                </a:moveTo>
                <a:cubicBezTo>
                  <a:pt x="8088" y="11085"/>
                  <a:pt x="8025" y="11264"/>
                  <a:pt x="8086" y="11410"/>
                </a:cubicBezTo>
                <a:cubicBezTo>
                  <a:pt x="8094" y="11427"/>
                  <a:pt x="8103" y="11443"/>
                  <a:pt x="8111" y="11460"/>
                </a:cubicBezTo>
              </a:path>
              <a:path w="423" h="10295">
                <a:moveTo>
                  <a:pt x="8186" y="11931"/>
                </a:moveTo>
                <a:cubicBezTo>
                  <a:pt x="8156" y="12038"/>
                  <a:pt x="8008" y="12392"/>
                  <a:pt x="8037" y="12551"/>
                </a:cubicBezTo>
                <a:cubicBezTo>
                  <a:pt x="8062" y="12601"/>
                  <a:pt x="8070" y="12617"/>
                  <a:pt x="8086" y="12650"/>
                </a:cubicBezTo>
              </a:path>
              <a:path w="423" h="10295">
                <a:moveTo>
                  <a:pt x="8086" y="13097"/>
                </a:moveTo>
                <a:cubicBezTo>
                  <a:pt x="8050" y="13198"/>
                  <a:pt x="7923" y="13449"/>
                  <a:pt x="7938" y="13568"/>
                </a:cubicBezTo>
                <a:cubicBezTo>
                  <a:pt x="7946" y="13629"/>
                  <a:pt x="8019" y="13663"/>
                  <a:pt x="8037" y="13717"/>
                </a:cubicBezTo>
                <a:cubicBezTo>
                  <a:pt x="8064" y="13797"/>
                  <a:pt x="7962" y="13900"/>
                  <a:pt x="7938" y="13965"/>
                </a:cubicBezTo>
                <a:cubicBezTo>
                  <a:pt x="7897" y="14074"/>
                  <a:pt x="7934" y="14086"/>
                  <a:pt x="7838" y="14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20"/>
          <p:cNvSpPr/>
          <p:nvPr/>
        </p:nvSpPr>
        <p:spPr>
          <a:xfrm>
            <a:off x="1170000" y="3911760"/>
            <a:ext cx="1374840" cy="1231920"/>
          </a:xfrm>
          <a:custGeom>
            <a:avLst/>
            <a:gdLst/>
            <a:ahLst/>
            <a:rect l="l" t="t" r="r" b="b"/>
            <a:pathLst>
              <a:path w="3821" h="3425">
                <a:moveTo>
                  <a:pt x="6226" y="12849"/>
                </a:moveTo>
                <a:cubicBezTo>
                  <a:pt x="6198" y="12853"/>
                  <a:pt x="6046" y="12874"/>
                  <a:pt x="6102" y="12948"/>
                </a:cubicBezTo>
                <a:cubicBezTo>
                  <a:pt x="6154" y="13017"/>
                  <a:pt x="6195" y="12936"/>
                  <a:pt x="6176" y="12898"/>
                </a:cubicBezTo>
                <a:cubicBezTo>
                  <a:pt x="6093" y="12909"/>
                  <a:pt x="6098" y="12898"/>
                  <a:pt x="6077" y="12973"/>
                </a:cubicBezTo>
                <a:cubicBezTo>
                  <a:pt x="6146" y="12999"/>
                  <a:pt x="6203" y="13020"/>
                  <a:pt x="6226" y="12923"/>
                </a:cubicBezTo>
                <a:cubicBezTo>
                  <a:pt x="6226" y="12907"/>
                  <a:pt x="6226" y="12890"/>
                  <a:pt x="6226" y="12874"/>
                </a:cubicBezTo>
                <a:cubicBezTo>
                  <a:pt x="6179" y="12846"/>
                  <a:pt x="6128" y="12849"/>
                  <a:pt x="6077" y="12874"/>
                </a:cubicBezTo>
                <a:cubicBezTo>
                  <a:pt x="5977" y="12922"/>
                  <a:pt x="6108" y="13011"/>
                  <a:pt x="6152" y="13022"/>
                </a:cubicBezTo>
                <a:cubicBezTo>
                  <a:pt x="6180" y="13029"/>
                  <a:pt x="6300" y="12985"/>
                  <a:pt x="6300" y="12948"/>
                </a:cubicBezTo>
                <a:cubicBezTo>
                  <a:pt x="6272" y="12919"/>
                  <a:pt x="6259" y="12911"/>
                  <a:pt x="6226" y="12923"/>
                </a:cubicBezTo>
                <a:cubicBezTo>
                  <a:pt x="6181" y="12949"/>
                  <a:pt x="6113" y="13036"/>
                  <a:pt x="6226" y="12998"/>
                </a:cubicBezTo>
                <a:cubicBezTo>
                  <a:pt x="6295" y="12975"/>
                  <a:pt x="6253" y="12937"/>
                  <a:pt x="6251" y="12898"/>
                </a:cubicBezTo>
                <a:cubicBezTo>
                  <a:pt x="6251" y="12873"/>
                  <a:pt x="6251" y="12849"/>
                  <a:pt x="6251" y="12824"/>
                </a:cubicBezTo>
              </a:path>
              <a:path w="3821" h="3425">
                <a:moveTo>
                  <a:pt x="5085" y="11906"/>
                </a:moveTo>
                <a:cubicBezTo>
                  <a:pt x="5135" y="11906"/>
                  <a:pt x="5151" y="11906"/>
                  <a:pt x="5184" y="11906"/>
                </a:cubicBezTo>
                <a:cubicBezTo>
                  <a:pt x="5223" y="11830"/>
                  <a:pt x="5154" y="11873"/>
                  <a:pt x="5110" y="11906"/>
                </a:cubicBezTo>
                <a:cubicBezTo>
                  <a:pt x="5016" y="11977"/>
                  <a:pt x="5182" y="11986"/>
                  <a:pt x="5234" y="11956"/>
                </a:cubicBezTo>
                <a:cubicBezTo>
                  <a:pt x="5306" y="11915"/>
                  <a:pt x="5190" y="11894"/>
                  <a:pt x="5159" y="11906"/>
                </a:cubicBezTo>
                <a:cubicBezTo>
                  <a:pt x="5059" y="11947"/>
                  <a:pt x="5179" y="11991"/>
                  <a:pt x="5234" y="11956"/>
                </a:cubicBezTo>
                <a:cubicBezTo>
                  <a:pt x="5262" y="11928"/>
                  <a:pt x="5271" y="11914"/>
                  <a:pt x="5259" y="11881"/>
                </a:cubicBezTo>
                <a:cubicBezTo>
                  <a:pt x="5197" y="11874"/>
                  <a:pt x="5149" y="11857"/>
                  <a:pt x="5085" y="11857"/>
                </a:cubicBezTo>
              </a:path>
              <a:path w="3821" h="3425">
                <a:moveTo>
                  <a:pt x="3522" y="11261"/>
                </a:moveTo>
                <a:cubicBezTo>
                  <a:pt x="3590" y="11279"/>
                  <a:pt x="3670" y="11323"/>
                  <a:pt x="3746" y="11336"/>
                </a:cubicBezTo>
                <a:cubicBezTo>
                  <a:pt x="3823" y="11349"/>
                  <a:pt x="3848" y="11364"/>
                  <a:pt x="3919" y="11385"/>
                </a:cubicBezTo>
                <a:cubicBezTo>
                  <a:pt x="3980" y="11403"/>
                  <a:pt x="4064" y="11423"/>
                  <a:pt x="4118" y="11435"/>
                </a:cubicBezTo>
                <a:cubicBezTo>
                  <a:pt x="4188" y="11450"/>
                  <a:pt x="4255" y="11464"/>
                  <a:pt x="4316" y="11485"/>
                </a:cubicBezTo>
                <a:cubicBezTo>
                  <a:pt x="4366" y="11502"/>
                  <a:pt x="4438" y="11514"/>
                  <a:pt x="4490" y="11534"/>
                </a:cubicBezTo>
                <a:cubicBezTo>
                  <a:pt x="4535" y="11551"/>
                  <a:pt x="4594" y="11564"/>
                  <a:pt x="4638" y="11584"/>
                </a:cubicBezTo>
                <a:cubicBezTo>
                  <a:pt x="4690" y="11607"/>
                  <a:pt x="4761" y="11651"/>
                  <a:pt x="4812" y="11683"/>
                </a:cubicBezTo>
                <a:cubicBezTo>
                  <a:pt x="4878" y="11724"/>
                  <a:pt x="4946" y="11764"/>
                  <a:pt x="5011" y="11807"/>
                </a:cubicBezTo>
                <a:cubicBezTo>
                  <a:pt x="5071" y="11847"/>
                  <a:pt x="5126" y="11889"/>
                  <a:pt x="5184" y="11931"/>
                </a:cubicBezTo>
                <a:cubicBezTo>
                  <a:pt x="5242" y="11973"/>
                  <a:pt x="5304" y="12008"/>
                  <a:pt x="5358" y="12055"/>
                </a:cubicBezTo>
                <a:cubicBezTo>
                  <a:pt x="5416" y="12105"/>
                  <a:pt x="5475" y="12154"/>
                  <a:pt x="5531" y="12204"/>
                </a:cubicBezTo>
                <a:cubicBezTo>
                  <a:pt x="5596" y="12263"/>
                  <a:pt x="5667" y="12321"/>
                  <a:pt x="5730" y="12378"/>
                </a:cubicBezTo>
                <a:cubicBezTo>
                  <a:pt x="5882" y="12515"/>
                  <a:pt x="6003" y="12669"/>
                  <a:pt x="6127" y="12824"/>
                </a:cubicBezTo>
                <a:cubicBezTo>
                  <a:pt x="6168" y="12875"/>
                  <a:pt x="6212" y="12921"/>
                  <a:pt x="6251" y="12973"/>
                </a:cubicBezTo>
                <a:cubicBezTo>
                  <a:pt x="6283" y="13015"/>
                  <a:pt x="6323" y="13051"/>
                  <a:pt x="6350" y="13097"/>
                </a:cubicBezTo>
                <a:cubicBezTo>
                  <a:pt x="6415" y="13207"/>
                  <a:pt x="6481" y="13308"/>
                  <a:pt x="6548" y="13419"/>
                </a:cubicBezTo>
                <a:cubicBezTo>
                  <a:pt x="6583" y="13477"/>
                  <a:pt x="6617" y="13532"/>
                  <a:pt x="6648" y="13593"/>
                </a:cubicBezTo>
                <a:cubicBezTo>
                  <a:pt x="6723" y="13740"/>
                  <a:pt x="6785" y="13887"/>
                  <a:pt x="6846" y="14039"/>
                </a:cubicBezTo>
                <a:cubicBezTo>
                  <a:pt x="6871" y="14064"/>
                  <a:pt x="6879" y="14072"/>
                  <a:pt x="6846" y="14039"/>
                </a:cubicBezTo>
              </a:path>
              <a:path w="3821" h="3425">
                <a:moveTo>
                  <a:pt x="6821" y="13543"/>
                </a:moveTo>
                <a:cubicBezTo>
                  <a:pt x="6869" y="13603"/>
                  <a:pt x="6874" y="13650"/>
                  <a:pt x="6896" y="13717"/>
                </a:cubicBezTo>
                <a:cubicBezTo>
                  <a:pt x="6929" y="13816"/>
                  <a:pt x="6979" y="13918"/>
                  <a:pt x="7020" y="14015"/>
                </a:cubicBezTo>
                <a:cubicBezTo>
                  <a:pt x="7049" y="14083"/>
                  <a:pt x="7065" y="14164"/>
                  <a:pt x="7069" y="14238"/>
                </a:cubicBezTo>
                <a:cubicBezTo>
                  <a:pt x="7069" y="14255"/>
                  <a:pt x="7069" y="14271"/>
                  <a:pt x="7069" y="14288"/>
                </a:cubicBezTo>
                <a:cubicBezTo>
                  <a:pt x="6980" y="14288"/>
                  <a:pt x="6923" y="14285"/>
                  <a:pt x="6846" y="14238"/>
                </a:cubicBezTo>
                <a:cubicBezTo>
                  <a:pt x="6745" y="14176"/>
                  <a:pt x="6647" y="14105"/>
                  <a:pt x="6548" y="14039"/>
                </a:cubicBezTo>
                <a:cubicBezTo>
                  <a:pt x="6523" y="14023"/>
                  <a:pt x="6499" y="14006"/>
                  <a:pt x="6474" y="13990"/>
                </a:cubicBezTo>
              </a:path>
              <a:path w="3821" h="3425">
                <a:moveTo>
                  <a:pt x="3870" y="10864"/>
                </a:moveTo>
                <a:cubicBezTo>
                  <a:pt x="3810" y="10912"/>
                  <a:pt x="3741" y="10952"/>
                  <a:pt x="3671" y="10988"/>
                </a:cubicBezTo>
                <a:cubicBezTo>
                  <a:pt x="3564" y="11043"/>
                  <a:pt x="3480" y="11058"/>
                  <a:pt x="3373" y="11088"/>
                </a:cubicBezTo>
                <a:cubicBezTo>
                  <a:pt x="3332" y="11100"/>
                  <a:pt x="3286" y="11141"/>
                  <a:pt x="3249" y="11162"/>
                </a:cubicBezTo>
                <a:cubicBezTo>
                  <a:pt x="3272" y="11267"/>
                  <a:pt x="3308" y="11300"/>
                  <a:pt x="3398" y="11361"/>
                </a:cubicBezTo>
                <a:cubicBezTo>
                  <a:pt x="3492" y="11424"/>
                  <a:pt x="3576" y="11496"/>
                  <a:pt x="3671" y="11559"/>
                </a:cubicBezTo>
                <a:cubicBezTo>
                  <a:pt x="3748" y="11610"/>
                  <a:pt x="3800" y="11676"/>
                  <a:pt x="3845" y="11757"/>
                </a:cubicBezTo>
                <a:cubicBezTo>
                  <a:pt x="3870" y="11807"/>
                  <a:pt x="3878" y="11824"/>
                  <a:pt x="3820" y="118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(2x + 4)/(x +3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k 4"/>
          <p:cNvSpPr/>
          <p:nvPr/>
        </p:nvSpPr>
        <p:spPr>
          <a:xfrm>
            <a:off x="3152880" y="1366920"/>
            <a:ext cx="1116000" cy="625320"/>
          </a:xfrm>
          <a:custGeom>
            <a:avLst/>
            <a:gdLst/>
            <a:ahLst/>
            <a:rect l="l" t="t" r="r" b="b"/>
            <a:pathLst>
              <a:path w="3102" h="1737">
                <a:moveTo>
                  <a:pt x="9103" y="4068"/>
                </a:moveTo>
                <a:cubicBezTo>
                  <a:pt x="9059" y="4167"/>
                  <a:pt x="8979" y="4219"/>
                  <a:pt x="8930" y="4316"/>
                </a:cubicBezTo>
                <a:cubicBezTo>
                  <a:pt x="8881" y="4414"/>
                  <a:pt x="8819" y="4527"/>
                  <a:pt x="8806" y="4638"/>
                </a:cubicBezTo>
                <a:cubicBezTo>
                  <a:pt x="8792" y="4754"/>
                  <a:pt x="8768" y="4871"/>
                  <a:pt x="8756" y="4986"/>
                </a:cubicBezTo>
                <a:cubicBezTo>
                  <a:pt x="8745" y="5091"/>
                  <a:pt x="8767" y="5183"/>
                  <a:pt x="8781" y="5283"/>
                </a:cubicBezTo>
                <a:cubicBezTo>
                  <a:pt x="8791" y="5358"/>
                  <a:pt x="8817" y="5393"/>
                  <a:pt x="8855" y="5457"/>
                </a:cubicBezTo>
                <a:cubicBezTo>
                  <a:pt x="8897" y="5526"/>
                  <a:pt x="8905" y="5550"/>
                  <a:pt x="8979" y="5507"/>
                </a:cubicBezTo>
              </a:path>
              <a:path w="3102" h="1737">
                <a:moveTo>
                  <a:pt x="9401" y="4316"/>
                </a:moveTo>
                <a:cubicBezTo>
                  <a:pt x="9391" y="4414"/>
                  <a:pt x="9370" y="4519"/>
                  <a:pt x="9351" y="4614"/>
                </a:cubicBezTo>
                <a:cubicBezTo>
                  <a:pt x="9329" y="4723"/>
                  <a:pt x="9327" y="4823"/>
                  <a:pt x="9327" y="4936"/>
                </a:cubicBezTo>
                <a:cubicBezTo>
                  <a:pt x="9327" y="5021"/>
                  <a:pt x="9325" y="5086"/>
                  <a:pt x="9376" y="5159"/>
                </a:cubicBezTo>
                <a:cubicBezTo>
                  <a:pt x="9398" y="5191"/>
                  <a:pt x="9466" y="5250"/>
                  <a:pt x="9500" y="5259"/>
                </a:cubicBezTo>
                <a:cubicBezTo>
                  <a:pt x="9588" y="5283"/>
                  <a:pt x="9669" y="5164"/>
                  <a:pt x="9723" y="5110"/>
                </a:cubicBezTo>
                <a:cubicBezTo>
                  <a:pt x="9816" y="5017"/>
                  <a:pt x="9843" y="4867"/>
                  <a:pt x="9823" y="4738"/>
                </a:cubicBezTo>
                <a:cubicBezTo>
                  <a:pt x="9809" y="4647"/>
                  <a:pt x="9770" y="4507"/>
                  <a:pt x="9699" y="4440"/>
                </a:cubicBezTo>
                <a:cubicBezTo>
                  <a:pt x="9637" y="4382"/>
                  <a:pt x="9567" y="4372"/>
                  <a:pt x="9500" y="4341"/>
                </a:cubicBezTo>
                <a:cubicBezTo>
                  <a:pt x="9447" y="4317"/>
                  <a:pt x="9455" y="4309"/>
                  <a:pt x="9401" y="4341"/>
                </a:cubicBezTo>
              </a:path>
              <a:path w="3102" h="1737">
                <a:moveTo>
                  <a:pt x="10046" y="5110"/>
                </a:moveTo>
                <a:cubicBezTo>
                  <a:pt x="10046" y="5238"/>
                  <a:pt x="10026" y="5339"/>
                  <a:pt x="10021" y="5457"/>
                </a:cubicBezTo>
                <a:cubicBezTo>
                  <a:pt x="10021" y="5514"/>
                  <a:pt x="10021" y="5556"/>
                  <a:pt x="10021" y="5507"/>
                </a:cubicBezTo>
              </a:path>
              <a:path w="3102" h="1737">
                <a:moveTo>
                  <a:pt x="10393" y="4192"/>
                </a:moveTo>
                <a:cubicBezTo>
                  <a:pt x="10384" y="4271"/>
                  <a:pt x="10353" y="4338"/>
                  <a:pt x="10344" y="4415"/>
                </a:cubicBezTo>
                <a:cubicBezTo>
                  <a:pt x="10459" y="4415"/>
                  <a:pt x="10559" y="4407"/>
                  <a:pt x="10666" y="4390"/>
                </a:cubicBezTo>
                <a:cubicBezTo>
                  <a:pt x="10718" y="4390"/>
                  <a:pt x="10735" y="4389"/>
                  <a:pt x="10740" y="4341"/>
                </a:cubicBezTo>
              </a:path>
              <a:path w="3102" h="1737">
                <a:moveTo>
                  <a:pt x="10641" y="3994"/>
                </a:moveTo>
                <a:cubicBezTo>
                  <a:pt x="10612" y="4156"/>
                  <a:pt x="10592" y="4262"/>
                  <a:pt x="10592" y="4415"/>
                </a:cubicBezTo>
                <a:cubicBezTo>
                  <a:pt x="10592" y="4473"/>
                  <a:pt x="10592" y="4531"/>
                  <a:pt x="10592" y="4589"/>
                </a:cubicBezTo>
              </a:path>
              <a:path w="3102" h="1737">
                <a:moveTo>
                  <a:pt x="10914" y="3894"/>
                </a:moveTo>
                <a:cubicBezTo>
                  <a:pt x="10887" y="4069"/>
                  <a:pt x="10855" y="4242"/>
                  <a:pt x="10815" y="4415"/>
                </a:cubicBezTo>
                <a:cubicBezTo>
                  <a:pt x="10786" y="4541"/>
                  <a:pt x="10776" y="4683"/>
                  <a:pt x="10765" y="4812"/>
                </a:cubicBezTo>
                <a:cubicBezTo>
                  <a:pt x="10753" y="4947"/>
                  <a:pt x="10758" y="5075"/>
                  <a:pt x="10740" y="5209"/>
                </a:cubicBezTo>
                <a:cubicBezTo>
                  <a:pt x="10740" y="5217"/>
                  <a:pt x="10740" y="5226"/>
                  <a:pt x="10740" y="5234"/>
                </a:cubicBezTo>
              </a:path>
              <a:path w="3102" h="1737">
                <a:moveTo>
                  <a:pt x="10988" y="4614"/>
                </a:moveTo>
                <a:cubicBezTo>
                  <a:pt x="11017" y="4585"/>
                  <a:pt x="11100" y="4465"/>
                  <a:pt x="11162" y="4490"/>
                </a:cubicBezTo>
                <a:cubicBezTo>
                  <a:pt x="11276" y="4536"/>
                  <a:pt x="11265" y="4600"/>
                  <a:pt x="11212" y="4688"/>
                </a:cubicBezTo>
                <a:cubicBezTo>
                  <a:pt x="11179" y="4742"/>
                  <a:pt x="11059" y="4796"/>
                  <a:pt x="11112" y="4787"/>
                </a:cubicBezTo>
                <a:cubicBezTo>
                  <a:pt x="11188" y="4774"/>
                  <a:pt x="11274" y="4788"/>
                  <a:pt x="11336" y="4837"/>
                </a:cubicBezTo>
                <a:cubicBezTo>
                  <a:pt x="11398" y="4886"/>
                  <a:pt x="11432" y="4981"/>
                  <a:pt x="11410" y="5060"/>
                </a:cubicBezTo>
                <a:cubicBezTo>
                  <a:pt x="11385" y="5151"/>
                  <a:pt x="11356" y="5159"/>
                  <a:pt x="11286" y="5184"/>
                </a:cubicBezTo>
                <a:cubicBezTo>
                  <a:pt x="11208" y="5212"/>
                  <a:pt x="11161" y="5215"/>
                  <a:pt x="11088" y="5159"/>
                </a:cubicBezTo>
                <a:cubicBezTo>
                  <a:pt x="11071" y="5143"/>
                  <a:pt x="11055" y="5126"/>
                  <a:pt x="11038" y="5110"/>
                </a:cubicBezTo>
              </a:path>
              <a:path w="3102" h="1737">
                <a:moveTo>
                  <a:pt x="11435" y="3795"/>
                </a:moveTo>
                <a:cubicBezTo>
                  <a:pt x="11664" y="4032"/>
                  <a:pt x="11842" y="4196"/>
                  <a:pt x="11857" y="4539"/>
                </a:cubicBezTo>
                <a:cubicBezTo>
                  <a:pt x="11863" y="4676"/>
                  <a:pt x="11806" y="4855"/>
                  <a:pt x="11757" y="4986"/>
                </a:cubicBezTo>
                <a:cubicBezTo>
                  <a:pt x="11697" y="5145"/>
                  <a:pt x="11589" y="5254"/>
                  <a:pt x="11485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Ink 5"/>
          <p:cNvSpPr/>
          <p:nvPr/>
        </p:nvSpPr>
        <p:spPr>
          <a:xfrm>
            <a:off x="6786720" y="1973160"/>
            <a:ext cx="1946160" cy="1411560"/>
          </a:xfrm>
          <a:custGeom>
            <a:avLst/>
            <a:gdLst/>
            <a:ahLst/>
            <a:rect l="l" t="t" r="r" b="b"/>
            <a:pathLst>
              <a:path w="5408" h="3920">
                <a:moveTo>
                  <a:pt x="18852" y="8086"/>
                </a:moveTo>
                <a:cubicBezTo>
                  <a:pt x="18960" y="7800"/>
                  <a:pt x="19050" y="7497"/>
                  <a:pt x="19174" y="7218"/>
                </a:cubicBezTo>
                <a:cubicBezTo>
                  <a:pt x="19343" y="6836"/>
                  <a:pt x="19548" y="6473"/>
                  <a:pt x="19819" y="6152"/>
                </a:cubicBezTo>
                <a:cubicBezTo>
                  <a:pt x="19996" y="5943"/>
                  <a:pt x="20326" y="5567"/>
                  <a:pt x="20613" y="5507"/>
                </a:cubicBezTo>
                <a:cubicBezTo>
                  <a:pt x="20721" y="5485"/>
                  <a:pt x="20747" y="5472"/>
                  <a:pt x="20811" y="5507"/>
                </a:cubicBezTo>
                <a:cubicBezTo>
                  <a:pt x="20826" y="5633"/>
                  <a:pt x="20867" y="5739"/>
                  <a:pt x="20861" y="5879"/>
                </a:cubicBezTo>
                <a:cubicBezTo>
                  <a:pt x="20837" y="6444"/>
                  <a:pt x="20671" y="6993"/>
                  <a:pt x="20712" y="7565"/>
                </a:cubicBezTo>
                <a:cubicBezTo>
                  <a:pt x="20726" y="7762"/>
                  <a:pt x="20793" y="7879"/>
                  <a:pt x="20886" y="8037"/>
                </a:cubicBezTo>
                <a:cubicBezTo>
                  <a:pt x="21054" y="7918"/>
                  <a:pt x="21155" y="7836"/>
                  <a:pt x="21282" y="7665"/>
                </a:cubicBezTo>
                <a:cubicBezTo>
                  <a:pt x="21481" y="7399"/>
                  <a:pt x="21617" y="7102"/>
                  <a:pt x="21828" y="6846"/>
                </a:cubicBezTo>
                <a:cubicBezTo>
                  <a:pt x="22004" y="6632"/>
                  <a:pt x="22206" y="6460"/>
                  <a:pt x="22448" y="6325"/>
                </a:cubicBezTo>
                <a:cubicBezTo>
                  <a:pt x="22620" y="6228"/>
                  <a:pt x="23070" y="6051"/>
                  <a:pt x="23242" y="6251"/>
                </a:cubicBezTo>
                <a:cubicBezTo>
                  <a:pt x="23381" y="6413"/>
                  <a:pt x="23300" y="6686"/>
                  <a:pt x="23292" y="6871"/>
                </a:cubicBezTo>
                <a:cubicBezTo>
                  <a:pt x="23267" y="7485"/>
                  <a:pt x="23281" y="8155"/>
                  <a:pt x="23589" y="8706"/>
                </a:cubicBezTo>
                <a:cubicBezTo>
                  <a:pt x="23865" y="9107"/>
                  <a:pt x="23960" y="9242"/>
                  <a:pt x="24259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Ink 6"/>
          <p:cNvSpPr/>
          <p:nvPr/>
        </p:nvSpPr>
        <p:spPr>
          <a:xfrm>
            <a:off x="3197160" y="2143080"/>
            <a:ext cx="785880" cy="473040"/>
          </a:xfrm>
          <a:custGeom>
            <a:avLst/>
            <a:gdLst/>
            <a:ahLst/>
            <a:rect l="l" t="t" r="r" b="b"/>
            <a:pathLst>
              <a:path w="2184" h="1316">
                <a:moveTo>
                  <a:pt x="9153" y="5953"/>
                </a:moveTo>
                <a:cubicBezTo>
                  <a:pt x="9080" y="6075"/>
                  <a:pt x="8980" y="6192"/>
                  <a:pt x="8930" y="6325"/>
                </a:cubicBezTo>
                <a:cubicBezTo>
                  <a:pt x="8886" y="6441"/>
                  <a:pt x="8898" y="6561"/>
                  <a:pt x="8905" y="6672"/>
                </a:cubicBezTo>
                <a:cubicBezTo>
                  <a:pt x="8912" y="6791"/>
                  <a:pt x="8941" y="6881"/>
                  <a:pt x="8979" y="6995"/>
                </a:cubicBezTo>
                <a:cubicBezTo>
                  <a:pt x="9006" y="7075"/>
                  <a:pt x="9047" y="7155"/>
                  <a:pt x="9103" y="7218"/>
                </a:cubicBezTo>
                <a:cubicBezTo>
                  <a:pt x="9133" y="7251"/>
                  <a:pt x="9162" y="7260"/>
                  <a:pt x="9203" y="7268"/>
                </a:cubicBezTo>
              </a:path>
              <a:path w="2184" h="1316">
                <a:moveTo>
                  <a:pt x="9203" y="6672"/>
                </a:moveTo>
                <a:cubicBezTo>
                  <a:pt x="9244" y="6648"/>
                  <a:pt x="9325" y="6630"/>
                  <a:pt x="9376" y="6623"/>
                </a:cubicBezTo>
                <a:cubicBezTo>
                  <a:pt x="9440" y="6615"/>
                  <a:pt x="9511" y="6623"/>
                  <a:pt x="9575" y="6623"/>
                </a:cubicBezTo>
              </a:path>
              <a:path w="2184" h="1316">
                <a:moveTo>
                  <a:pt x="9847" y="6375"/>
                </a:moveTo>
                <a:cubicBezTo>
                  <a:pt x="9930" y="6312"/>
                  <a:pt x="9990" y="6259"/>
                  <a:pt x="10096" y="6325"/>
                </a:cubicBezTo>
                <a:cubicBezTo>
                  <a:pt x="10166" y="6369"/>
                  <a:pt x="10146" y="6440"/>
                  <a:pt x="10120" y="6499"/>
                </a:cubicBezTo>
                <a:cubicBezTo>
                  <a:pt x="10077" y="6597"/>
                  <a:pt x="10037" y="6641"/>
                  <a:pt x="9971" y="6722"/>
                </a:cubicBezTo>
                <a:cubicBezTo>
                  <a:pt x="9903" y="6804"/>
                  <a:pt x="9837" y="6887"/>
                  <a:pt x="9773" y="6970"/>
                </a:cubicBezTo>
                <a:cubicBezTo>
                  <a:pt x="9740" y="7013"/>
                  <a:pt x="9748" y="7039"/>
                  <a:pt x="9748" y="7094"/>
                </a:cubicBezTo>
                <a:cubicBezTo>
                  <a:pt x="9846" y="7094"/>
                  <a:pt x="9871" y="7085"/>
                  <a:pt x="9947" y="7020"/>
                </a:cubicBezTo>
              </a:path>
              <a:path w="2184" h="1316">
                <a:moveTo>
                  <a:pt x="10244" y="6747"/>
                </a:moveTo>
                <a:cubicBezTo>
                  <a:pt x="10238" y="6877"/>
                  <a:pt x="10213" y="6971"/>
                  <a:pt x="10195" y="7094"/>
                </a:cubicBezTo>
                <a:cubicBezTo>
                  <a:pt x="10186" y="7157"/>
                  <a:pt x="10134" y="7238"/>
                  <a:pt x="10195" y="7218"/>
                </a:cubicBezTo>
              </a:path>
              <a:path w="2184" h="1316">
                <a:moveTo>
                  <a:pt x="10567" y="6350"/>
                </a:moveTo>
                <a:cubicBezTo>
                  <a:pt x="10539" y="6461"/>
                  <a:pt x="10507" y="6583"/>
                  <a:pt x="10492" y="6697"/>
                </a:cubicBezTo>
                <a:cubicBezTo>
                  <a:pt x="10479" y="6794"/>
                  <a:pt x="10496" y="6845"/>
                  <a:pt x="10542" y="6921"/>
                </a:cubicBezTo>
                <a:cubicBezTo>
                  <a:pt x="10583" y="6989"/>
                  <a:pt x="10661" y="7005"/>
                  <a:pt x="10740" y="6970"/>
                </a:cubicBezTo>
                <a:cubicBezTo>
                  <a:pt x="10804" y="6942"/>
                  <a:pt x="10790" y="6849"/>
                  <a:pt x="10790" y="6796"/>
                </a:cubicBezTo>
                <a:cubicBezTo>
                  <a:pt x="10790" y="6672"/>
                  <a:pt x="10756" y="6614"/>
                  <a:pt x="10666" y="6548"/>
                </a:cubicBezTo>
                <a:cubicBezTo>
                  <a:pt x="10629" y="6521"/>
                  <a:pt x="10609" y="6498"/>
                  <a:pt x="10567" y="6474"/>
                </a:cubicBezTo>
              </a:path>
              <a:path w="2184" h="1316">
                <a:moveTo>
                  <a:pt x="10765" y="6077"/>
                </a:moveTo>
                <a:cubicBezTo>
                  <a:pt x="10879" y="6171"/>
                  <a:pt x="10934" y="6258"/>
                  <a:pt x="10988" y="6400"/>
                </a:cubicBezTo>
                <a:cubicBezTo>
                  <a:pt x="11047" y="6558"/>
                  <a:pt x="11086" y="6726"/>
                  <a:pt x="11063" y="6896"/>
                </a:cubicBezTo>
                <a:cubicBezTo>
                  <a:pt x="11047" y="7014"/>
                  <a:pt x="10998" y="7099"/>
                  <a:pt x="10939" y="7193"/>
                </a:cubicBezTo>
                <a:cubicBezTo>
                  <a:pt x="10896" y="7261"/>
                  <a:pt x="10917" y="7257"/>
                  <a:pt x="10840" y="72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Ink 7"/>
          <p:cNvSpPr/>
          <p:nvPr/>
        </p:nvSpPr>
        <p:spPr>
          <a:xfrm>
            <a:off x="4830840" y="1785960"/>
            <a:ext cx="1643040" cy="696960"/>
          </a:xfrm>
          <a:custGeom>
            <a:avLst/>
            <a:gdLst/>
            <a:ahLst/>
            <a:rect l="l" t="t" r="r" b="b"/>
            <a:pathLst>
              <a:path w="4565" h="1936">
                <a:moveTo>
                  <a:pt x="13667" y="5308"/>
                </a:moveTo>
                <a:cubicBezTo>
                  <a:pt x="13643" y="5333"/>
                  <a:pt x="13635" y="5342"/>
                  <a:pt x="13618" y="5358"/>
                </a:cubicBezTo>
                <a:cubicBezTo>
                  <a:pt x="13626" y="5299"/>
                  <a:pt x="13640" y="5260"/>
                  <a:pt x="13667" y="5209"/>
                </a:cubicBezTo>
                <a:cubicBezTo>
                  <a:pt x="13695" y="5156"/>
                  <a:pt x="13737" y="5133"/>
                  <a:pt x="13767" y="5085"/>
                </a:cubicBezTo>
                <a:cubicBezTo>
                  <a:pt x="13811" y="5016"/>
                  <a:pt x="13865" y="4941"/>
                  <a:pt x="13965" y="4961"/>
                </a:cubicBezTo>
                <a:cubicBezTo>
                  <a:pt x="14030" y="4974"/>
                  <a:pt x="14027" y="5091"/>
                  <a:pt x="14015" y="5135"/>
                </a:cubicBezTo>
                <a:cubicBezTo>
                  <a:pt x="13993" y="5218"/>
                  <a:pt x="13896" y="5361"/>
                  <a:pt x="13841" y="5432"/>
                </a:cubicBezTo>
                <a:cubicBezTo>
                  <a:pt x="13768" y="5527"/>
                  <a:pt x="13686" y="5604"/>
                  <a:pt x="13618" y="5705"/>
                </a:cubicBezTo>
                <a:cubicBezTo>
                  <a:pt x="13564" y="5786"/>
                  <a:pt x="13516" y="5869"/>
                  <a:pt x="13469" y="5953"/>
                </a:cubicBezTo>
                <a:cubicBezTo>
                  <a:pt x="13447" y="5997"/>
                  <a:pt x="13444" y="6009"/>
                  <a:pt x="13419" y="6028"/>
                </a:cubicBezTo>
                <a:cubicBezTo>
                  <a:pt x="13453" y="5985"/>
                  <a:pt x="13480" y="5944"/>
                  <a:pt x="13519" y="5904"/>
                </a:cubicBezTo>
                <a:cubicBezTo>
                  <a:pt x="13576" y="5847"/>
                  <a:pt x="13643" y="5854"/>
                  <a:pt x="13717" y="5854"/>
                </a:cubicBezTo>
                <a:cubicBezTo>
                  <a:pt x="13798" y="5854"/>
                  <a:pt x="13858" y="5879"/>
                  <a:pt x="13940" y="5879"/>
                </a:cubicBezTo>
                <a:cubicBezTo>
                  <a:pt x="13993" y="5879"/>
                  <a:pt x="14011" y="5879"/>
                  <a:pt x="14064" y="5879"/>
                </a:cubicBezTo>
              </a:path>
              <a:path w="4565" h="1936">
                <a:moveTo>
                  <a:pt x="14163" y="5507"/>
                </a:moveTo>
                <a:cubicBezTo>
                  <a:pt x="14211" y="5596"/>
                  <a:pt x="14225" y="5646"/>
                  <a:pt x="14263" y="5730"/>
                </a:cubicBezTo>
                <a:cubicBezTo>
                  <a:pt x="14286" y="5782"/>
                  <a:pt x="14314" y="5871"/>
                  <a:pt x="14362" y="5904"/>
                </a:cubicBezTo>
                <a:cubicBezTo>
                  <a:pt x="14437" y="5957"/>
                  <a:pt x="14454" y="5971"/>
                  <a:pt x="14511" y="5904"/>
                </a:cubicBezTo>
              </a:path>
              <a:path w="4565" h="1936">
                <a:moveTo>
                  <a:pt x="14511" y="5457"/>
                </a:moveTo>
                <a:cubicBezTo>
                  <a:pt x="14440" y="5514"/>
                  <a:pt x="14350" y="5587"/>
                  <a:pt x="14288" y="5655"/>
                </a:cubicBezTo>
                <a:cubicBezTo>
                  <a:pt x="14225" y="5724"/>
                  <a:pt x="14170" y="5806"/>
                  <a:pt x="14114" y="5879"/>
                </a:cubicBezTo>
                <a:cubicBezTo>
                  <a:pt x="14088" y="5912"/>
                  <a:pt x="14065" y="5945"/>
                  <a:pt x="14039" y="5978"/>
                </a:cubicBezTo>
              </a:path>
              <a:path w="4565" h="1936">
                <a:moveTo>
                  <a:pt x="14759" y="5407"/>
                </a:moveTo>
                <a:cubicBezTo>
                  <a:pt x="14777" y="5489"/>
                  <a:pt x="14805" y="5573"/>
                  <a:pt x="14808" y="5655"/>
                </a:cubicBezTo>
                <a:cubicBezTo>
                  <a:pt x="14811" y="5730"/>
                  <a:pt x="14799" y="5767"/>
                  <a:pt x="14784" y="5829"/>
                </a:cubicBezTo>
              </a:path>
              <a:path w="4565" h="1936">
                <a:moveTo>
                  <a:pt x="14610" y="5581"/>
                </a:moveTo>
                <a:cubicBezTo>
                  <a:pt x="14730" y="5581"/>
                  <a:pt x="14816" y="5581"/>
                  <a:pt x="14932" y="5556"/>
                </a:cubicBezTo>
              </a:path>
              <a:path w="4565" h="1936">
                <a:moveTo>
                  <a:pt x="15230" y="5234"/>
                </a:moveTo>
                <a:cubicBezTo>
                  <a:pt x="15196" y="5276"/>
                  <a:pt x="15170" y="5319"/>
                  <a:pt x="15131" y="5358"/>
                </a:cubicBezTo>
                <a:cubicBezTo>
                  <a:pt x="15123" y="5366"/>
                  <a:pt x="15114" y="5375"/>
                  <a:pt x="15106" y="5383"/>
                </a:cubicBezTo>
                <a:cubicBezTo>
                  <a:pt x="15166" y="5442"/>
                  <a:pt x="15192" y="5432"/>
                  <a:pt x="15280" y="5432"/>
                </a:cubicBezTo>
                <a:cubicBezTo>
                  <a:pt x="15346" y="5432"/>
                  <a:pt x="15412" y="5432"/>
                  <a:pt x="15478" y="5432"/>
                </a:cubicBezTo>
              </a:path>
              <a:path w="4565" h="1936">
                <a:moveTo>
                  <a:pt x="15453" y="5035"/>
                </a:moveTo>
                <a:cubicBezTo>
                  <a:pt x="15400" y="5150"/>
                  <a:pt x="15389" y="5241"/>
                  <a:pt x="15354" y="5358"/>
                </a:cubicBezTo>
                <a:cubicBezTo>
                  <a:pt x="15326" y="5452"/>
                  <a:pt x="15329" y="5532"/>
                  <a:pt x="15329" y="5631"/>
                </a:cubicBezTo>
                <a:cubicBezTo>
                  <a:pt x="15329" y="5700"/>
                  <a:pt x="15304" y="5756"/>
                  <a:pt x="15304" y="5829"/>
                </a:cubicBezTo>
                <a:cubicBezTo>
                  <a:pt x="15304" y="5846"/>
                  <a:pt x="15304" y="5862"/>
                  <a:pt x="15304" y="5879"/>
                </a:cubicBezTo>
              </a:path>
              <a:path w="4565" h="1936">
                <a:moveTo>
                  <a:pt x="15553" y="5407"/>
                </a:moveTo>
                <a:cubicBezTo>
                  <a:pt x="15650" y="5387"/>
                  <a:pt x="15726" y="5383"/>
                  <a:pt x="15825" y="5383"/>
                </a:cubicBezTo>
              </a:path>
              <a:path w="4565" h="1936">
                <a:moveTo>
                  <a:pt x="15602" y="5606"/>
                </a:moveTo>
                <a:cubicBezTo>
                  <a:pt x="15708" y="5629"/>
                  <a:pt x="15772" y="5645"/>
                  <a:pt x="15875" y="5606"/>
                </a:cubicBezTo>
                <a:cubicBezTo>
                  <a:pt x="15925" y="5581"/>
                  <a:pt x="15941" y="5573"/>
                  <a:pt x="15974" y="5556"/>
                </a:cubicBezTo>
              </a:path>
              <a:path w="4565" h="1936">
                <a:moveTo>
                  <a:pt x="16321" y="5085"/>
                </a:moveTo>
                <a:cubicBezTo>
                  <a:pt x="16285" y="5158"/>
                  <a:pt x="16251" y="5232"/>
                  <a:pt x="16222" y="5308"/>
                </a:cubicBezTo>
                <a:cubicBezTo>
                  <a:pt x="16191" y="5390"/>
                  <a:pt x="16150" y="5492"/>
                  <a:pt x="16173" y="5581"/>
                </a:cubicBezTo>
                <a:cubicBezTo>
                  <a:pt x="16193" y="5662"/>
                  <a:pt x="16253" y="5764"/>
                  <a:pt x="16321" y="5804"/>
                </a:cubicBezTo>
                <a:cubicBezTo>
                  <a:pt x="16370" y="5833"/>
                  <a:pt x="16463" y="5845"/>
                  <a:pt x="16520" y="5829"/>
                </a:cubicBezTo>
                <a:cubicBezTo>
                  <a:pt x="16578" y="5813"/>
                  <a:pt x="16656" y="5703"/>
                  <a:pt x="16694" y="5655"/>
                </a:cubicBezTo>
                <a:cubicBezTo>
                  <a:pt x="16744" y="5590"/>
                  <a:pt x="16801" y="5487"/>
                  <a:pt x="16818" y="5407"/>
                </a:cubicBezTo>
                <a:cubicBezTo>
                  <a:pt x="16833" y="5339"/>
                  <a:pt x="16822" y="5263"/>
                  <a:pt x="16793" y="5209"/>
                </a:cubicBezTo>
                <a:cubicBezTo>
                  <a:pt x="16767" y="5161"/>
                  <a:pt x="16703" y="5099"/>
                  <a:pt x="16644" y="5085"/>
                </a:cubicBezTo>
                <a:cubicBezTo>
                  <a:pt x="16594" y="5073"/>
                  <a:pt x="16490" y="5111"/>
                  <a:pt x="16446" y="5135"/>
                </a:cubicBezTo>
                <a:cubicBezTo>
                  <a:pt x="16421" y="5151"/>
                  <a:pt x="16396" y="5168"/>
                  <a:pt x="16371" y="5184"/>
                </a:cubicBezTo>
              </a:path>
              <a:path w="4565" h="1936">
                <a:moveTo>
                  <a:pt x="14337" y="6350"/>
                </a:moveTo>
                <a:cubicBezTo>
                  <a:pt x="14453" y="6350"/>
                  <a:pt x="14568" y="6350"/>
                  <a:pt x="14684" y="6350"/>
                </a:cubicBezTo>
              </a:path>
              <a:path w="4565" h="1936">
                <a:moveTo>
                  <a:pt x="14957" y="6201"/>
                </a:moveTo>
                <a:cubicBezTo>
                  <a:pt x="14923" y="6241"/>
                  <a:pt x="14838" y="6314"/>
                  <a:pt x="14858" y="6375"/>
                </a:cubicBezTo>
                <a:cubicBezTo>
                  <a:pt x="14874" y="6422"/>
                  <a:pt x="14969" y="6443"/>
                  <a:pt x="15007" y="6449"/>
                </a:cubicBezTo>
                <a:cubicBezTo>
                  <a:pt x="15046" y="6456"/>
                  <a:pt x="15091" y="6449"/>
                  <a:pt x="15131" y="6449"/>
                </a:cubicBezTo>
              </a:path>
              <a:path w="4565" h="1936">
                <a:moveTo>
                  <a:pt x="15156" y="6077"/>
                </a:moveTo>
                <a:cubicBezTo>
                  <a:pt x="15114" y="6185"/>
                  <a:pt x="15053" y="6308"/>
                  <a:pt x="15032" y="6424"/>
                </a:cubicBezTo>
                <a:cubicBezTo>
                  <a:pt x="15013" y="6533"/>
                  <a:pt x="15040" y="6646"/>
                  <a:pt x="15056" y="6747"/>
                </a:cubicBezTo>
                <a:cubicBezTo>
                  <a:pt x="15056" y="6788"/>
                  <a:pt x="15048" y="6804"/>
                  <a:pt x="15081" y="6796"/>
                </a:cubicBezTo>
              </a:path>
              <a:path w="4565" h="1936">
                <a:moveTo>
                  <a:pt x="15776" y="6375"/>
                </a:moveTo>
                <a:cubicBezTo>
                  <a:pt x="15855" y="6382"/>
                  <a:pt x="15918" y="6400"/>
                  <a:pt x="15999" y="6400"/>
                </a:cubicBezTo>
              </a:path>
              <a:path w="4565" h="1936">
                <a:moveTo>
                  <a:pt x="16272" y="6226"/>
                </a:moveTo>
                <a:cubicBezTo>
                  <a:pt x="16219" y="6300"/>
                  <a:pt x="16151" y="6357"/>
                  <a:pt x="16197" y="6449"/>
                </a:cubicBezTo>
                <a:cubicBezTo>
                  <a:pt x="16223" y="6501"/>
                  <a:pt x="16369" y="6534"/>
                  <a:pt x="16421" y="6524"/>
                </a:cubicBezTo>
                <a:cubicBezTo>
                  <a:pt x="16464" y="6502"/>
                  <a:pt x="16476" y="6498"/>
                  <a:pt x="16495" y="6474"/>
                </a:cubicBezTo>
              </a:path>
              <a:path w="4565" h="1936">
                <a:moveTo>
                  <a:pt x="16545" y="6052"/>
                </a:moveTo>
                <a:cubicBezTo>
                  <a:pt x="16519" y="6191"/>
                  <a:pt x="16484" y="6334"/>
                  <a:pt x="16470" y="6474"/>
                </a:cubicBezTo>
                <a:cubicBezTo>
                  <a:pt x="16460" y="6576"/>
                  <a:pt x="16509" y="6673"/>
                  <a:pt x="16520" y="6772"/>
                </a:cubicBezTo>
                <a:cubicBezTo>
                  <a:pt x="16520" y="6840"/>
                  <a:pt x="16523" y="6859"/>
                  <a:pt x="16495" y="6896"/>
                </a:cubicBezTo>
              </a:path>
              <a:path w="4565" h="1936">
                <a:moveTo>
                  <a:pt x="17983" y="5854"/>
                </a:moveTo>
                <a:lnTo>
                  <a:pt x="17983" y="5854"/>
                </a:lnTo>
              </a:path>
              <a:path w="4565" h="1936">
                <a:moveTo>
                  <a:pt x="17090" y="5680"/>
                </a:moveTo>
                <a:cubicBezTo>
                  <a:pt x="17157" y="5768"/>
                  <a:pt x="17236" y="5866"/>
                  <a:pt x="17314" y="5953"/>
                </a:cubicBezTo>
                <a:cubicBezTo>
                  <a:pt x="17384" y="6031"/>
                  <a:pt x="17435" y="6115"/>
                  <a:pt x="17487" y="6102"/>
                </a:cubicBezTo>
              </a:path>
              <a:path w="4565" h="1936">
                <a:moveTo>
                  <a:pt x="17363" y="5531"/>
                </a:moveTo>
                <a:cubicBezTo>
                  <a:pt x="17303" y="5661"/>
                  <a:pt x="17286" y="5806"/>
                  <a:pt x="17214" y="5928"/>
                </a:cubicBezTo>
                <a:cubicBezTo>
                  <a:pt x="17154" y="6029"/>
                  <a:pt x="17086" y="6134"/>
                  <a:pt x="17016" y="6226"/>
                </a:cubicBezTo>
                <a:cubicBezTo>
                  <a:pt x="16993" y="6249"/>
                  <a:pt x="16985" y="6253"/>
                  <a:pt x="16991" y="6276"/>
                </a:cubicBezTo>
              </a:path>
              <a:path w="4565" h="1936">
                <a:moveTo>
                  <a:pt x="17487" y="5631"/>
                </a:moveTo>
                <a:cubicBezTo>
                  <a:pt x="17473" y="5736"/>
                  <a:pt x="17426" y="5921"/>
                  <a:pt x="17462" y="6028"/>
                </a:cubicBezTo>
                <a:cubicBezTo>
                  <a:pt x="17487" y="6052"/>
                  <a:pt x="17496" y="6060"/>
                  <a:pt x="17512" y="6077"/>
                </a:cubicBezTo>
              </a:path>
              <a:path w="4565" h="1936">
                <a:moveTo>
                  <a:pt x="17363" y="5879"/>
                </a:moveTo>
                <a:cubicBezTo>
                  <a:pt x="17459" y="5799"/>
                  <a:pt x="17557" y="5755"/>
                  <a:pt x="17661" y="5680"/>
                </a:cubicBezTo>
              </a:path>
              <a:path w="4565" h="1936">
                <a:moveTo>
                  <a:pt x="17636" y="5457"/>
                </a:moveTo>
                <a:cubicBezTo>
                  <a:pt x="17669" y="5435"/>
                  <a:pt x="17843" y="5346"/>
                  <a:pt x="17884" y="5432"/>
                </a:cubicBezTo>
                <a:cubicBezTo>
                  <a:pt x="17918" y="5503"/>
                  <a:pt x="17884" y="5625"/>
                  <a:pt x="17835" y="5680"/>
                </a:cubicBezTo>
                <a:cubicBezTo>
                  <a:pt x="17807" y="5708"/>
                  <a:pt x="17798" y="5722"/>
                  <a:pt x="17810" y="5755"/>
                </a:cubicBezTo>
                <a:cubicBezTo>
                  <a:pt x="17920" y="5794"/>
                  <a:pt x="17997" y="5792"/>
                  <a:pt x="17983" y="5928"/>
                </a:cubicBezTo>
                <a:cubicBezTo>
                  <a:pt x="17972" y="6033"/>
                  <a:pt x="17867" y="6141"/>
                  <a:pt x="17810" y="6226"/>
                </a:cubicBezTo>
                <a:cubicBezTo>
                  <a:pt x="17760" y="6300"/>
                  <a:pt x="17743" y="6325"/>
                  <a:pt x="17711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Ink 8"/>
          <p:cNvSpPr/>
          <p:nvPr/>
        </p:nvSpPr>
        <p:spPr>
          <a:xfrm>
            <a:off x="6732720" y="1795320"/>
            <a:ext cx="2125440" cy="901800"/>
          </a:xfrm>
          <a:custGeom>
            <a:avLst/>
            <a:gdLst/>
            <a:ahLst/>
            <a:rect l="l" t="t" r="r" b="b"/>
            <a:pathLst>
              <a:path w="5904" h="2506">
                <a:moveTo>
                  <a:pt x="19000" y="5507"/>
                </a:moveTo>
                <a:cubicBezTo>
                  <a:pt x="18992" y="5482"/>
                  <a:pt x="18984" y="5457"/>
                  <a:pt x="18976" y="5432"/>
                </a:cubicBezTo>
                <a:cubicBezTo>
                  <a:pt x="18933" y="5486"/>
                  <a:pt x="18912" y="5547"/>
                  <a:pt x="18876" y="5606"/>
                </a:cubicBezTo>
                <a:cubicBezTo>
                  <a:pt x="18811" y="5713"/>
                  <a:pt x="18750" y="5879"/>
                  <a:pt x="18728" y="6003"/>
                </a:cubicBezTo>
                <a:cubicBezTo>
                  <a:pt x="18702" y="6147"/>
                  <a:pt x="18692" y="6289"/>
                  <a:pt x="18752" y="6424"/>
                </a:cubicBezTo>
                <a:cubicBezTo>
                  <a:pt x="18783" y="6494"/>
                  <a:pt x="18848" y="6556"/>
                  <a:pt x="18926" y="6573"/>
                </a:cubicBezTo>
                <a:cubicBezTo>
                  <a:pt x="19013" y="6592"/>
                  <a:pt x="19094" y="6501"/>
                  <a:pt x="19149" y="6449"/>
                </a:cubicBezTo>
                <a:cubicBezTo>
                  <a:pt x="19281" y="6323"/>
                  <a:pt x="19347" y="6152"/>
                  <a:pt x="19397" y="5978"/>
                </a:cubicBezTo>
                <a:cubicBezTo>
                  <a:pt x="19435" y="5847"/>
                  <a:pt x="19450" y="5694"/>
                  <a:pt x="19372" y="5581"/>
                </a:cubicBezTo>
                <a:cubicBezTo>
                  <a:pt x="19325" y="5514"/>
                  <a:pt x="19204" y="5423"/>
                  <a:pt x="19124" y="5407"/>
                </a:cubicBezTo>
                <a:cubicBezTo>
                  <a:pt x="19043" y="5391"/>
                  <a:pt x="19009" y="5407"/>
                  <a:pt x="18926" y="5407"/>
                </a:cubicBezTo>
              </a:path>
              <a:path w="5904" h="2506">
                <a:moveTo>
                  <a:pt x="19745" y="5581"/>
                </a:moveTo>
                <a:cubicBezTo>
                  <a:pt x="19873" y="5581"/>
                  <a:pt x="20052" y="5618"/>
                  <a:pt x="20166" y="5606"/>
                </a:cubicBezTo>
                <a:cubicBezTo>
                  <a:pt x="20183" y="5598"/>
                  <a:pt x="20199" y="5589"/>
                  <a:pt x="20216" y="5581"/>
                </a:cubicBezTo>
              </a:path>
              <a:path w="5904" h="2506">
                <a:moveTo>
                  <a:pt x="19943" y="5904"/>
                </a:moveTo>
                <a:cubicBezTo>
                  <a:pt x="20048" y="5926"/>
                  <a:pt x="20077" y="5898"/>
                  <a:pt x="20191" y="5854"/>
                </a:cubicBezTo>
              </a:path>
              <a:path w="5904" h="2506">
                <a:moveTo>
                  <a:pt x="20538" y="5234"/>
                </a:moveTo>
                <a:cubicBezTo>
                  <a:pt x="20697" y="5147"/>
                  <a:pt x="20778" y="5096"/>
                  <a:pt x="20960" y="5159"/>
                </a:cubicBezTo>
                <a:cubicBezTo>
                  <a:pt x="21054" y="5191"/>
                  <a:pt x="21046" y="5253"/>
                  <a:pt x="21010" y="5333"/>
                </a:cubicBezTo>
                <a:cubicBezTo>
                  <a:pt x="20953" y="5461"/>
                  <a:pt x="20870" y="5579"/>
                  <a:pt x="20811" y="5705"/>
                </a:cubicBezTo>
                <a:cubicBezTo>
                  <a:pt x="20782" y="5767"/>
                  <a:pt x="20758" y="5896"/>
                  <a:pt x="20811" y="5953"/>
                </a:cubicBezTo>
                <a:cubicBezTo>
                  <a:pt x="20853" y="5998"/>
                  <a:pt x="20978" y="6025"/>
                  <a:pt x="21034" y="6003"/>
                </a:cubicBezTo>
                <a:cubicBezTo>
                  <a:pt x="21101" y="5977"/>
                  <a:pt x="21175" y="5896"/>
                  <a:pt x="21233" y="5854"/>
                </a:cubicBezTo>
              </a:path>
              <a:path w="5904" h="2506">
                <a:moveTo>
                  <a:pt x="21332" y="5482"/>
                </a:moveTo>
                <a:cubicBezTo>
                  <a:pt x="21356" y="5565"/>
                  <a:pt x="21373" y="5805"/>
                  <a:pt x="21506" y="5829"/>
                </a:cubicBezTo>
                <a:cubicBezTo>
                  <a:pt x="21567" y="5829"/>
                  <a:pt x="21583" y="5838"/>
                  <a:pt x="21605" y="5804"/>
                </a:cubicBezTo>
              </a:path>
              <a:path w="5904" h="2506">
                <a:moveTo>
                  <a:pt x="21456" y="5482"/>
                </a:moveTo>
                <a:cubicBezTo>
                  <a:pt x="21327" y="5740"/>
                  <a:pt x="21323" y="5772"/>
                  <a:pt x="21233" y="5904"/>
                </a:cubicBezTo>
              </a:path>
              <a:path w="5904" h="2506">
                <a:moveTo>
                  <a:pt x="21853" y="5135"/>
                </a:moveTo>
                <a:cubicBezTo>
                  <a:pt x="21872" y="5308"/>
                  <a:pt x="21891" y="5484"/>
                  <a:pt x="21853" y="5655"/>
                </a:cubicBezTo>
                <a:cubicBezTo>
                  <a:pt x="21839" y="5718"/>
                  <a:pt x="21812" y="5714"/>
                  <a:pt x="21878" y="5730"/>
                </a:cubicBezTo>
              </a:path>
              <a:path w="5904" h="2506">
                <a:moveTo>
                  <a:pt x="21605" y="5556"/>
                </a:moveTo>
                <a:cubicBezTo>
                  <a:pt x="21688" y="5548"/>
                  <a:pt x="21805" y="5529"/>
                  <a:pt x="21878" y="5482"/>
                </a:cubicBezTo>
                <a:cubicBezTo>
                  <a:pt x="21927" y="5432"/>
                  <a:pt x="21943" y="5415"/>
                  <a:pt x="21977" y="5383"/>
                </a:cubicBezTo>
              </a:path>
              <a:path w="5904" h="2506">
                <a:moveTo>
                  <a:pt x="22101" y="5159"/>
                </a:moveTo>
                <a:cubicBezTo>
                  <a:pt x="22110" y="5304"/>
                  <a:pt x="22086" y="5318"/>
                  <a:pt x="22200" y="5358"/>
                </a:cubicBezTo>
                <a:cubicBezTo>
                  <a:pt x="22275" y="5385"/>
                  <a:pt x="22330" y="5392"/>
                  <a:pt x="22399" y="5333"/>
                </a:cubicBezTo>
                <a:cubicBezTo>
                  <a:pt x="22432" y="5300"/>
                  <a:pt x="22465" y="5267"/>
                  <a:pt x="22498" y="5234"/>
                </a:cubicBezTo>
              </a:path>
              <a:path w="5904" h="2506">
                <a:moveTo>
                  <a:pt x="22448" y="4986"/>
                </a:moveTo>
                <a:cubicBezTo>
                  <a:pt x="22423" y="5189"/>
                  <a:pt x="22352" y="5448"/>
                  <a:pt x="22423" y="5655"/>
                </a:cubicBezTo>
                <a:cubicBezTo>
                  <a:pt x="22448" y="5726"/>
                  <a:pt x="22460" y="5771"/>
                  <a:pt x="22448" y="5829"/>
                </a:cubicBezTo>
                <a:cubicBezTo>
                  <a:pt x="22448" y="5837"/>
                  <a:pt x="22448" y="5846"/>
                  <a:pt x="22448" y="5854"/>
                </a:cubicBezTo>
              </a:path>
              <a:path w="5904" h="2506">
                <a:moveTo>
                  <a:pt x="20762" y="6226"/>
                </a:moveTo>
                <a:cubicBezTo>
                  <a:pt x="20934" y="6196"/>
                  <a:pt x="21108" y="6163"/>
                  <a:pt x="21282" y="6152"/>
                </a:cubicBezTo>
                <a:cubicBezTo>
                  <a:pt x="21485" y="6139"/>
                  <a:pt x="21705" y="6123"/>
                  <a:pt x="21903" y="6077"/>
                </a:cubicBezTo>
                <a:cubicBezTo>
                  <a:pt x="21971" y="6061"/>
                  <a:pt x="22111" y="6019"/>
                  <a:pt x="22175" y="6028"/>
                </a:cubicBezTo>
                <a:cubicBezTo>
                  <a:pt x="22203" y="6055"/>
                  <a:pt x="22207" y="6063"/>
                  <a:pt x="22151" y="6052"/>
                </a:cubicBezTo>
              </a:path>
              <a:path w="5904" h="2506">
                <a:moveTo>
                  <a:pt x="20836" y="6722"/>
                </a:moveTo>
                <a:cubicBezTo>
                  <a:pt x="20880" y="6820"/>
                  <a:pt x="20932" y="6901"/>
                  <a:pt x="20985" y="6995"/>
                </a:cubicBezTo>
                <a:cubicBezTo>
                  <a:pt x="21028" y="7073"/>
                  <a:pt x="21093" y="7207"/>
                  <a:pt x="21158" y="7268"/>
                </a:cubicBezTo>
                <a:cubicBezTo>
                  <a:pt x="21205" y="7312"/>
                  <a:pt x="21257" y="7333"/>
                  <a:pt x="21307" y="7293"/>
                </a:cubicBezTo>
                <a:cubicBezTo>
                  <a:pt x="21379" y="7236"/>
                  <a:pt x="21344" y="7201"/>
                  <a:pt x="21332" y="7119"/>
                </a:cubicBezTo>
              </a:path>
              <a:path w="5904" h="2506">
                <a:moveTo>
                  <a:pt x="21183" y="6722"/>
                </a:moveTo>
                <a:cubicBezTo>
                  <a:pt x="21112" y="6878"/>
                  <a:pt x="21060" y="7038"/>
                  <a:pt x="20985" y="7193"/>
                </a:cubicBezTo>
                <a:cubicBezTo>
                  <a:pt x="20943" y="7279"/>
                  <a:pt x="20903" y="7350"/>
                  <a:pt x="20836" y="7417"/>
                </a:cubicBezTo>
              </a:path>
              <a:path w="5904" h="2506">
                <a:moveTo>
                  <a:pt x="21530" y="6697"/>
                </a:moveTo>
                <a:cubicBezTo>
                  <a:pt x="21552" y="6838"/>
                  <a:pt x="21574" y="6977"/>
                  <a:pt x="21580" y="7119"/>
                </a:cubicBezTo>
                <a:cubicBezTo>
                  <a:pt x="21582" y="7168"/>
                  <a:pt x="21651" y="7239"/>
                  <a:pt x="21605" y="7193"/>
                </a:cubicBezTo>
              </a:path>
              <a:path w="5904" h="2506">
                <a:moveTo>
                  <a:pt x="21357" y="7020"/>
                </a:moveTo>
                <a:cubicBezTo>
                  <a:pt x="21445" y="7012"/>
                  <a:pt x="21519" y="6997"/>
                  <a:pt x="21605" y="6970"/>
                </a:cubicBezTo>
                <a:cubicBezTo>
                  <a:pt x="21680" y="6947"/>
                  <a:pt x="21754" y="6921"/>
                  <a:pt x="21828" y="6896"/>
                </a:cubicBezTo>
              </a:path>
              <a:path w="5904" h="2506">
                <a:moveTo>
                  <a:pt x="21977" y="6573"/>
                </a:moveTo>
                <a:cubicBezTo>
                  <a:pt x="22085" y="6504"/>
                  <a:pt x="22108" y="6473"/>
                  <a:pt x="22225" y="6524"/>
                </a:cubicBezTo>
                <a:cubicBezTo>
                  <a:pt x="22300" y="6556"/>
                  <a:pt x="22299" y="6627"/>
                  <a:pt x="22275" y="6697"/>
                </a:cubicBezTo>
                <a:cubicBezTo>
                  <a:pt x="22250" y="6769"/>
                  <a:pt x="22204" y="6818"/>
                  <a:pt x="22151" y="6871"/>
                </a:cubicBezTo>
                <a:cubicBezTo>
                  <a:pt x="22126" y="6896"/>
                  <a:pt x="22118" y="6904"/>
                  <a:pt x="22101" y="6921"/>
                </a:cubicBezTo>
                <a:cubicBezTo>
                  <a:pt x="22148" y="6966"/>
                  <a:pt x="22192" y="6990"/>
                  <a:pt x="22250" y="7020"/>
                </a:cubicBezTo>
                <a:cubicBezTo>
                  <a:pt x="22308" y="7049"/>
                  <a:pt x="22404" y="7104"/>
                  <a:pt x="22423" y="7169"/>
                </a:cubicBezTo>
                <a:cubicBezTo>
                  <a:pt x="22447" y="7252"/>
                  <a:pt x="22242" y="7368"/>
                  <a:pt x="22200" y="7392"/>
                </a:cubicBezTo>
                <a:cubicBezTo>
                  <a:pt x="22128" y="7434"/>
                  <a:pt x="22036" y="7486"/>
                  <a:pt x="21952" y="7491"/>
                </a:cubicBezTo>
                <a:cubicBezTo>
                  <a:pt x="21908" y="7491"/>
                  <a:pt x="21894" y="7494"/>
                  <a:pt x="21878" y="7466"/>
                </a:cubicBezTo>
              </a:path>
              <a:path w="5904" h="2506">
                <a:moveTo>
                  <a:pt x="23044" y="5978"/>
                </a:moveTo>
                <a:cubicBezTo>
                  <a:pt x="23052" y="5986"/>
                  <a:pt x="23060" y="5995"/>
                  <a:pt x="23068" y="6003"/>
                </a:cubicBezTo>
              </a:path>
              <a:path w="5904" h="2506">
                <a:moveTo>
                  <a:pt x="23391" y="5333"/>
                </a:moveTo>
                <a:cubicBezTo>
                  <a:pt x="23485" y="5471"/>
                  <a:pt x="23593" y="5595"/>
                  <a:pt x="23688" y="5730"/>
                </a:cubicBezTo>
                <a:cubicBezTo>
                  <a:pt x="23725" y="5783"/>
                  <a:pt x="23780" y="5898"/>
                  <a:pt x="23862" y="5879"/>
                </a:cubicBezTo>
                <a:cubicBezTo>
                  <a:pt x="23879" y="5871"/>
                  <a:pt x="23895" y="5862"/>
                  <a:pt x="23912" y="5854"/>
                </a:cubicBezTo>
              </a:path>
              <a:path w="5904" h="2506">
                <a:moveTo>
                  <a:pt x="23639" y="5383"/>
                </a:moveTo>
                <a:cubicBezTo>
                  <a:pt x="23571" y="5537"/>
                  <a:pt x="23515" y="5734"/>
                  <a:pt x="23440" y="5879"/>
                </a:cubicBezTo>
                <a:cubicBezTo>
                  <a:pt x="23394" y="5925"/>
                  <a:pt x="23380" y="5937"/>
                  <a:pt x="23366" y="5978"/>
                </a:cubicBezTo>
              </a:path>
              <a:path w="5904" h="2506">
                <a:moveTo>
                  <a:pt x="24011" y="5283"/>
                </a:moveTo>
                <a:cubicBezTo>
                  <a:pt x="24040" y="5401"/>
                  <a:pt x="24060" y="5544"/>
                  <a:pt x="24110" y="5655"/>
                </a:cubicBezTo>
                <a:cubicBezTo>
                  <a:pt x="24118" y="5663"/>
                  <a:pt x="24127" y="5672"/>
                  <a:pt x="24135" y="5680"/>
                </a:cubicBezTo>
              </a:path>
              <a:path w="5904" h="2506">
                <a:moveTo>
                  <a:pt x="23862" y="5507"/>
                </a:moveTo>
                <a:cubicBezTo>
                  <a:pt x="23935" y="5507"/>
                  <a:pt x="24017" y="5501"/>
                  <a:pt x="24085" y="5482"/>
                </a:cubicBezTo>
                <a:cubicBezTo>
                  <a:pt x="24102" y="5474"/>
                  <a:pt x="24118" y="5465"/>
                  <a:pt x="24135" y="5457"/>
                </a:cubicBezTo>
              </a:path>
              <a:path w="5904" h="2506">
                <a:moveTo>
                  <a:pt x="24358" y="5110"/>
                </a:moveTo>
                <a:cubicBezTo>
                  <a:pt x="24437" y="5093"/>
                  <a:pt x="24523" y="5053"/>
                  <a:pt x="24581" y="5135"/>
                </a:cubicBezTo>
                <a:cubicBezTo>
                  <a:pt x="24622" y="5192"/>
                  <a:pt x="24617" y="5299"/>
                  <a:pt x="24581" y="5358"/>
                </a:cubicBezTo>
                <a:cubicBezTo>
                  <a:pt x="24543" y="5419"/>
                  <a:pt x="24453" y="5432"/>
                  <a:pt x="24433" y="5507"/>
                </a:cubicBezTo>
                <a:cubicBezTo>
                  <a:pt x="24408" y="5601"/>
                  <a:pt x="24513" y="5584"/>
                  <a:pt x="24557" y="5631"/>
                </a:cubicBezTo>
                <a:cubicBezTo>
                  <a:pt x="24624" y="5703"/>
                  <a:pt x="24614" y="5765"/>
                  <a:pt x="24557" y="5829"/>
                </a:cubicBezTo>
                <a:cubicBezTo>
                  <a:pt x="24467" y="5930"/>
                  <a:pt x="24307" y="5978"/>
                  <a:pt x="24185" y="6028"/>
                </a:cubicBezTo>
                <a:cubicBezTo>
                  <a:pt x="24144" y="6044"/>
                  <a:pt x="24102" y="6061"/>
                  <a:pt x="24061" y="6077"/>
                </a:cubicBezTo>
              </a:path>
              <a:path w="5904" h="2506">
                <a:moveTo>
                  <a:pt x="20687" y="7417"/>
                </a:moveTo>
                <a:cubicBezTo>
                  <a:pt x="20910" y="7211"/>
                  <a:pt x="21186" y="7082"/>
                  <a:pt x="21456" y="6945"/>
                </a:cubicBezTo>
                <a:cubicBezTo>
                  <a:pt x="21651" y="6846"/>
                  <a:pt x="21830" y="6718"/>
                  <a:pt x="22027" y="6623"/>
                </a:cubicBezTo>
                <a:cubicBezTo>
                  <a:pt x="22148" y="6565"/>
                  <a:pt x="22298" y="6487"/>
                  <a:pt x="22423" y="6449"/>
                </a:cubicBezTo>
                <a:cubicBezTo>
                  <a:pt x="22473" y="6434"/>
                  <a:pt x="22500" y="6425"/>
                  <a:pt x="22547" y="6400"/>
                </a:cubicBezTo>
              </a:path>
              <a:path w="5904" h="2506">
                <a:moveTo>
                  <a:pt x="23341" y="5953"/>
                </a:moveTo>
                <a:cubicBezTo>
                  <a:pt x="23419" y="5849"/>
                  <a:pt x="23544" y="5765"/>
                  <a:pt x="23664" y="5705"/>
                </a:cubicBezTo>
                <a:cubicBezTo>
                  <a:pt x="23813" y="5630"/>
                  <a:pt x="23966" y="5568"/>
                  <a:pt x="24110" y="5482"/>
                </a:cubicBezTo>
                <a:cubicBezTo>
                  <a:pt x="24209" y="5423"/>
                  <a:pt x="24306" y="5362"/>
                  <a:pt x="24408" y="5308"/>
                </a:cubicBezTo>
                <a:cubicBezTo>
                  <a:pt x="24424" y="5300"/>
                  <a:pt x="24441" y="5291"/>
                  <a:pt x="24457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Ink 9"/>
          <p:cNvSpPr/>
          <p:nvPr/>
        </p:nvSpPr>
        <p:spPr>
          <a:xfrm>
            <a:off x="4813200" y="2527200"/>
            <a:ext cx="1152720" cy="366840"/>
          </a:xfrm>
          <a:custGeom>
            <a:avLst/>
            <a:gdLst/>
            <a:ahLst/>
            <a:rect l="l" t="t" r="r" b="b"/>
            <a:pathLst>
              <a:path w="3201" h="1018">
                <a:moveTo>
                  <a:pt x="13444" y="7020"/>
                </a:moveTo>
                <a:cubicBezTo>
                  <a:pt x="13419" y="7036"/>
                  <a:pt x="13395" y="7053"/>
                  <a:pt x="13370" y="7069"/>
                </a:cubicBezTo>
                <a:cubicBezTo>
                  <a:pt x="13477" y="7105"/>
                  <a:pt x="13547" y="7119"/>
                  <a:pt x="13667" y="7119"/>
                </a:cubicBezTo>
                <a:cubicBezTo>
                  <a:pt x="13959" y="7119"/>
                  <a:pt x="14246" y="7105"/>
                  <a:pt x="14536" y="7094"/>
                </a:cubicBezTo>
                <a:cubicBezTo>
                  <a:pt x="14839" y="7082"/>
                  <a:pt x="15151" y="7098"/>
                  <a:pt x="15453" y="7119"/>
                </a:cubicBezTo>
                <a:cubicBezTo>
                  <a:pt x="15695" y="7136"/>
                  <a:pt x="15987" y="7135"/>
                  <a:pt x="16222" y="7193"/>
                </a:cubicBezTo>
                <a:cubicBezTo>
                  <a:pt x="16228" y="7195"/>
                  <a:pt x="16571" y="7277"/>
                  <a:pt x="16570" y="7268"/>
                </a:cubicBezTo>
                <a:cubicBezTo>
                  <a:pt x="16535" y="7233"/>
                  <a:pt x="16513" y="7220"/>
                  <a:pt x="16470" y="7218"/>
                </a:cubicBezTo>
              </a:path>
              <a:path w="3201" h="1018">
                <a:moveTo>
                  <a:pt x="14238" y="7441"/>
                </a:moveTo>
                <a:cubicBezTo>
                  <a:pt x="14303" y="7399"/>
                  <a:pt x="14386" y="7379"/>
                  <a:pt x="14461" y="7367"/>
                </a:cubicBezTo>
                <a:cubicBezTo>
                  <a:pt x="14508" y="7359"/>
                  <a:pt x="14614" y="7358"/>
                  <a:pt x="14635" y="7417"/>
                </a:cubicBezTo>
                <a:cubicBezTo>
                  <a:pt x="14653" y="7467"/>
                  <a:pt x="14590" y="7576"/>
                  <a:pt x="14560" y="7615"/>
                </a:cubicBezTo>
                <a:cubicBezTo>
                  <a:pt x="14513" y="7677"/>
                  <a:pt x="14415" y="7740"/>
                  <a:pt x="14387" y="7813"/>
                </a:cubicBezTo>
                <a:cubicBezTo>
                  <a:pt x="14377" y="7838"/>
                  <a:pt x="14359" y="7944"/>
                  <a:pt x="14387" y="7962"/>
                </a:cubicBezTo>
                <a:cubicBezTo>
                  <a:pt x="14445" y="7999"/>
                  <a:pt x="14564" y="7987"/>
                  <a:pt x="14635" y="7987"/>
                </a:cubicBezTo>
              </a:path>
              <a:path w="3201" h="1018">
                <a:moveTo>
                  <a:pt x="14833" y="7615"/>
                </a:moveTo>
                <a:cubicBezTo>
                  <a:pt x="14870" y="7740"/>
                  <a:pt x="14894" y="7805"/>
                  <a:pt x="14982" y="7888"/>
                </a:cubicBezTo>
                <a:cubicBezTo>
                  <a:pt x="15063" y="7964"/>
                  <a:pt x="15120" y="7978"/>
                  <a:pt x="15230" y="7987"/>
                </a:cubicBezTo>
              </a:path>
              <a:path w="3201" h="1018">
                <a:moveTo>
                  <a:pt x="15056" y="7541"/>
                </a:moveTo>
                <a:cubicBezTo>
                  <a:pt x="14959" y="7613"/>
                  <a:pt x="14881" y="7692"/>
                  <a:pt x="14808" y="7789"/>
                </a:cubicBezTo>
                <a:cubicBezTo>
                  <a:pt x="14749" y="7868"/>
                  <a:pt x="14696" y="7916"/>
                  <a:pt x="14684" y="8012"/>
                </a:cubicBezTo>
              </a:path>
              <a:path w="3201" h="1018">
                <a:moveTo>
                  <a:pt x="15205" y="7689"/>
                </a:moveTo>
                <a:cubicBezTo>
                  <a:pt x="15335" y="7677"/>
                  <a:pt x="15426" y="7689"/>
                  <a:pt x="15553" y="7689"/>
                </a:cubicBezTo>
              </a:path>
              <a:path w="3201" h="1018">
                <a:moveTo>
                  <a:pt x="15329" y="7863"/>
                </a:moveTo>
                <a:cubicBezTo>
                  <a:pt x="15378" y="7892"/>
                  <a:pt x="15465" y="7903"/>
                  <a:pt x="15528" y="7888"/>
                </a:cubicBezTo>
                <a:cubicBezTo>
                  <a:pt x="15544" y="7880"/>
                  <a:pt x="15561" y="7871"/>
                  <a:pt x="15577" y="7863"/>
                </a:cubicBezTo>
              </a:path>
              <a:path w="3201" h="1018">
                <a:moveTo>
                  <a:pt x="15850" y="7665"/>
                </a:moveTo>
                <a:cubicBezTo>
                  <a:pt x="15933" y="7665"/>
                  <a:pt x="16015" y="7665"/>
                  <a:pt x="16098" y="7665"/>
                </a:cubicBezTo>
              </a:path>
              <a:path w="3201" h="1018">
                <a:moveTo>
                  <a:pt x="16247" y="7516"/>
                </a:moveTo>
                <a:cubicBezTo>
                  <a:pt x="16230" y="7583"/>
                  <a:pt x="16186" y="7673"/>
                  <a:pt x="16272" y="7714"/>
                </a:cubicBezTo>
                <a:cubicBezTo>
                  <a:pt x="16337" y="7736"/>
                  <a:pt x="16352" y="7744"/>
                  <a:pt x="16396" y="7739"/>
                </a:cubicBezTo>
              </a:path>
              <a:path w="3201" h="1018">
                <a:moveTo>
                  <a:pt x="16570" y="7268"/>
                </a:moveTo>
                <a:cubicBezTo>
                  <a:pt x="16493" y="7323"/>
                  <a:pt x="16459" y="7398"/>
                  <a:pt x="16421" y="7491"/>
                </a:cubicBezTo>
                <a:cubicBezTo>
                  <a:pt x="16377" y="7598"/>
                  <a:pt x="16386" y="7730"/>
                  <a:pt x="16421" y="7838"/>
                </a:cubicBezTo>
                <a:cubicBezTo>
                  <a:pt x="16444" y="7910"/>
                  <a:pt x="16446" y="7959"/>
                  <a:pt x="16446" y="80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Ink 10"/>
          <p:cNvSpPr/>
          <p:nvPr/>
        </p:nvSpPr>
        <p:spPr>
          <a:xfrm>
            <a:off x="5099040" y="2608200"/>
            <a:ext cx="1098720" cy="901800"/>
          </a:xfrm>
          <a:custGeom>
            <a:avLst/>
            <a:gdLst/>
            <a:ahLst/>
            <a:rect l="l" t="t" r="r" b="b"/>
            <a:pathLst>
              <a:path w="3052" h="2506">
                <a:moveTo>
                  <a:pt x="14163" y="8037"/>
                </a:moveTo>
                <a:cubicBezTo>
                  <a:pt x="14333" y="7986"/>
                  <a:pt x="14529" y="7976"/>
                  <a:pt x="14709" y="7987"/>
                </a:cubicBezTo>
                <a:cubicBezTo>
                  <a:pt x="14873" y="7997"/>
                  <a:pt x="15042" y="8024"/>
                  <a:pt x="15205" y="8037"/>
                </a:cubicBezTo>
                <a:cubicBezTo>
                  <a:pt x="15238" y="8037"/>
                  <a:pt x="15271" y="8037"/>
                  <a:pt x="15304" y="8037"/>
                </a:cubicBezTo>
              </a:path>
              <a:path w="3052" h="2506">
                <a:moveTo>
                  <a:pt x="14536" y="8235"/>
                </a:moveTo>
                <a:cubicBezTo>
                  <a:pt x="14612" y="8188"/>
                  <a:pt x="14672" y="8202"/>
                  <a:pt x="14759" y="8210"/>
                </a:cubicBezTo>
                <a:cubicBezTo>
                  <a:pt x="14841" y="8217"/>
                  <a:pt x="14927" y="8226"/>
                  <a:pt x="14908" y="8334"/>
                </a:cubicBezTo>
                <a:cubicBezTo>
                  <a:pt x="14898" y="8391"/>
                  <a:pt x="14818" y="8520"/>
                  <a:pt x="14784" y="8558"/>
                </a:cubicBezTo>
                <a:cubicBezTo>
                  <a:pt x="14741" y="8558"/>
                  <a:pt x="14727" y="8575"/>
                  <a:pt x="14734" y="8632"/>
                </a:cubicBezTo>
                <a:cubicBezTo>
                  <a:pt x="14816" y="8649"/>
                  <a:pt x="14891" y="8670"/>
                  <a:pt x="14982" y="8657"/>
                </a:cubicBezTo>
                <a:cubicBezTo>
                  <a:pt x="15015" y="8649"/>
                  <a:pt x="15048" y="8640"/>
                  <a:pt x="15081" y="8632"/>
                </a:cubicBezTo>
              </a:path>
              <a:path w="3052" h="2506">
                <a:moveTo>
                  <a:pt x="16024" y="8111"/>
                </a:moveTo>
                <a:cubicBezTo>
                  <a:pt x="16205" y="8131"/>
                  <a:pt x="16392" y="8170"/>
                  <a:pt x="16570" y="8186"/>
                </a:cubicBezTo>
                <a:cubicBezTo>
                  <a:pt x="16652" y="8186"/>
                  <a:pt x="16669" y="8186"/>
                  <a:pt x="16718" y="8186"/>
                </a:cubicBezTo>
              </a:path>
              <a:path w="3052" h="2506">
                <a:moveTo>
                  <a:pt x="16049" y="8334"/>
                </a:moveTo>
                <a:cubicBezTo>
                  <a:pt x="16135" y="8325"/>
                  <a:pt x="16209" y="8310"/>
                  <a:pt x="16297" y="8310"/>
                </a:cubicBezTo>
                <a:cubicBezTo>
                  <a:pt x="16380" y="8310"/>
                  <a:pt x="16443" y="8319"/>
                  <a:pt x="16520" y="8334"/>
                </a:cubicBezTo>
                <a:cubicBezTo>
                  <a:pt x="16483" y="8408"/>
                  <a:pt x="16413" y="8499"/>
                  <a:pt x="16346" y="8558"/>
                </a:cubicBezTo>
                <a:cubicBezTo>
                  <a:pt x="16297" y="8602"/>
                  <a:pt x="16221" y="8718"/>
                  <a:pt x="16321" y="8781"/>
                </a:cubicBezTo>
                <a:cubicBezTo>
                  <a:pt x="16412" y="8838"/>
                  <a:pt x="16524" y="8855"/>
                  <a:pt x="16644" y="8855"/>
                </a:cubicBezTo>
              </a:path>
              <a:path w="3052" h="2506">
                <a:moveTo>
                  <a:pt x="14362" y="7243"/>
                </a:moveTo>
                <a:cubicBezTo>
                  <a:pt x="14371" y="7418"/>
                  <a:pt x="14416" y="7507"/>
                  <a:pt x="14486" y="7665"/>
                </a:cubicBezTo>
                <a:cubicBezTo>
                  <a:pt x="14555" y="7821"/>
                  <a:pt x="14635" y="7960"/>
                  <a:pt x="14709" y="8111"/>
                </a:cubicBezTo>
                <a:cubicBezTo>
                  <a:pt x="14747" y="8189"/>
                  <a:pt x="14791" y="8353"/>
                  <a:pt x="14833" y="8409"/>
                </a:cubicBezTo>
                <a:cubicBezTo>
                  <a:pt x="14850" y="8417"/>
                  <a:pt x="14866" y="8426"/>
                  <a:pt x="14883" y="8434"/>
                </a:cubicBezTo>
              </a:path>
              <a:path w="3052" h="2506">
                <a:moveTo>
                  <a:pt x="15354" y="9153"/>
                </a:moveTo>
                <a:cubicBezTo>
                  <a:pt x="15452" y="9324"/>
                  <a:pt x="15533" y="9396"/>
                  <a:pt x="15677" y="9525"/>
                </a:cubicBezTo>
                <a:cubicBezTo>
                  <a:pt x="15744" y="9592"/>
                  <a:pt x="15758" y="9616"/>
                  <a:pt x="15825" y="9599"/>
                </a:cubicBezTo>
              </a:path>
              <a:path w="3052" h="2506">
                <a:moveTo>
                  <a:pt x="15577" y="9004"/>
                </a:moveTo>
                <a:cubicBezTo>
                  <a:pt x="15481" y="9139"/>
                  <a:pt x="15393" y="9263"/>
                  <a:pt x="15304" y="9401"/>
                </a:cubicBezTo>
                <a:cubicBezTo>
                  <a:pt x="15248" y="9488"/>
                  <a:pt x="15239" y="9500"/>
                  <a:pt x="15230" y="9599"/>
                </a:cubicBezTo>
              </a:path>
              <a:path w="3052" h="2506">
                <a:moveTo>
                  <a:pt x="15751" y="9178"/>
                </a:moveTo>
                <a:cubicBezTo>
                  <a:pt x="15879" y="9214"/>
                  <a:pt x="15925" y="9227"/>
                  <a:pt x="16049" y="9227"/>
                </a:cubicBezTo>
              </a:path>
              <a:path w="3052" h="2506">
                <a:moveTo>
                  <a:pt x="15751" y="9401"/>
                </a:moveTo>
                <a:cubicBezTo>
                  <a:pt x="15860" y="9401"/>
                  <a:pt x="15901" y="9403"/>
                  <a:pt x="15999" y="9376"/>
                </a:cubicBezTo>
              </a:path>
              <a:path w="3052" h="2506">
                <a:moveTo>
                  <a:pt x="16222" y="9227"/>
                </a:moveTo>
                <a:cubicBezTo>
                  <a:pt x="16346" y="9227"/>
                  <a:pt x="16371" y="9227"/>
                  <a:pt x="16446" y="9227"/>
                </a:cubicBezTo>
              </a:path>
              <a:path w="3052" h="2506">
                <a:moveTo>
                  <a:pt x="16669" y="9004"/>
                </a:moveTo>
                <a:cubicBezTo>
                  <a:pt x="16752" y="9004"/>
                  <a:pt x="16825" y="9001"/>
                  <a:pt x="16842" y="9079"/>
                </a:cubicBezTo>
                <a:cubicBezTo>
                  <a:pt x="16857" y="9148"/>
                  <a:pt x="16813" y="9204"/>
                  <a:pt x="16768" y="9252"/>
                </a:cubicBezTo>
                <a:cubicBezTo>
                  <a:pt x="16687" y="9339"/>
                  <a:pt x="16652" y="9323"/>
                  <a:pt x="16644" y="9451"/>
                </a:cubicBezTo>
                <a:cubicBezTo>
                  <a:pt x="16642" y="9489"/>
                  <a:pt x="16773" y="9591"/>
                  <a:pt x="16793" y="9599"/>
                </a:cubicBezTo>
                <a:cubicBezTo>
                  <a:pt x="16864" y="9626"/>
                  <a:pt x="16947" y="9611"/>
                  <a:pt x="17016" y="9599"/>
                </a:cubicBezTo>
              </a:path>
              <a:path w="3052" h="2506">
                <a:moveTo>
                  <a:pt x="16049" y="8706"/>
                </a:moveTo>
                <a:cubicBezTo>
                  <a:pt x="15777" y="8713"/>
                  <a:pt x="15544" y="8741"/>
                  <a:pt x="15280" y="8806"/>
                </a:cubicBezTo>
                <a:cubicBezTo>
                  <a:pt x="15059" y="8861"/>
                  <a:pt x="14848" y="8891"/>
                  <a:pt x="14709" y="9079"/>
                </a:cubicBezTo>
                <a:cubicBezTo>
                  <a:pt x="14629" y="9188"/>
                  <a:pt x="14638" y="9286"/>
                  <a:pt x="14734" y="9376"/>
                </a:cubicBezTo>
                <a:cubicBezTo>
                  <a:pt x="14895" y="9527"/>
                  <a:pt x="15076" y="9575"/>
                  <a:pt x="15280" y="9624"/>
                </a:cubicBezTo>
                <a:cubicBezTo>
                  <a:pt x="15553" y="9689"/>
                  <a:pt x="15819" y="9741"/>
                  <a:pt x="16098" y="9748"/>
                </a:cubicBezTo>
                <a:cubicBezTo>
                  <a:pt x="16344" y="9754"/>
                  <a:pt x="16607" y="9760"/>
                  <a:pt x="16842" y="9674"/>
                </a:cubicBezTo>
                <a:cubicBezTo>
                  <a:pt x="16968" y="9628"/>
                  <a:pt x="17150" y="9508"/>
                  <a:pt x="17190" y="9376"/>
                </a:cubicBezTo>
                <a:cubicBezTo>
                  <a:pt x="17245" y="9194"/>
                  <a:pt x="17159" y="9087"/>
                  <a:pt x="17041" y="8954"/>
                </a:cubicBezTo>
                <a:cubicBezTo>
                  <a:pt x="16892" y="8787"/>
                  <a:pt x="16680" y="8637"/>
                  <a:pt x="16470" y="8558"/>
                </a:cubicBezTo>
                <a:cubicBezTo>
                  <a:pt x="16286" y="8489"/>
                  <a:pt x="15946" y="8427"/>
                  <a:pt x="15751" y="8483"/>
                </a:cubicBezTo>
                <a:cubicBezTo>
                  <a:pt x="15710" y="8508"/>
                  <a:pt x="15668" y="8533"/>
                  <a:pt x="15627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Ink 11"/>
          <p:cNvSpPr/>
          <p:nvPr/>
        </p:nvSpPr>
        <p:spPr>
          <a:xfrm>
            <a:off x="6786720" y="2955960"/>
            <a:ext cx="1438200" cy="500040"/>
          </a:xfrm>
          <a:custGeom>
            <a:avLst/>
            <a:gdLst/>
            <a:ahLst/>
            <a:rect l="l" t="t" r="r" b="b"/>
            <a:pathLst>
              <a:path w="3994" h="1390">
                <a:moveTo>
                  <a:pt x="18951" y="8409"/>
                </a:moveTo>
                <a:cubicBezTo>
                  <a:pt x="18931" y="8506"/>
                  <a:pt x="18922" y="8604"/>
                  <a:pt x="18901" y="8706"/>
                </a:cubicBezTo>
                <a:cubicBezTo>
                  <a:pt x="18864" y="8886"/>
                  <a:pt x="18852" y="9042"/>
                  <a:pt x="18852" y="9227"/>
                </a:cubicBezTo>
              </a:path>
              <a:path w="3994" h="1390">
                <a:moveTo>
                  <a:pt x="18926" y="9451"/>
                </a:moveTo>
                <a:cubicBezTo>
                  <a:pt x="19070" y="9428"/>
                  <a:pt x="19196" y="9393"/>
                  <a:pt x="19248" y="9227"/>
                </a:cubicBezTo>
                <a:cubicBezTo>
                  <a:pt x="19289" y="9095"/>
                  <a:pt x="19331" y="8919"/>
                  <a:pt x="19348" y="8781"/>
                </a:cubicBezTo>
                <a:cubicBezTo>
                  <a:pt x="19361" y="8677"/>
                  <a:pt x="19325" y="8511"/>
                  <a:pt x="19248" y="8434"/>
                </a:cubicBezTo>
                <a:cubicBezTo>
                  <a:pt x="19194" y="8380"/>
                  <a:pt x="19099" y="8338"/>
                  <a:pt x="19025" y="8334"/>
                </a:cubicBezTo>
                <a:cubicBezTo>
                  <a:pt x="18960" y="8330"/>
                  <a:pt x="18932" y="8364"/>
                  <a:pt x="18951" y="8310"/>
                </a:cubicBezTo>
              </a:path>
              <a:path w="3994" h="1390">
                <a:moveTo>
                  <a:pt x="19794" y="8409"/>
                </a:moveTo>
                <a:cubicBezTo>
                  <a:pt x="19850" y="8443"/>
                  <a:pt x="19923" y="8477"/>
                  <a:pt x="19993" y="8483"/>
                </a:cubicBezTo>
                <a:cubicBezTo>
                  <a:pt x="20091" y="8491"/>
                  <a:pt x="20088" y="8481"/>
                  <a:pt x="20141" y="8558"/>
                </a:cubicBezTo>
              </a:path>
              <a:path w="3994" h="1390">
                <a:moveTo>
                  <a:pt x="19893" y="9004"/>
                </a:moveTo>
                <a:cubicBezTo>
                  <a:pt x="20000" y="8942"/>
                  <a:pt x="20099" y="8894"/>
                  <a:pt x="20216" y="8855"/>
                </a:cubicBezTo>
              </a:path>
              <a:path w="3994" h="1390">
                <a:moveTo>
                  <a:pt x="20563" y="8483"/>
                </a:moveTo>
                <a:cubicBezTo>
                  <a:pt x="20657" y="8437"/>
                  <a:pt x="20799" y="8350"/>
                  <a:pt x="20910" y="8434"/>
                </a:cubicBezTo>
                <a:cubicBezTo>
                  <a:pt x="20981" y="8488"/>
                  <a:pt x="20980" y="8637"/>
                  <a:pt x="20960" y="8706"/>
                </a:cubicBezTo>
                <a:cubicBezTo>
                  <a:pt x="20911" y="8876"/>
                  <a:pt x="20809" y="9016"/>
                  <a:pt x="20737" y="9178"/>
                </a:cubicBezTo>
                <a:cubicBezTo>
                  <a:pt x="20688" y="9288"/>
                  <a:pt x="20618" y="9404"/>
                  <a:pt x="20613" y="9525"/>
                </a:cubicBezTo>
                <a:cubicBezTo>
                  <a:pt x="20613" y="9550"/>
                  <a:pt x="20613" y="9574"/>
                  <a:pt x="20613" y="9599"/>
                </a:cubicBezTo>
                <a:cubicBezTo>
                  <a:pt x="20726" y="9599"/>
                  <a:pt x="20725" y="9567"/>
                  <a:pt x="20811" y="9500"/>
                </a:cubicBezTo>
                <a:cubicBezTo>
                  <a:pt x="20915" y="9432"/>
                  <a:pt x="20962" y="9389"/>
                  <a:pt x="21010" y="9302"/>
                </a:cubicBezTo>
              </a:path>
              <a:path w="3994" h="1390">
                <a:moveTo>
                  <a:pt x="21382" y="8731"/>
                </a:moveTo>
                <a:cubicBezTo>
                  <a:pt x="21389" y="8847"/>
                  <a:pt x="21403" y="8968"/>
                  <a:pt x="21456" y="9079"/>
                </a:cubicBezTo>
                <a:cubicBezTo>
                  <a:pt x="21501" y="9172"/>
                  <a:pt x="21559" y="9153"/>
                  <a:pt x="21654" y="9153"/>
                </a:cubicBezTo>
              </a:path>
              <a:path w="3994" h="1390">
                <a:moveTo>
                  <a:pt x="21481" y="8855"/>
                </a:moveTo>
                <a:cubicBezTo>
                  <a:pt x="21396" y="9034"/>
                  <a:pt x="21327" y="9207"/>
                  <a:pt x="21233" y="9376"/>
                </a:cubicBezTo>
              </a:path>
              <a:path w="3994" h="1390">
                <a:moveTo>
                  <a:pt x="21977" y="8508"/>
                </a:moveTo>
                <a:cubicBezTo>
                  <a:pt x="21977" y="8654"/>
                  <a:pt x="21975" y="8789"/>
                  <a:pt x="21952" y="8930"/>
                </a:cubicBezTo>
                <a:cubicBezTo>
                  <a:pt x="21942" y="8990"/>
                  <a:pt x="21923" y="9026"/>
                  <a:pt x="21977" y="8954"/>
                </a:cubicBezTo>
              </a:path>
              <a:path w="3994" h="1390">
                <a:moveTo>
                  <a:pt x="21853" y="8855"/>
                </a:moveTo>
                <a:cubicBezTo>
                  <a:pt x="21957" y="8827"/>
                  <a:pt x="22046" y="8728"/>
                  <a:pt x="22151" y="8706"/>
                </a:cubicBezTo>
                <a:cubicBezTo>
                  <a:pt x="22238" y="8688"/>
                  <a:pt x="22249" y="8660"/>
                  <a:pt x="22324" y="8632"/>
                </a:cubicBezTo>
              </a:path>
              <a:path w="3994" h="1390">
                <a:moveTo>
                  <a:pt x="22448" y="8483"/>
                </a:moveTo>
                <a:cubicBezTo>
                  <a:pt x="22455" y="8570"/>
                  <a:pt x="22464" y="8707"/>
                  <a:pt x="22523" y="8781"/>
                </a:cubicBezTo>
                <a:cubicBezTo>
                  <a:pt x="22579" y="8851"/>
                  <a:pt x="22698" y="8729"/>
                  <a:pt x="22721" y="8706"/>
                </a:cubicBezTo>
              </a:path>
              <a:path w="3994" h="1390">
                <a:moveTo>
                  <a:pt x="22845" y="8210"/>
                </a:moveTo>
                <a:cubicBezTo>
                  <a:pt x="22777" y="8478"/>
                  <a:pt x="22737" y="8731"/>
                  <a:pt x="22696" y="9004"/>
                </a:cubicBezTo>
                <a:cubicBezTo>
                  <a:pt x="22673" y="9156"/>
                  <a:pt x="22647" y="9298"/>
                  <a:pt x="22647" y="9451"/>
                </a:cubicBezTo>
                <a:cubicBezTo>
                  <a:pt x="22647" y="9495"/>
                  <a:pt x="22644" y="9508"/>
                  <a:pt x="22671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Ink 12"/>
          <p:cNvSpPr/>
          <p:nvPr/>
        </p:nvSpPr>
        <p:spPr>
          <a:xfrm>
            <a:off x="2035080" y="551016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5655" y="15304"/>
                </a:moveTo>
                <a:cubicBezTo>
                  <a:pt x="5655" y="15312"/>
                  <a:pt x="5655" y="15321"/>
                  <a:pt x="5655" y="153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Ink 13"/>
          <p:cNvSpPr/>
          <p:nvPr/>
        </p:nvSpPr>
        <p:spPr>
          <a:xfrm>
            <a:off x="3857760" y="3224160"/>
            <a:ext cx="723600" cy="258840"/>
          </a:xfrm>
          <a:custGeom>
            <a:avLst/>
            <a:gdLst/>
            <a:ahLst/>
            <a:rect l="l" t="t" r="r" b="b"/>
            <a:pathLst>
              <a:path w="2010" h="721">
                <a:moveTo>
                  <a:pt x="10815" y="9079"/>
                </a:moveTo>
                <a:cubicBezTo>
                  <a:pt x="10903" y="9187"/>
                  <a:pt x="11015" y="9288"/>
                  <a:pt x="11088" y="9401"/>
                </a:cubicBezTo>
                <a:cubicBezTo>
                  <a:pt x="11139" y="9480"/>
                  <a:pt x="11126" y="9525"/>
                  <a:pt x="11212" y="9550"/>
                </a:cubicBezTo>
              </a:path>
              <a:path w="2010" h="721">
                <a:moveTo>
                  <a:pt x="11311" y="8954"/>
                </a:moveTo>
                <a:cubicBezTo>
                  <a:pt x="11183" y="9090"/>
                  <a:pt x="11089" y="9241"/>
                  <a:pt x="10964" y="9376"/>
                </a:cubicBezTo>
                <a:cubicBezTo>
                  <a:pt x="10890" y="9455"/>
                  <a:pt x="10838" y="9546"/>
                  <a:pt x="10765" y="9624"/>
                </a:cubicBezTo>
                <a:cubicBezTo>
                  <a:pt x="10749" y="9641"/>
                  <a:pt x="10732" y="9657"/>
                  <a:pt x="10716" y="9674"/>
                </a:cubicBezTo>
              </a:path>
              <a:path w="2010" h="721">
                <a:moveTo>
                  <a:pt x="11237" y="9302"/>
                </a:moveTo>
                <a:cubicBezTo>
                  <a:pt x="11369" y="9302"/>
                  <a:pt x="11501" y="9302"/>
                  <a:pt x="11633" y="9302"/>
                </a:cubicBezTo>
              </a:path>
              <a:path w="2010" h="721">
                <a:moveTo>
                  <a:pt x="11336" y="9451"/>
                </a:moveTo>
                <a:cubicBezTo>
                  <a:pt x="11467" y="9472"/>
                  <a:pt x="11506" y="9476"/>
                  <a:pt x="11633" y="9451"/>
                </a:cubicBezTo>
              </a:path>
              <a:path w="2010" h="721">
                <a:moveTo>
                  <a:pt x="11757" y="9302"/>
                </a:moveTo>
                <a:cubicBezTo>
                  <a:pt x="11832" y="9302"/>
                  <a:pt x="11906" y="9302"/>
                  <a:pt x="11981" y="9302"/>
                </a:cubicBezTo>
              </a:path>
              <a:path w="2010" h="721">
                <a:moveTo>
                  <a:pt x="12179" y="9079"/>
                </a:moveTo>
                <a:cubicBezTo>
                  <a:pt x="12306" y="9079"/>
                  <a:pt x="12542" y="9039"/>
                  <a:pt x="12650" y="9103"/>
                </a:cubicBezTo>
                <a:cubicBezTo>
                  <a:pt x="12624" y="9143"/>
                  <a:pt x="12553" y="9208"/>
                  <a:pt x="12502" y="9227"/>
                </a:cubicBezTo>
                <a:cubicBezTo>
                  <a:pt x="12456" y="9245"/>
                  <a:pt x="12376" y="9245"/>
                  <a:pt x="12328" y="9252"/>
                </a:cubicBezTo>
                <a:cubicBezTo>
                  <a:pt x="12406" y="9231"/>
                  <a:pt x="12499" y="9219"/>
                  <a:pt x="12576" y="9252"/>
                </a:cubicBezTo>
                <a:cubicBezTo>
                  <a:pt x="12650" y="9284"/>
                  <a:pt x="12733" y="9419"/>
                  <a:pt x="12725" y="9500"/>
                </a:cubicBezTo>
                <a:cubicBezTo>
                  <a:pt x="12708" y="9661"/>
                  <a:pt x="12575" y="9624"/>
                  <a:pt x="12452" y="9624"/>
                </a:cubicBezTo>
                <a:cubicBezTo>
                  <a:pt x="12373" y="9624"/>
                  <a:pt x="12306" y="9603"/>
                  <a:pt x="12229" y="9599"/>
                </a:cubicBezTo>
                <a:cubicBezTo>
                  <a:pt x="12177" y="9599"/>
                  <a:pt x="12160" y="9598"/>
                  <a:pt x="12154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14"/>
          <p:cNvSpPr/>
          <p:nvPr/>
        </p:nvSpPr>
        <p:spPr>
          <a:xfrm>
            <a:off x="4259160" y="3867120"/>
            <a:ext cx="706680" cy="534960"/>
          </a:xfrm>
          <a:custGeom>
            <a:avLst/>
            <a:gdLst/>
            <a:ahLst/>
            <a:rect l="l" t="t" r="r" b="b"/>
            <a:pathLst>
              <a:path w="1960" h="1490">
                <a:moveTo>
                  <a:pt x="11832" y="10964"/>
                </a:moveTo>
                <a:cubicBezTo>
                  <a:pt x="11880" y="11067"/>
                  <a:pt x="11944" y="11204"/>
                  <a:pt x="12030" y="11286"/>
                </a:cubicBezTo>
                <a:cubicBezTo>
                  <a:pt x="12107" y="11360"/>
                  <a:pt x="12188" y="11447"/>
                  <a:pt x="12278" y="11509"/>
                </a:cubicBezTo>
                <a:cubicBezTo>
                  <a:pt x="12295" y="11517"/>
                  <a:pt x="12311" y="11526"/>
                  <a:pt x="12328" y="11534"/>
                </a:cubicBezTo>
              </a:path>
              <a:path w="1960" h="1490">
                <a:moveTo>
                  <a:pt x="12452" y="10914"/>
                </a:moveTo>
                <a:cubicBezTo>
                  <a:pt x="12411" y="11112"/>
                  <a:pt x="12364" y="11310"/>
                  <a:pt x="12328" y="11509"/>
                </a:cubicBezTo>
                <a:cubicBezTo>
                  <a:pt x="12294" y="11697"/>
                  <a:pt x="12252" y="11893"/>
                  <a:pt x="12229" y="12080"/>
                </a:cubicBezTo>
                <a:cubicBezTo>
                  <a:pt x="12220" y="12151"/>
                  <a:pt x="12208" y="12270"/>
                  <a:pt x="12278" y="12179"/>
                </a:cubicBezTo>
              </a:path>
              <a:path w="1960" h="1490">
                <a:moveTo>
                  <a:pt x="12675" y="11088"/>
                </a:moveTo>
                <a:cubicBezTo>
                  <a:pt x="12767" y="11072"/>
                  <a:pt x="12833" y="11063"/>
                  <a:pt x="12923" y="11063"/>
                </a:cubicBezTo>
              </a:path>
              <a:path w="1960" h="1490">
                <a:moveTo>
                  <a:pt x="12626" y="11261"/>
                </a:moveTo>
                <a:cubicBezTo>
                  <a:pt x="12788" y="11254"/>
                  <a:pt x="12782" y="11270"/>
                  <a:pt x="12898" y="11212"/>
                </a:cubicBezTo>
              </a:path>
              <a:path w="1960" h="1490">
                <a:moveTo>
                  <a:pt x="13122" y="10765"/>
                </a:moveTo>
                <a:cubicBezTo>
                  <a:pt x="13211" y="10754"/>
                  <a:pt x="13341" y="10726"/>
                  <a:pt x="13395" y="10840"/>
                </a:cubicBezTo>
                <a:cubicBezTo>
                  <a:pt x="13428" y="10909"/>
                  <a:pt x="13371" y="10999"/>
                  <a:pt x="13320" y="11038"/>
                </a:cubicBezTo>
                <a:cubicBezTo>
                  <a:pt x="13270" y="11077"/>
                  <a:pt x="13189" y="11119"/>
                  <a:pt x="13171" y="11187"/>
                </a:cubicBezTo>
                <a:cubicBezTo>
                  <a:pt x="13144" y="11288"/>
                  <a:pt x="13233" y="11283"/>
                  <a:pt x="13295" y="11311"/>
                </a:cubicBezTo>
                <a:cubicBezTo>
                  <a:pt x="13391" y="11354"/>
                  <a:pt x="13491" y="11360"/>
                  <a:pt x="13593" y="11336"/>
                </a:cubicBezTo>
                <a:cubicBezTo>
                  <a:pt x="13662" y="11320"/>
                  <a:pt x="13727" y="11290"/>
                  <a:pt x="13791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15"/>
          <p:cNvSpPr/>
          <p:nvPr/>
        </p:nvSpPr>
        <p:spPr>
          <a:xfrm>
            <a:off x="204840" y="1812960"/>
            <a:ext cx="689040" cy="241200"/>
          </a:xfrm>
          <a:custGeom>
            <a:avLst/>
            <a:gdLst/>
            <a:ahLst/>
            <a:rect l="l" t="t" r="r" b="b"/>
            <a:pathLst>
              <a:path w="1910" h="671">
                <a:moveTo>
                  <a:pt x="2456" y="5631"/>
                </a:moveTo>
                <a:cubicBezTo>
                  <a:pt x="2464" y="5639"/>
                  <a:pt x="2472" y="5647"/>
                  <a:pt x="2480" y="5655"/>
                </a:cubicBezTo>
              </a:path>
              <a:path w="1910" h="671">
                <a:moveTo>
                  <a:pt x="571" y="5407"/>
                </a:moveTo>
                <a:cubicBezTo>
                  <a:pt x="581" y="5488"/>
                  <a:pt x="592" y="5603"/>
                  <a:pt x="620" y="5680"/>
                </a:cubicBezTo>
                <a:cubicBezTo>
                  <a:pt x="647" y="5755"/>
                  <a:pt x="718" y="5681"/>
                  <a:pt x="744" y="5655"/>
                </a:cubicBezTo>
                <a:cubicBezTo>
                  <a:pt x="816" y="5584"/>
                  <a:pt x="875" y="5489"/>
                  <a:pt x="943" y="5407"/>
                </a:cubicBezTo>
                <a:cubicBezTo>
                  <a:pt x="1032" y="5301"/>
                  <a:pt x="1123" y="5187"/>
                  <a:pt x="1240" y="5110"/>
                </a:cubicBezTo>
                <a:cubicBezTo>
                  <a:pt x="1330" y="5065"/>
                  <a:pt x="1352" y="5051"/>
                  <a:pt x="1414" y="50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Ink 16"/>
          <p:cNvSpPr/>
          <p:nvPr/>
        </p:nvSpPr>
        <p:spPr>
          <a:xfrm>
            <a:off x="268200" y="2276640"/>
            <a:ext cx="312840" cy="23328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744" y="6598"/>
                </a:moveTo>
                <a:cubicBezTo>
                  <a:pt x="764" y="6695"/>
                  <a:pt x="798" y="6779"/>
                  <a:pt x="819" y="6871"/>
                </a:cubicBezTo>
                <a:cubicBezTo>
                  <a:pt x="827" y="6907"/>
                  <a:pt x="843" y="7010"/>
                  <a:pt x="918" y="6970"/>
                </a:cubicBezTo>
                <a:cubicBezTo>
                  <a:pt x="997" y="6929"/>
                  <a:pt x="1020" y="6808"/>
                  <a:pt x="1067" y="6747"/>
                </a:cubicBezTo>
                <a:cubicBezTo>
                  <a:pt x="1139" y="6652"/>
                  <a:pt x="1265" y="6539"/>
                  <a:pt x="1364" y="6474"/>
                </a:cubicBezTo>
                <a:cubicBezTo>
                  <a:pt x="1444" y="6421"/>
                  <a:pt x="1532" y="6379"/>
                  <a:pt x="1612" y="63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nk 17"/>
          <p:cNvSpPr/>
          <p:nvPr/>
        </p:nvSpPr>
        <p:spPr>
          <a:xfrm>
            <a:off x="268200" y="2938320"/>
            <a:ext cx="258840" cy="142920"/>
          </a:xfrm>
          <a:custGeom>
            <a:avLst/>
            <a:gdLst/>
            <a:ahLst/>
            <a:rect l="l" t="t" r="r" b="b"/>
            <a:pathLst>
              <a:path w="720" h="398">
                <a:moveTo>
                  <a:pt x="769" y="8210"/>
                </a:moveTo>
                <a:cubicBezTo>
                  <a:pt x="755" y="8336"/>
                  <a:pt x="744" y="8436"/>
                  <a:pt x="744" y="8558"/>
                </a:cubicBezTo>
                <a:cubicBezTo>
                  <a:pt x="828" y="8558"/>
                  <a:pt x="878" y="8535"/>
                  <a:pt x="943" y="8483"/>
                </a:cubicBezTo>
                <a:cubicBezTo>
                  <a:pt x="1058" y="8391"/>
                  <a:pt x="1162" y="8335"/>
                  <a:pt x="1290" y="8260"/>
                </a:cubicBezTo>
                <a:cubicBezTo>
                  <a:pt x="1370" y="8206"/>
                  <a:pt x="1401" y="8186"/>
                  <a:pt x="1463" y="81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Ink 18"/>
          <p:cNvSpPr/>
          <p:nvPr/>
        </p:nvSpPr>
        <p:spPr>
          <a:xfrm>
            <a:off x="258840" y="3429000"/>
            <a:ext cx="260280" cy="241200"/>
          </a:xfrm>
          <a:custGeom>
            <a:avLst/>
            <a:gdLst/>
            <a:ahLst/>
            <a:rect l="l" t="t" r="r" b="b"/>
            <a:pathLst>
              <a:path w="721" h="671">
                <a:moveTo>
                  <a:pt x="744" y="9525"/>
                </a:moveTo>
                <a:cubicBezTo>
                  <a:pt x="713" y="9650"/>
                  <a:pt x="719" y="9767"/>
                  <a:pt x="719" y="9897"/>
                </a:cubicBezTo>
                <a:cubicBezTo>
                  <a:pt x="719" y="9985"/>
                  <a:pt x="707" y="10072"/>
                  <a:pt x="744" y="10145"/>
                </a:cubicBezTo>
                <a:cubicBezTo>
                  <a:pt x="752" y="10162"/>
                  <a:pt x="761" y="10178"/>
                  <a:pt x="769" y="10195"/>
                </a:cubicBezTo>
                <a:cubicBezTo>
                  <a:pt x="826" y="10115"/>
                  <a:pt x="917" y="10068"/>
                  <a:pt x="992" y="9996"/>
                </a:cubicBezTo>
                <a:cubicBezTo>
                  <a:pt x="1136" y="9858"/>
                  <a:pt x="1288" y="9728"/>
                  <a:pt x="1439" y="95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Ink 19"/>
          <p:cNvSpPr/>
          <p:nvPr/>
        </p:nvSpPr>
        <p:spPr>
          <a:xfrm>
            <a:off x="384120" y="4071960"/>
            <a:ext cx="204840" cy="152280"/>
          </a:xfrm>
          <a:custGeom>
            <a:avLst/>
            <a:gdLst/>
            <a:ahLst/>
            <a:rect l="l" t="t" r="r" b="b"/>
            <a:pathLst>
              <a:path w="571" h="423">
                <a:moveTo>
                  <a:pt x="1091" y="11311"/>
                </a:moveTo>
                <a:cubicBezTo>
                  <a:pt x="1091" y="11426"/>
                  <a:pt x="1050" y="11546"/>
                  <a:pt x="1067" y="11658"/>
                </a:cubicBezTo>
                <a:cubicBezTo>
                  <a:pt x="1086" y="11780"/>
                  <a:pt x="1226" y="11712"/>
                  <a:pt x="1290" y="11683"/>
                </a:cubicBezTo>
                <a:cubicBezTo>
                  <a:pt x="1405" y="11631"/>
                  <a:pt x="1519" y="11581"/>
                  <a:pt x="1637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8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1600200" y="1143000"/>
            <a:ext cx="5562720" cy="4191120"/>
          </a:xfrm>
          <a:prstGeom prst="rect">
            <a:avLst/>
          </a:prstGeom>
          <a:ln w="0">
            <a:noFill/>
          </a:ln>
        </p:spPr>
      </p:pic>
      <p:sp>
        <p:nvSpPr>
          <p:cNvPr id="139" name="Ink 4"/>
          <p:cNvSpPr/>
          <p:nvPr/>
        </p:nvSpPr>
        <p:spPr>
          <a:xfrm>
            <a:off x="1884240" y="5438880"/>
            <a:ext cx="972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5259" y="15106"/>
                </a:moveTo>
                <a:cubicBezTo>
                  <a:pt x="5251" y="15123"/>
                  <a:pt x="5242" y="15139"/>
                  <a:pt x="5234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5"/>
          <p:cNvSpPr/>
          <p:nvPr/>
        </p:nvSpPr>
        <p:spPr>
          <a:xfrm>
            <a:off x="3367080" y="2527200"/>
            <a:ext cx="1571760" cy="1884600"/>
          </a:xfrm>
          <a:custGeom>
            <a:avLst/>
            <a:gdLst/>
            <a:ahLst/>
            <a:rect l="l" t="t" r="r" b="b"/>
            <a:pathLst>
              <a:path w="4367" h="5235">
                <a:moveTo>
                  <a:pt x="12229" y="7714"/>
                </a:moveTo>
                <a:cubicBezTo>
                  <a:pt x="12217" y="7628"/>
                  <a:pt x="12196" y="7629"/>
                  <a:pt x="12129" y="7689"/>
                </a:cubicBezTo>
                <a:cubicBezTo>
                  <a:pt x="12066" y="7746"/>
                  <a:pt x="12168" y="7743"/>
                  <a:pt x="12204" y="7714"/>
                </a:cubicBezTo>
                <a:cubicBezTo>
                  <a:pt x="12260" y="7669"/>
                  <a:pt x="12227" y="7598"/>
                  <a:pt x="12154" y="7615"/>
                </a:cubicBezTo>
                <a:cubicBezTo>
                  <a:pt x="12085" y="7631"/>
                  <a:pt x="12047" y="7734"/>
                  <a:pt x="12129" y="7764"/>
                </a:cubicBezTo>
                <a:cubicBezTo>
                  <a:pt x="12146" y="7764"/>
                  <a:pt x="12162" y="7764"/>
                  <a:pt x="12179" y="7764"/>
                </a:cubicBezTo>
                <a:cubicBezTo>
                  <a:pt x="12202" y="7733"/>
                  <a:pt x="12244" y="7685"/>
                  <a:pt x="12229" y="7640"/>
                </a:cubicBezTo>
                <a:cubicBezTo>
                  <a:pt x="12209" y="7580"/>
                  <a:pt x="12147" y="7600"/>
                  <a:pt x="12105" y="7615"/>
                </a:cubicBezTo>
                <a:cubicBezTo>
                  <a:pt x="12048" y="7643"/>
                  <a:pt x="12029" y="7659"/>
                  <a:pt x="12030" y="7714"/>
                </a:cubicBezTo>
                <a:cubicBezTo>
                  <a:pt x="12096" y="7747"/>
                  <a:pt x="12138" y="7772"/>
                  <a:pt x="12204" y="7739"/>
                </a:cubicBezTo>
                <a:cubicBezTo>
                  <a:pt x="12212" y="7731"/>
                  <a:pt x="12221" y="7722"/>
                  <a:pt x="12229" y="7714"/>
                </a:cubicBezTo>
                <a:cubicBezTo>
                  <a:pt x="12229" y="7616"/>
                  <a:pt x="12233" y="7583"/>
                  <a:pt x="12129" y="7615"/>
                </a:cubicBezTo>
                <a:cubicBezTo>
                  <a:pt x="12079" y="7630"/>
                  <a:pt x="11936" y="7667"/>
                  <a:pt x="12030" y="7739"/>
                </a:cubicBezTo>
                <a:cubicBezTo>
                  <a:pt x="12069" y="7769"/>
                  <a:pt x="12173" y="7789"/>
                  <a:pt x="12204" y="7739"/>
                </a:cubicBezTo>
                <a:cubicBezTo>
                  <a:pt x="12220" y="7713"/>
                  <a:pt x="12258" y="7636"/>
                  <a:pt x="12204" y="7615"/>
                </a:cubicBezTo>
                <a:cubicBezTo>
                  <a:pt x="12175" y="7604"/>
                  <a:pt x="12050" y="7647"/>
                  <a:pt x="12055" y="7689"/>
                </a:cubicBezTo>
                <a:cubicBezTo>
                  <a:pt x="12063" y="7697"/>
                  <a:pt x="12072" y="7706"/>
                  <a:pt x="12080" y="7714"/>
                </a:cubicBezTo>
                <a:cubicBezTo>
                  <a:pt x="12124" y="7736"/>
                  <a:pt x="12254" y="7767"/>
                  <a:pt x="12254" y="7665"/>
                </a:cubicBezTo>
                <a:cubicBezTo>
                  <a:pt x="12254" y="7568"/>
                  <a:pt x="12098" y="7590"/>
                  <a:pt x="12055" y="7640"/>
                </a:cubicBezTo>
                <a:cubicBezTo>
                  <a:pt x="12055" y="7691"/>
                  <a:pt x="12057" y="7709"/>
                  <a:pt x="12105" y="7714"/>
                </a:cubicBezTo>
              </a:path>
              <a:path w="4367" h="5235">
                <a:moveTo>
                  <a:pt x="10096" y="8930"/>
                </a:moveTo>
                <a:cubicBezTo>
                  <a:pt x="10103" y="8966"/>
                  <a:pt x="10142" y="9057"/>
                  <a:pt x="10195" y="9004"/>
                </a:cubicBezTo>
                <a:cubicBezTo>
                  <a:pt x="10215" y="8964"/>
                  <a:pt x="10224" y="8957"/>
                  <a:pt x="10220" y="8930"/>
                </a:cubicBezTo>
                <a:cubicBezTo>
                  <a:pt x="10193" y="8881"/>
                  <a:pt x="10138" y="8793"/>
                  <a:pt x="10071" y="8880"/>
                </a:cubicBezTo>
                <a:cubicBezTo>
                  <a:pt x="10026" y="8939"/>
                  <a:pt x="10046" y="9007"/>
                  <a:pt x="10120" y="9029"/>
                </a:cubicBezTo>
                <a:cubicBezTo>
                  <a:pt x="10234" y="9063"/>
                  <a:pt x="10205" y="8979"/>
                  <a:pt x="10195" y="8930"/>
                </a:cubicBezTo>
                <a:cubicBezTo>
                  <a:pt x="10180" y="8858"/>
                  <a:pt x="10133" y="8808"/>
                  <a:pt x="10046" y="8880"/>
                </a:cubicBezTo>
                <a:cubicBezTo>
                  <a:pt x="10038" y="8897"/>
                  <a:pt x="10029" y="8913"/>
                  <a:pt x="10021" y="8930"/>
                </a:cubicBezTo>
                <a:cubicBezTo>
                  <a:pt x="10072" y="8992"/>
                  <a:pt x="10062" y="9004"/>
                  <a:pt x="10145" y="9004"/>
                </a:cubicBezTo>
                <a:cubicBezTo>
                  <a:pt x="10203" y="9004"/>
                  <a:pt x="10220" y="8996"/>
                  <a:pt x="10195" y="8930"/>
                </a:cubicBezTo>
                <a:cubicBezTo>
                  <a:pt x="10187" y="8858"/>
                  <a:pt x="10173" y="8812"/>
                  <a:pt x="10096" y="8880"/>
                </a:cubicBezTo>
                <a:cubicBezTo>
                  <a:pt x="10039" y="8929"/>
                  <a:pt x="9985" y="9011"/>
                  <a:pt x="10071" y="9079"/>
                </a:cubicBezTo>
                <a:cubicBezTo>
                  <a:pt x="10124" y="9121"/>
                  <a:pt x="10208" y="9051"/>
                  <a:pt x="10220" y="9004"/>
                </a:cubicBezTo>
                <a:cubicBezTo>
                  <a:pt x="10220" y="8987"/>
                  <a:pt x="10220" y="8971"/>
                  <a:pt x="10220" y="8954"/>
                </a:cubicBezTo>
                <a:cubicBezTo>
                  <a:pt x="10236" y="8912"/>
                  <a:pt x="10227" y="8828"/>
                  <a:pt x="10145" y="8855"/>
                </a:cubicBezTo>
                <a:cubicBezTo>
                  <a:pt x="10102" y="8869"/>
                  <a:pt x="10030" y="8955"/>
                  <a:pt x="10046" y="9004"/>
                </a:cubicBezTo>
                <a:cubicBezTo>
                  <a:pt x="10064" y="9057"/>
                  <a:pt x="10134" y="9114"/>
                  <a:pt x="10195" y="9079"/>
                </a:cubicBezTo>
                <a:cubicBezTo>
                  <a:pt x="10227" y="9061"/>
                  <a:pt x="10332" y="8873"/>
                  <a:pt x="10244" y="8880"/>
                </a:cubicBezTo>
                <a:cubicBezTo>
                  <a:pt x="10147" y="8888"/>
                  <a:pt x="10096" y="8942"/>
                  <a:pt x="10096" y="9004"/>
                </a:cubicBezTo>
              </a:path>
              <a:path w="4367" h="5235">
                <a:moveTo>
                  <a:pt x="9575" y="12229"/>
                </a:moveTo>
                <a:cubicBezTo>
                  <a:pt x="9579" y="12113"/>
                  <a:pt x="9594" y="11989"/>
                  <a:pt x="9599" y="11881"/>
                </a:cubicBezTo>
                <a:cubicBezTo>
                  <a:pt x="9605" y="11746"/>
                  <a:pt x="9580" y="11619"/>
                  <a:pt x="9575" y="11485"/>
                </a:cubicBezTo>
                <a:cubicBezTo>
                  <a:pt x="9565" y="11229"/>
                  <a:pt x="9571" y="10968"/>
                  <a:pt x="9599" y="10716"/>
                </a:cubicBezTo>
                <a:cubicBezTo>
                  <a:pt x="9612" y="10601"/>
                  <a:pt x="9632" y="10482"/>
                  <a:pt x="9649" y="10368"/>
                </a:cubicBezTo>
                <a:cubicBezTo>
                  <a:pt x="9662" y="10281"/>
                  <a:pt x="9678" y="10206"/>
                  <a:pt x="9699" y="10120"/>
                </a:cubicBezTo>
                <a:cubicBezTo>
                  <a:pt x="9717" y="10046"/>
                  <a:pt x="9754" y="9966"/>
                  <a:pt x="9773" y="9897"/>
                </a:cubicBezTo>
                <a:cubicBezTo>
                  <a:pt x="9799" y="9802"/>
                  <a:pt x="9819" y="9688"/>
                  <a:pt x="9847" y="9599"/>
                </a:cubicBezTo>
                <a:cubicBezTo>
                  <a:pt x="9872" y="9520"/>
                  <a:pt x="9892" y="9457"/>
                  <a:pt x="9922" y="9376"/>
                </a:cubicBezTo>
                <a:cubicBezTo>
                  <a:pt x="9948" y="9304"/>
                  <a:pt x="9964" y="9221"/>
                  <a:pt x="9996" y="9153"/>
                </a:cubicBezTo>
                <a:cubicBezTo>
                  <a:pt x="10006" y="9133"/>
                  <a:pt x="10065" y="9041"/>
                  <a:pt x="10096" y="9004"/>
                </a:cubicBezTo>
                <a:cubicBezTo>
                  <a:pt x="10137" y="8954"/>
                  <a:pt x="10178" y="8885"/>
                  <a:pt x="10220" y="8855"/>
                </a:cubicBezTo>
                <a:cubicBezTo>
                  <a:pt x="10296" y="8801"/>
                  <a:pt x="10338" y="8783"/>
                  <a:pt x="10393" y="8731"/>
                </a:cubicBezTo>
                <a:cubicBezTo>
                  <a:pt x="10429" y="8697"/>
                  <a:pt x="10491" y="8658"/>
                  <a:pt x="10517" y="8632"/>
                </a:cubicBezTo>
                <a:cubicBezTo>
                  <a:pt x="10572" y="8575"/>
                  <a:pt x="10588" y="8538"/>
                  <a:pt x="10641" y="8483"/>
                </a:cubicBezTo>
                <a:cubicBezTo>
                  <a:pt x="10652" y="8472"/>
                  <a:pt x="10745" y="8373"/>
                  <a:pt x="10765" y="8359"/>
                </a:cubicBezTo>
                <a:cubicBezTo>
                  <a:pt x="10813" y="8325"/>
                  <a:pt x="10863" y="8327"/>
                  <a:pt x="10914" y="8285"/>
                </a:cubicBezTo>
                <a:cubicBezTo>
                  <a:pt x="10960" y="8247"/>
                  <a:pt x="10997" y="8195"/>
                  <a:pt x="11038" y="8161"/>
                </a:cubicBezTo>
                <a:cubicBezTo>
                  <a:pt x="11085" y="8122"/>
                  <a:pt x="11137" y="8072"/>
                  <a:pt x="11187" y="8037"/>
                </a:cubicBezTo>
                <a:cubicBezTo>
                  <a:pt x="11242" y="7998"/>
                  <a:pt x="11303" y="7974"/>
                  <a:pt x="11361" y="7938"/>
                </a:cubicBezTo>
                <a:cubicBezTo>
                  <a:pt x="11416" y="7904"/>
                  <a:pt x="11476" y="7866"/>
                  <a:pt x="11534" y="7838"/>
                </a:cubicBezTo>
                <a:cubicBezTo>
                  <a:pt x="11621" y="7796"/>
                  <a:pt x="11716" y="7747"/>
                  <a:pt x="11807" y="7714"/>
                </a:cubicBezTo>
                <a:cubicBezTo>
                  <a:pt x="11921" y="7672"/>
                  <a:pt x="12044" y="7649"/>
                  <a:pt x="12154" y="7615"/>
                </a:cubicBezTo>
                <a:cubicBezTo>
                  <a:pt x="12228" y="7592"/>
                  <a:pt x="12304" y="7568"/>
                  <a:pt x="12378" y="7541"/>
                </a:cubicBezTo>
                <a:cubicBezTo>
                  <a:pt x="12480" y="7504"/>
                  <a:pt x="12575" y="7472"/>
                  <a:pt x="12675" y="7441"/>
                </a:cubicBezTo>
                <a:cubicBezTo>
                  <a:pt x="12767" y="7412"/>
                  <a:pt x="12855" y="7387"/>
                  <a:pt x="12948" y="7367"/>
                </a:cubicBezTo>
                <a:cubicBezTo>
                  <a:pt x="13049" y="7346"/>
                  <a:pt x="13144" y="7331"/>
                  <a:pt x="13246" y="7317"/>
                </a:cubicBezTo>
                <a:cubicBezTo>
                  <a:pt x="13320" y="7307"/>
                  <a:pt x="13455" y="7330"/>
                  <a:pt x="13519" y="7293"/>
                </a:cubicBezTo>
                <a:cubicBezTo>
                  <a:pt x="13667" y="7206"/>
                  <a:pt x="13490" y="7255"/>
                  <a:pt x="13519" y="7193"/>
                </a:cubicBezTo>
              </a:path>
              <a:path w="4367" h="5235">
                <a:moveTo>
                  <a:pt x="13246" y="7020"/>
                </a:moveTo>
                <a:cubicBezTo>
                  <a:pt x="13343" y="7020"/>
                  <a:pt x="13382" y="7054"/>
                  <a:pt x="13469" y="7069"/>
                </a:cubicBezTo>
                <a:cubicBezTo>
                  <a:pt x="13560" y="7085"/>
                  <a:pt x="13589" y="7097"/>
                  <a:pt x="13667" y="7144"/>
                </a:cubicBezTo>
                <a:cubicBezTo>
                  <a:pt x="13684" y="7152"/>
                  <a:pt x="13700" y="7161"/>
                  <a:pt x="13717" y="7169"/>
                </a:cubicBezTo>
                <a:cubicBezTo>
                  <a:pt x="13683" y="7244"/>
                  <a:pt x="13630" y="7358"/>
                  <a:pt x="13568" y="7417"/>
                </a:cubicBezTo>
                <a:cubicBezTo>
                  <a:pt x="13473" y="7507"/>
                  <a:pt x="13427" y="7568"/>
                  <a:pt x="13370" y="7689"/>
                </a:cubicBezTo>
                <a:cubicBezTo>
                  <a:pt x="13313" y="7803"/>
                  <a:pt x="13287" y="7849"/>
                  <a:pt x="13221" y="7913"/>
                </a:cubicBezTo>
              </a:path>
              <a:path w="4367" h="5235">
                <a:moveTo>
                  <a:pt x="9351" y="11658"/>
                </a:moveTo>
                <a:cubicBezTo>
                  <a:pt x="9351" y="11746"/>
                  <a:pt x="9368" y="11788"/>
                  <a:pt x="9426" y="11857"/>
                </a:cubicBezTo>
                <a:cubicBezTo>
                  <a:pt x="9487" y="11930"/>
                  <a:pt x="9534" y="12012"/>
                  <a:pt x="9599" y="12080"/>
                </a:cubicBezTo>
                <a:cubicBezTo>
                  <a:pt x="9630" y="12113"/>
                  <a:pt x="9684" y="12240"/>
                  <a:pt x="9723" y="12254"/>
                </a:cubicBezTo>
                <a:cubicBezTo>
                  <a:pt x="9790" y="12278"/>
                  <a:pt x="9824" y="12198"/>
                  <a:pt x="9847" y="12154"/>
                </a:cubicBezTo>
                <a:cubicBezTo>
                  <a:pt x="9907" y="12040"/>
                  <a:pt x="9961" y="11931"/>
                  <a:pt x="10046" y="11832"/>
                </a:cubicBezTo>
                <a:cubicBezTo>
                  <a:pt x="10155" y="11706"/>
                  <a:pt x="10271" y="11599"/>
                  <a:pt x="10393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6"/>
          <p:cNvSpPr/>
          <p:nvPr/>
        </p:nvSpPr>
        <p:spPr>
          <a:xfrm>
            <a:off x="3276720" y="1490760"/>
            <a:ext cx="36360" cy="1117440"/>
          </a:xfrm>
          <a:custGeom>
            <a:avLst/>
            <a:gdLst/>
            <a:ahLst/>
            <a:rect l="l" t="t" r="r" b="b"/>
            <a:pathLst>
              <a:path w="101" h="3102">
                <a:moveTo>
                  <a:pt x="9128" y="4142"/>
                </a:moveTo>
                <a:cubicBezTo>
                  <a:pt x="9156" y="4176"/>
                  <a:pt x="9170" y="4201"/>
                  <a:pt x="9203" y="4217"/>
                </a:cubicBezTo>
              </a:path>
              <a:path w="101" h="3102">
                <a:moveTo>
                  <a:pt x="9178" y="4589"/>
                </a:moveTo>
                <a:cubicBezTo>
                  <a:pt x="9142" y="4679"/>
                  <a:pt x="9125" y="4684"/>
                  <a:pt x="9128" y="4738"/>
                </a:cubicBezTo>
              </a:path>
              <a:path w="101" h="3102">
                <a:moveTo>
                  <a:pt x="9103" y="5159"/>
                </a:moveTo>
                <a:cubicBezTo>
                  <a:pt x="9121" y="5209"/>
                  <a:pt x="9143" y="5258"/>
                  <a:pt x="9153" y="5308"/>
                </a:cubicBezTo>
              </a:path>
              <a:path w="101" h="3102">
                <a:moveTo>
                  <a:pt x="9153" y="5705"/>
                </a:moveTo>
                <a:cubicBezTo>
                  <a:pt x="9153" y="5804"/>
                  <a:pt x="9153" y="5821"/>
                  <a:pt x="9153" y="5879"/>
                </a:cubicBezTo>
              </a:path>
              <a:path w="101" h="3102">
                <a:moveTo>
                  <a:pt x="9178" y="6300"/>
                </a:moveTo>
                <a:cubicBezTo>
                  <a:pt x="9156" y="6443"/>
                  <a:pt x="9154" y="6456"/>
                  <a:pt x="9178" y="6573"/>
                </a:cubicBezTo>
              </a:path>
              <a:path w="101" h="3102">
                <a:moveTo>
                  <a:pt x="9153" y="6995"/>
                </a:moveTo>
                <a:cubicBezTo>
                  <a:pt x="9137" y="7087"/>
                  <a:pt x="9128" y="7153"/>
                  <a:pt x="9128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7"/>
          <p:cNvSpPr/>
          <p:nvPr/>
        </p:nvSpPr>
        <p:spPr>
          <a:xfrm>
            <a:off x="3286080" y="2776680"/>
            <a:ext cx="19080" cy="98280"/>
          </a:xfrm>
          <a:custGeom>
            <a:avLst/>
            <a:gdLst/>
            <a:ahLst/>
            <a:rect l="l" t="t" r="r" b="b"/>
            <a:pathLst>
              <a:path w="51" h="274">
                <a:moveTo>
                  <a:pt x="9178" y="7714"/>
                </a:moveTo>
                <a:cubicBezTo>
                  <a:pt x="9143" y="7842"/>
                  <a:pt x="9105" y="7876"/>
                  <a:pt x="9153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Ink 8"/>
          <p:cNvSpPr/>
          <p:nvPr/>
        </p:nvSpPr>
        <p:spPr>
          <a:xfrm>
            <a:off x="3251160" y="3089160"/>
            <a:ext cx="7920" cy="81000"/>
          </a:xfrm>
          <a:custGeom>
            <a:avLst/>
            <a:gdLst/>
            <a:ahLst/>
            <a:rect l="l" t="t" r="r" b="b"/>
            <a:pathLst>
              <a:path w="26" h="225">
                <a:moveTo>
                  <a:pt x="9029" y="8582"/>
                </a:moveTo>
                <a:cubicBezTo>
                  <a:pt x="9035" y="8704"/>
                  <a:pt x="9036" y="8714"/>
                  <a:pt x="9054" y="88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Ink 9"/>
          <p:cNvSpPr/>
          <p:nvPr/>
        </p:nvSpPr>
        <p:spPr>
          <a:xfrm>
            <a:off x="3251160" y="3411360"/>
            <a:ext cx="17640" cy="98640"/>
          </a:xfrm>
          <a:custGeom>
            <a:avLst/>
            <a:gdLst/>
            <a:ahLst/>
            <a:rect l="l" t="t" r="r" b="b"/>
            <a:pathLst>
              <a:path w="51" h="274">
                <a:moveTo>
                  <a:pt x="9079" y="9475"/>
                </a:moveTo>
                <a:cubicBezTo>
                  <a:pt x="9032" y="9615"/>
                  <a:pt x="9037" y="9628"/>
                  <a:pt x="9054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10"/>
          <p:cNvSpPr/>
          <p:nvPr/>
        </p:nvSpPr>
        <p:spPr>
          <a:xfrm>
            <a:off x="3241800" y="3732120"/>
            <a:ext cx="27000" cy="189000"/>
          </a:xfrm>
          <a:custGeom>
            <a:avLst/>
            <a:gdLst/>
            <a:ahLst/>
            <a:rect l="l" t="t" r="r" b="b"/>
            <a:pathLst>
              <a:path w="76" h="522">
                <a:moveTo>
                  <a:pt x="9054" y="10368"/>
                </a:moveTo>
                <a:cubicBezTo>
                  <a:pt x="9021" y="10514"/>
                  <a:pt x="8970" y="10646"/>
                  <a:pt x="9029" y="10790"/>
                </a:cubicBezTo>
                <a:cubicBezTo>
                  <a:pt x="9046" y="10823"/>
                  <a:pt x="9062" y="10856"/>
                  <a:pt x="9079" y="108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Ink 11"/>
          <p:cNvSpPr/>
          <p:nvPr/>
        </p:nvSpPr>
        <p:spPr>
          <a:xfrm>
            <a:off x="3251160" y="4133880"/>
            <a:ext cx="17640" cy="196920"/>
          </a:xfrm>
          <a:custGeom>
            <a:avLst/>
            <a:gdLst/>
            <a:ahLst/>
            <a:rect l="l" t="t" r="r" b="b"/>
            <a:pathLst>
              <a:path w="51" h="546">
                <a:moveTo>
                  <a:pt x="9079" y="11485"/>
                </a:moveTo>
                <a:cubicBezTo>
                  <a:pt x="9047" y="11675"/>
                  <a:pt x="9010" y="11783"/>
                  <a:pt x="9054" y="11956"/>
                </a:cubicBezTo>
                <a:cubicBezTo>
                  <a:pt x="9062" y="11981"/>
                  <a:pt x="9071" y="12005"/>
                  <a:pt x="9079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Ink 12"/>
          <p:cNvSpPr/>
          <p:nvPr/>
        </p:nvSpPr>
        <p:spPr>
          <a:xfrm>
            <a:off x="3259080" y="4599000"/>
            <a:ext cx="972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9079" y="12774"/>
                </a:moveTo>
                <a:cubicBezTo>
                  <a:pt x="9059" y="12936"/>
                  <a:pt x="9062" y="13021"/>
                  <a:pt x="9079" y="13171"/>
                </a:cubicBezTo>
                <a:cubicBezTo>
                  <a:pt x="9079" y="13196"/>
                  <a:pt x="9079" y="13221"/>
                  <a:pt x="9079" y="132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Ink 13"/>
          <p:cNvSpPr/>
          <p:nvPr/>
        </p:nvSpPr>
        <p:spPr>
          <a:xfrm>
            <a:off x="3232080" y="4964040"/>
            <a:ext cx="46080" cy="314280"/>
          </a:xfrm>
          <a:custGeom>
            <a:avLst/>
            <a:gdLst/>
            <a:ahLst/>
            <a:rect l="l" t="t" r="r" b="b"/>
            <a:pathLst>
              <a:path w="125" h="870">
                <a:moveTo>
                  <a:pt x="9029" y="13791"/>
                </a:moveTo>
                <a:cubicBezTo>
                  <a:pt x="8987" y="14009"/>
                  <a:pt x="8972" y="13977"/>
                  <a:pt x="9054" y="14139"/>
                </a:cubicBezTo>
                <a:cubicBezTo>
                  <a:pt x="9089" y="14209"/>
                  <a:pt x="9117" y="14282"/>
                  <a:pt x="9103" y="14362"/>
                </a:cubicBezTo>
                <a:cubicBezTo>
                  <a:pt x="9087" y="14455"/>
                  <a:pt x="9061" y="14544"/>
                  <a:pt x="9054" y="14635"/>
                </a:cubicBezTo>
                <a:cubicBezTo>
                  <a:pt x="9054" y="14643"/>
                  <a:pt x="9054" y="14652"/>
                  <a:pt x="9054" y="146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Ink 14"/>
          <p:cNvSpPr/>
          <p:nvPr/>
        </p:nvSpPr>
        <p:spPr>
          <a:xfrm>
            <a:off x="1741320" y="2490840"/>
            <a:ext cx="1554480" cy="27000"/>
          </a:xfrm>
          <a:custGeom>
            <a:avLst/>
            <a:gdLst/>
            <a:ahLst/>
            <a:rect l="l" t="t" r="r" b="b"/>
            <a:pathLst>
              <a:path w="4317" h="75">
                <a:moveTo>
                  <a:pt x="4837" y="6970"/>
                </a:moveTo>
                <a:cubicBezTo>
                  <a:pt x="4854" y="6970"/>
                  <a:pt x="4870" y="6970"/>
                  <a:pt x="4887" y="6970"/>
                </a:cubicBezTo>
              </a:path>
              <a:path w="4317" h="75">
                <a:moveTo>
                  <a:pt x="5259" y="6970"/>
                </a:moveTo>
                <a:cubicBezTo>
                  <a:pt x="5333" y="6970"/>
                  <a:pt x="5408" y="6970"/>
                  <a:pt x="5482" y="6970"/>
                </a:cubicBezTo>
              </a:path>
              <a:path w="4317" h="75">
                <a:moveTo>
                  <a:pt x="5779" y="6970"/>
                </a:moveTo>
                <a:cubicBezTo>
                  <a:pt x="5866" y="6992"/>
                  <a:pt x="5938" y="6995"/>
                  <a:pt x="6028" y="6995"/>
                </a:cubicBezTo>
              </a:path>
              <a:path w="4317" h="75">
                <a:moveTo>
                  <a:pt x="6474" y="6945"/>
                </a:moveTo>
                <a:cubicBezTo>
                  <a:pt x="6573" y="6926"/>
                  <a:pt x="6589" y="6918"/>
                  <a:pt x="6648" y="6921"/>
                </a:cubicBezTo>
              </a:path>
              <a:path w="4317" h="75">
                <a:moveTo>
                  <a:pt x="6995" y="6945"/>
                </a:moveTo>
                <a:cubicBezTo>
                  <a:pt x="7084" y="6945"/>
                  <a:pt x="7161" y="6959"/>
                  <a:pt x="7243" y="6970"/>
                </a:cubicBezTo>
                <a:cubicBezTo>
                  <a:pt x="7309" y="6970"/>
                  <a:pt x="7326" y="6970"/>
                  <a:pt x="7367" y="6970"/>
                </a:cubicBezTo>
              </a:path>
              <a:path w="4317" h="75">
                <a:moveTo>
                  <a:pt x="7764" y="6970"/>
                </a:moveTo>
                <a:cubicBezTo>
                  <a:pt x="7872" y="6970"/>
                  <a:pt x="7962" y="6982"/>
                  <a:pt x="8062" y="6995"/>
                </a:cubicBezTo>
                <a:cubicBezTo>
                  <a:pt x="8133" y="7004"/>
                  <a:pt x="8213" y="6995"/>
                  <a:pt x="8285" y="6995"/>
                </a:cubicBezTo>
              </a:path>
              <a:path w="4317" h="75">
                <a:moveTo>
                  <a:pt x="8607" y="6995"/>
                </a:moveTo>
                <a:cubicBezTo>
                  <a:pt x="8739" y="6978"/>
                  <a:pt x="8848" y="6970"/>
                  <a:pt x="8979" y="6970"/>
                </a:cubicBezTo>
                <a:cubicBezTo>
                  <a:pt x="9037" y="6970"/>
                  <a:pt x="9095" y="6970"/>
                  <a:pt x="9153" y="69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Ink 15"/>
          <p:cNvSpPr/>
          <p:nvPr/>
        </p:nvSpPr>
        <p:spPr>
          <a:xfrm>
            <a:off x="3554280" y="2500200"/>
            <a:ext cx="9864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9872" y="6945"/>
                </a:moveTo>
                <a:cubicBezTo>
                  <a:pt x="10029" y="6945"/>
                  <a:pt x="10054" y="6945"/>
                  <a:pt x="10145" y="69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Ink 16"/>
          <p:cNvSpPr/>
          <p:nvPr/>
        </p:nvSpPr>
        <p:spPr>
          <a:xfrm>
            <a:off x="3867120" y="2500200"/>
            <a:ext cx="150840" cy="1800"/>
          </a:xfrm>
          <a:custGeom>
            <a:avLst/>
            <a:gdLst/>
            <a:ahLst/>
            <a:rect l="l" t="t" r="r" b="b"/>
            <a:pathLst>
              <a:path w="423" h="1">
                <a:moveTo>
                  <a:pt x="10740" y="6945"/>
                </a:moveTo>
                <a:cubicBezTo>
                  <a:pt x="10881" y="6945"/>
                  <a:pt x="11021" y="6945"/>
                  <a:pt x="11162" y="69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Ink 17"/>
          <p:cNvSpPr/>
          <p:nvPr/>
        </p:nvSpPr>
        <p:spPr>
          <a:xfrm>
            <a:off x="4276800" y="251784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11881" y="6995"/>
                </a:moveTo>
                <a:cubicBezTo>
                  <a:pt x="12063" y="6995"/>
                  <a:pt x="12245" y="6995"/>
                  <a:pt x="12427" y="6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Ink 18"/>
          <p:cNvSpPr/>
          <p:nvPr/>
        </p:nvSpPr>
        <p:spPr>
          <a:xfrm>
            <a:off x="4697280" y="2463840"/>
            <a:ext cx="1911600" cy="63360"/>
          </a:xfrm>
          <a:custGeom>
            <a:avLst/>
            <a:gdLst/>
            <a:ahLst/>
            <a:rect l="l" t="t" r="r" b="b"/>
            <a:pathLst>
              <a:path w="5309" h="175">
                <a:moveTo>
                  <a:pt x="13047" y="7020"/>
                </a:moveTo>
                <a:cubicBezTo>
                  <a:pt x="13217" y="7005"/>
                  <a:pt x="13374" y="6995"/>
                  <a:pt x="13543" y="6995"/>
                </a:cubicBezTo>
                <a:cubicBezTo>
                  <a:pt x="13568" y="6995"/>
                  <a:pt x="13593" y="6995"/>
                  <a:pt x="13618" y="6995"/>
                </a:cubicBezTo>
              </a:path>
              <a:path w="5309" h="175">
                <a:moveTo>
                  <a:pt x="14139" y="7020"/>
                </a:moveTo>
                <a:cubicBezTo>
                  <a:pt x="14251" y="7014"/>
                  <a:pt x="14349" y="6995"/>
                  <a:pt x="14461" y="6995"/>
                </a:cubicBezTo>
                <a:cubicBezTo>
                  <a:pt x="14569" y="6995"/>
                  <a:pt x="14676" y="6995"/>
                  <a:pt x="14784" y="6995"/>
                </a:cubicBezTo>
              </a:path>
              <a:path w="5309" h="175">
                <a:moveTo>
                  <a:pt x="15180" y="6970"/>
                </a:moveTo>
                <a:cubicBezTo>
                  <a:pt x="15312" y="6953"/>
                  <a:pt x="15422" y="6945"/>
                  <a:pt x="15553" y="6945"/>
                </a:cubicBezTo>
                <a:cubicBezTo>
                  <a:pt x="15628" y="6945"/>
                  <a:pt x="15654" y="6945"/>
                  <a:pt x="15701" y="6921"/>
                </a:cubicBezTo>
              </a:path>
              <a:path w="5309" h="175">
                <a:moveTo>
                  <a:pt x="16272" y="6896"/>
                </a:moveTo>
                <a:cubicBezTo>
                  <a:pt x="16427" y="6882"/>
                  <a:pt x="16593" y="6884"/>
                  <a:pt x="16743" y="6846"/>
                </a:cubicBezTo>
              </a:path>
              <a:path w="5309" h="175">
                <a:moveTo>
                  <a:pt x="17289" y="6871"/>
                </a:moveTo>
                <a:cubicBezTo>
                  <a:pt x="17404" y="6890"/>
                  <a:pt x="17524" y="6875"/>
                  <a:pt x="17636" y="6896"/>
                </a:cubicBezTo>
                <a:cubicBezTo>
                  <a:pt x="17731" y="6914"/>
                  <a:pt x="17865" y="6952"/>
                  <a:pt x="17959" y="6945"/>
                </a:cubicBezTo>
                <a:cubicBezTo>
                  <a:pt x="18036" y="6940"/>
                  <a:pt x="18153" y="6936"/>
                  <a:pt x="18231" y="6921"/>
                </a:cubicBezTo>
                <a:cubicBezTo>
                  <a:pt x="18300" y="6908"/>
                  <a:pt x="18313" y="6890"/>
                  <a:pt x="18355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Ink 19"/>
          <p:cNvSpPr/>
          <p:nvPr/>
        </p:nvSpPr>
        <p:spPr>
          <a:xfrm>
            <a:off x="1562040" y="1204920"/>
            <a:ext cx="1751040" cy="1260360"/>
          </a:xfrm>
          <a:custGeom>
            <a:avLst/>
            <a:gdLst/>
            <a:ahLst/>
            <a:rect l="l" t="t" r="r" b="b"/>
            <a:pathLst>
              <a:path w="4863" h="3498">
                <a:moveTo>
                  <a:pt x="8161" y="4961"/>
                </a:moveTo>
                <a:cubicBezTo>
                  <a:pt x="8161" y="4911"/>
                  <a:pt x="8161" y="4895"/>
                  <a:pt x="8161" y="4862"/>
                </a:cubicBezTo>
                <a:cubicBezTo>
                  <a:pt x="8106" y="4870"/>
                  <a:pt x="8071" y="4884"/>
                  <a:pt x="8037" y="4936"/>
                </a:cubicBezTo>
                <a:cubicBezTo>
                  <a:pt x="7988" y="5013"/>
                  <a:pt x="8004" y="5043"/>
                  <a:pt x="8062" y="5035"/>
                </a:cubicBezTo>
                <a:cubicBezTo>
                  <a:pt x="8122" y="5026"/>
                  <a:pt x="8187" y="4995"/>
                  <a:pt x="8161" y="4911"/>
                </a:cubicBezTo>
                <a:cubicBezTo>
                  <a:pt x="8153" y="4903"/>
                  <a:pt x="8144" y="4895"/>
                  <a:pt x="8136" y="4887"/>
                </a:cubicBezTo>
                <a:cubicBezTo>
                  <a:pt x="8101" y="4921"/>
                  <a:pt x="8043" y="4953"/>
                  <a:pt x="8062" y="5011"/>
                </a:cubicBezTo>
                <a:cubicBezTo>
                  <a:pt x="8081" y="5071"/>
                  <a:pt x="8182" y="5027"/>
                  <a:pt x="8210" y="5011"/>
                </a:cubicBezTo>
                <a:cubicBezTo>
                  <a:pt x="8210" y="4924"/>
                  <a:pt x="8207" y="4866"/>
                  <a:pt x="8111" y="4936"/>
                </a:cubicBezTo>
                <a:cubicBezTo>
                  <a:pt x="8052" y="4979"/>
                  <a:pt x="8071" y="4995"/>
                  <a:pt x="8012" y="4936"/>
                </a:cubicBezTo>
                <a:cubicBezTo>
                  <a:pt x="7960" y="4884"/>
                  <a:pt x="7987" y="4948"/>
                  <a:pt x="7987" y="4986"/>
                </a:cubicBezTo>
              </a:path>
              <a:path w="4863" h="3498">
                <a:moveTo>
                  <a:pt x="7094" y="5904"/>
                </a:moveTo>
                <a:cubicBezTo>
                  <a:pt x="7058" y="5866"/>
                  <a:pt x="7043" y="6003"/>
                  <a:pt x="7119" y="6003"/>
                </a:cubicBezTo>
                <a:cubicBezTo>
                  <a:pt x="7140" y="6003"/>
                  <a:pt x="7233" y="5963"/>
                  <a:pt x="7243" y="5928"/>
                </a:cubicBezTo>
                <a:cubicBezTo>
                  <a:pt x="7243" y="5912"/>
                  <a:pt x="7243" y="5895"/>
                  <a:pt x="7243" y="5879"/>
                </a:cubicBezTo>
                <a:cubicBezTo>
                  <a:pt x="7183" y="5913"/>
                  <a:pt x="7155" y="5944"/>
                  <a:pt x="7119" y="6003"/>
                </a:cubicBezTo>
                <a:cubicBezTo>
                  <a:pt x="7095" y="6051"/>
                  <a:pt x="7085" y="6067"/>
                  <a:pt x="7144" y="6052"/>
                </a:cubicBezTo>
                <a:cubicBezTo>
                  <a:pt x="7222" y="6041"/>
                  <a:pt x="7250" y="6017"/>
                  <a:pt x="7268" y="5928"/>
                </a:cubicBezTo>
                <a:cubicBezTo>
                  <a:pt x="7268" y="5884"/>
                  <a:pt x="7271" y="5870"/>
                  <a:pt x="7243" y="5854"/>
                </a:cubicBezTo>
                <a:cubicBezTo>
                  <a:pt x="7237" y="5860"/>
                  <a:pt x="7054" y="6017"/>
                  <a:pt x="7144" y="6028"/>
                </a:cubicBezTo>
                <a:cubicBezTo>
                  <a:pt x="7195" y="6034"/>
                  <a:pt x="7257" y="5982"/>
                  <a:pt x="7293" y="5953"/>
                </a:cubicBezTo>
                <a:cubicBezTo>
                  <a:pt x="7242" y="5902"/>
                  <a:pt x="7244" y="5901"/>
                  <a:pt x="7193" y="5953"/>
                </a:cubicBezTo>
                <a:cubicBezTo>
                  <a:pt x="7151" y="5996"/>
                  <a:pt x="7146" y="5981"/>
                  <a:pt x="7169" y="6028"/>
                </a:cubicBezTo>
              </a:path>
              <a:path w="4863" h="3498">
                <a:moveTo>
                  <a:pt x="6152" y="6474"/>
                </a:moveTo>
                <a:cubicBezTo>
                  <a:pt x="6228" y="6452"/>
                  <a:pt x="6246" y="6424"/>
                  <a:pt x="6201" y="6350"/>
                </a:cubicBezTo>
                <a:cubicBezTo>
                  <a:pt x="6188" y="6363"/>
                  <a:pt x="6100" y="6434"/>
                  <a:pt x="6102" y="6449"/>
                </a:cubicBezTo>
                <a:cubicBezTo>
                  <a:pt x="6109" y="6511"/>
                  <a:pt x="6183" y="6460"/>
                  <a:pt x="6201" y="6449"/>
                </a:cubicBezTo>
              </a:path>
              <a:path w="4863" h="3498">
                <a:moveTo>
                  <a:pt x="4564" y="6623"/>
                </a:moveTo>
                <a:cubicBezTo>
                  <a:pt x="4707" y="6623"/>
                  <a:pt x="4887" y="6653"/>
                  <a:pt x="5011" y="6648"/>
                </a:cubicBezTo>
                <a:cubicBezTo>
                  <a:pt x="5080" y="6645"/>
                  <a:pt x="5137" y="6626"/>
                  <a:pt x="5209" y="6623"/>
                </a:cubicBezTo>
                <a:cubicBezTo>
                  <a:pt x="5331" y="6618"/>
                  <a:pt x="5437" y="6618"/>
                  <a:pt x="5556" y="6598"/>
                </a:cubicBezTo>
                <a:cubicBezTo>
                  <a:pt x="5640" y="6583"/>
                  <a:pt x="5720" y="6569"/>
                  <a:pt x="5804" y="6548"/>
                </a:cubicBezTo>
                <a:cubicBezTo>
                  <a:pt x="5892" y="6526"/>
                  <a:pt x="5988" y="6505"/>
                  <a:pt x="6077" y="6474"/>
                </a:cubicBezTo>
                <a:cubicBezTo>
                  <a:pt x="6172" y="6442"/>
                  <a:pt x="6258" y="6390"/>
                  <a:pt x="6350" y="6350"/>
                </a:cubicBezTo>
                <a:cubicBezTo>
                  <a:pt x="6448" y="6307"/>
                  <a:pt x="6549" y="6268"/>
                  <a:pt x="6648" y="6226"/>
                </a:cubicBezTo>
                <a:cubicBezTo>
                  <a:pt x="6722" y="6195"/>
                  <a:pt x="6800" y="6164"/>
                  <a:pt x="6871" y="6127"/>
                </a:cubicBezTo>
                <a:cubicBezTo>
                  <a:pt x="6970" y="6075"/>
                  <a:pt x="7071" y="6030"/>
                  <a:pt x="7169" y="5978"/>
                </a:cubicBezTo>
                <a:cubicBezTo>
                  <a:pt x="7273" y="5922"/>
                  <a:pt x="7374" y="5850"/>
                  <a:pt x="7466" y="5779"/>
                </a:cubicBezTo>
                <a:cubicBezTo>
                  <a:pt x="7539" y="5723"/>
                  <a:pt x="7620" y="5665"/>
                  <a:pt x="7689" y="5606"/>
                </a:cubicBezTo>
                <a:cubicBezTo>
                  <a:pt x="7827" y="5488"/>
                  <a:pt x="7946" y="5369"/>
                  <a:pt x="8062" y="5234"/>
                </a:cubicBezTo>
                <a:cubicBezTo>
                  <a:pt x="8131" y="5154"/>
                  <a:pt x="8177" y="5066"/>
                  <a:pt x="8235" y="4986"/>
                </a:cubicBezTo>
                <a:cubicBezTo>
                  <a:pt x="8301" y="4895"/>
                  <a:pt x="8357" y="4813"/>
                  <a:pt x="8409" y="4713"/>
                </a:cubicBezTo>
                <a:cubicBezTo>
                  <a:pt x="8469" y="4598"/>
                  <a:pt x="8525" y="4480"/>
                  <a:pt x="8582" y="4366"/>
                </a:cubicBezTo>
                <a:cubicBezTo>
                  <a:pt x="8632" y="4267"/>
                  <a:pt x="8681" y="4167"/>
                  <a:pt x="8731" y="4068"/>
                </a:cubicBezTo>
                <a:cubicBezTo>
                  <a:pt x="8776" y="3979"/>
                  <a:pt x="8808" y="3884"/>
                  <a:pt x="8855" y="3795"/>
                </a:cubicBezTo>
                <a:cubicBezTo>
                  <a:pt x="8896" y="3717"/>
                  <a:pt x="8924" y="3649"/>
                  <a:pt x="8954" y="3572"/>
                </a:cubicBezTo>
                <a:cubicBezTo>
                  <a:pt x="8977" y="3513"/>
                  <a:pt x="9015" y="3451"/>
                  <a:pt x="9029" y="3398"/>
                </a:cubicBezTo>
                <a:cubicBezTo>
                  <a:pt x="9029" y="3382"/>
                  <a:pt x="9029" y="3365"/>
                  <a:pt x="9029" y="3349"/>
                </a:cubicBezTo>
                <a:cubicBezTo>
                  <a:pt x="8968" y="3403"/>
                  <a:pt x="8923" y="3448"/>
                  <a:pt x="8855" y="3497"/>
                </a:cubicBezTo>
                <a:cubicBezTo>
                  <a:pt x="8776" y="3554"/>
                  <a:pt x="8687" y="3617"/>
                  <a:pt x="8607" y="3671"/>
                </a:cubicBezTo>
                <a:cubicBezTo>
                  <a:pt x="8534" y="3720"/>
                  <a:pt x="8460" y="3752"/>
                  <a:pt x="8384" y="3795"/>
                </a:cubicBezTo>
                <a:cubicBezTo>
                  <a:pt x="8456" y="3735"/>
                  <a:pt x="8536" y="3647"/>
                  <a:pt x="8607" y="3597"/>
                </a:cubicBezTo>
                <a:cubicBezTo>
                  <a:pt x="8704" y="3529"/>
                  <a:pt x="8805" y="3455"/>
                  <a:pt x="8905" y="3398"/>
                </a:cubicBezTo>
                <a:cubicBezTo>
                  <a:pt x="8949" y="3398"/>
                  <a:pt x="8963" y="3401"/>
                  <a:pt x="8979" y="3373"/>
                </a:cubicBezTo>
                <a:cubicBezTo>
                  <a:pt x="9011" y="3448"/>
                  <a:pt x="9044" y="3522"/>
                  <a:pt x="9079" y="3597"/>
                </a:cubicBezTo>
                <a:cubicBezTo>
                  <a:pt x="9116" y="3675"/>
                  <a:pt x="9163" y="3747"/>
                  <a:pt x="9203" y="3820"/>
                </a:cubicBezTo>
              </a:path>
              <a:path w="4863" h="3498">
                <a:moveTo>
                  <a:pt x="4911" y="6127"/>
                </a:moveTo>
                <a:cubicBezTo>
                  <a:pt x="4773" y="6265"/>
                  <a:pt x="4636" y="6396"/>
                  <a:pt x="4490" y="6524"/>
                </a:cubicBezTo>
                <a:cubicBezTo>
                  <a:pt x="4460" y="6550"/>
                  <a:pt x="4338" y="6626"/>
                  <a:pt x="4341" y="6672"/>
                </a:cubicBezTo>
                <a:cubicBezTo>
                  <a:pt x="4347" y="6751"/>
                  <a:pt x="4436" y="6754"/>
                  <a:pt x="4490" y="6772"/>
                </a:cubicBezTo>
                <a:cubicBezTo>
                  <a:pt x="4579" y="6802"/>
                  <a:pt x="4671" y="6823"/>
                  <a:pt x="4762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(3x-6)/(x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+5x+6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k 4"/>
          <p:cNvSpPr/>
          <p:nvPr/>
        </p:nvSpPr>
        <p:spPr>
          <a:xfrm>
            <a:off x="2000160" y="5419800"/>
            <a:ext cx="9720" cy="36360"/>
          </a:xfrm>
          <a:custGeom>
            <a:avLst/>
            <a:gdLst/>
            <a:ahLst/>
            <a:rect l="l" t="t" r="r" b="b"/>
            <a:pathLst>
              <a:path w="26" h="101">
                <a:moveTo>
                  <a:pt x="5556" y="15056"/>
                </a:moveTo>
                <a:cubicBezTo>
                  <a:pt x="5579" y="15094"/>
                  <a:pt x="5581" y="15108"/>
                  <a:pt x="5581" y="151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Ink 5"/>
          <p:cNvSpPr/>
          <p:nvPr/>
        </p:nvSpPr>
        <p:spPr>
          <a:xfrm>
            <a:off x="3402000" y="1366920"/>
            <a:ext cx="1143000" cy="669960"/>
          </a:xfrm>
          <a:custGeom>
            <a:avLst/>
            <a:gdLst/>
            <a:ahLst/>
            <a:rect l="l" t="t" r="r" b="b"/>
            <a:pathLst>
              <a:path w="3176" h="1861">
                <a:moveTo>
                  <a:pt x="9823" y="4018"/>
                </a:moveTo>
                <a:cubicBezTo>
                  <a:pt x="9779" y="4106"/>
                  <a:pt x="9745" y="4206"/>
                  <a:pt x="9699" y="4291"/>
                </a:cubicBezTo>
                <a:cubicBezTo>
                  <a:pt x="9636" y="4409"/>
                  <a:pt x="9584" y="4481"/>
                  <a:pt x="9550" y="4614"/>
                </a:cubicBezTo>
                <a:cubicBezTo>
                  <a:pt x="9512" y="4763"/>
                  <a:pt x="9467" y="4909"/>
                  <a:pt x="9451" y="5060"/>
                </a:cubicBezTo>
                <a:cubicBezTo>
                  <a:pt x="9441" y="5157"/>
                  <a:pt x="9470" y="5240"/>
                  <a:pt x="9475" y="5333"/>
                </a:cubicBezTo>
                <a:cubicBezTo>
                  <a:pt x="9479" y="5418"/>
                  <a:pt x="9483" y="5443"/>
                  <a:pt x="9550" y="5432"/>
                </a:cubicBezTo>
              </a:path>
              <a:path w="3176" h="1861">
                <a:moveTo>
                  <a:pt x="10071" y="4366"/>
                </a:moveTo>
                <a:cubicBezTo>
                  <a:pt x="10052" y="4472"/>
                  <a:pt x="10033" y="4584"/>
                  <a:pt x="10021" y="4688"/>
                </a:cubicBezTo>
                <a:cubicBezTo>
                  <a:pt x="10009" y="4797"/>
                  <a:pt x="9975" y="4902"/>
                  <a:pt x="9971" y="5011"/>
                </a:cubicBezTo>
                <a:cubicBezTo>
                  <a:pt x="9968" y="5086"/>
                  <a:pt x="9965" y="5192"/>
                  <a:pt x="9996" y="5259"/>
                </a:cubicBezTo>
                <a:cubicBezTo>
                  <a:pt x="10029" y="5330"/>
                  <a:pt x="10090" y="5322"/>
                  <a:pt x="10145" y="5308"/>
                </a:cubicBezTo>
                <a:cubicBezTo>
                  <a:pt x="10295" y="5270"/>
                  <a:pt x="10290" y="5220"/>
                  <a:pt x="10368" y="5110"/>
                </a:cubicBezTo>
                <a:cubicBezTo>
                  <a:pt x="10425" y="5030"/>
                  <a:pt x="10477" y="4941"/>
                  <a:pt x="10492" y="4837"/>
                </a:cubicBezTo>
                <a:cubicBezTo>
                  <a:pt x="10505" y="4748"/>
                  <a:pt x="10493" y="4617"/>
                  <a:pt x="10443" y="4539"/>
                </a:cubicBezTo>
                <a:cubicBezTo>
                  <a:pt x="10409" y="4487"/>
                  <a:pt x="10328" y="4367"/>
                  <a:pt x="10269" y="4341"/>
                </a:cubicBezTo>
                <a:cubicBezTo>
                  <a:pt x="10226" y="4322"/>
                  <a:pt x="10121" y="4302"/>
                  <a:pt x="10071" y="4316"/>
                </a:cubicBezTo>
                <a:cubicBezTo>
                  <a:pt x="10030" y="4336"/>
                  <a:pt x="10014" y="4334"/>
                  <a:pt x="10021" y="4366"/>
                </a:cubicBezTo>
              </a:path>
              <a:path w="3176" h="1861">
                <a:moveTo>
                  <a:pt x="10914" y="5011"/>
                </a:moveTo>
                <a:cubicBezTo>
                  <a:pt x="10891" y="5115"/>
                  <a:pt x="10832" y="5231"/>
                  <a:pt x="10815" y="5333"/>
                </a:cubicBezTo>
                <a:cubicBezTo>
                  <a:pt x="10803" y="5408"/>
                  <a:pt x="10795" y="5511"/>
                  <a:pt x="10765" y="5581"/>
                </a:cubicBezTo>
                <a:cubicBezTo>
                  <a:pt x="10746" y="5626"/>
                  <a:pt x="10732" y="5646"/>
                  <a:pt x="10716" y="5631"/>
                </a:cubicBezTo>
              </a:path>
              <a:path w="3176" h="1861">
                <a:moveTo>
                  <a:pt x="11162" y="4663"/>
                </a:moveTo>
                <a:cubicBezTo>
                  <a:pt x="11259" y="4663"/>
                  <a:pt x="11343" y="4648"/>
                  <a:pt x="11435" y="4638"/>
                </a:cubicBezTo>
                <a:cubicBezTo>
                  <a:pt x="11503" y="4630"/>
                  <a:pt x="11566" y="4621"/>
                  <a:pt x="11633" y="4614"/>
                </a:cubicBezTo>
              </a:path>
              <a:path w="3176" h="1861">
                <a:moveTo>
                  <a:pt x="12005" y="4192"/>
                </a:moveTo>
                <a:cubicBezTo>
                  <a:pt x="12041" y="4323"/>
                  <a:pt x="11997" y="4405"/>
                  <a:pt x="11981" y="4539"/>
                </a:cubicBezTo>
                <a:cubicBezTo>
                  <a:pt x="11970" y="4633"/>
                  <a:pt x="11938" y="4740"/>
                  <a:pt x="11956" y="4837"/>
                </a:cubicBezTo>
                <a:cubicBezTo>
                  <a:pt x="11971" y="4918"/>
                  <a:pt x="11992" y="5014"/>
                  <a:pt x="12005" y="5085"/>
                </a:cubicBezTo>
                <a:cubicBezTo>
                  <a:pt x="12012" y="5126"/>
                  <a:pt x="12003" y="5241"/>
                  <a:pt x="12030" y="5135"/>
                </a:cubicBezTo>
              </a:path>
              <a:path w="3176" h="1861">
                <a:moveTo>
                  <a:pt x="12129" y="3795"/>
                </a:moveTo>
                <a:cubicBezTo>
                  <a:pt x="12306" y="3905"/>
                  <a:pt x="12413" y="3974"/>
                  <a:pt x="12502" y="4167"/>
                </a:cubicBezTo>
                <a:cubicBezTo>
                  <a:pt x="12566" y="4305"/>
                  <a:pt x="12618" y="4465"/>
                  <a:pt x="12626" y="4614"/>
                </a:cubicBezTo>
                <a:cubicBezTo>
                  <a:pt x="12633" y="4749"/>
                  <a:pt x="12627" y="4884"/>
                  <a:pt x="12576" y="5011"/>
                </a:cubicBezTo>
                <a:cubicBezTo>
                  <a:pt x="12523" y="5144"/>
                  <a:pt x="12452" y="5256"/>
                  <a:pt x="12353" y="5358"/>
                </a:cubicBezTo>
                <a:cubicBezTo>
                  <a:pt x="12328" y="5383"/>
                  <a:pt x="12303" y="5407"/>
                  <a:pt x="12278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Ink 6"/>
          <p:cNvSpPr/>
          <p:nvPr/>
        </p:nvSpPr>
        <p:spPr>
          <a:xfrm>
            <a:off x="3197160" y="2224080"/>
            <a:ext cx="1214640" cy="554040"/>
          </a:xfrm>
          <a:custGeom>
            <a:avLst/>
            <a:gdLst/>
            <a:ahLst/>
            <a:rect l="l" t="t" r="r" b="b"/>
            <a:pathLst>
              <a:path w="3375" h="1539">
                <a:moveTo>
                  <a:pt x="8905" y="6350"/>
                </a:moveTo>
                <a:cubicBezTo>
                  <a:pt x="8938" y="6317"/>
                  <a:pt x="8971" y="6284"/>
                  <a:pt x="9004" y="6251"/>
                </a:cubicBezTo>
                <a:cubicBezTo>
                  <a:pt x="9050" y="6205"/>
                  <a:pt x="9062" y="6180"/>
                  <a:pt x="9128" y="6176"/>
                </a:cubicBezTo>
                <a:cubicBezTo>
                  <a:pt x="9232" y="6170"/>
                  <a:pt x="9209" y="6233"/>
                  <a:pt x="9203" y="6300"/>
                </a:cubicBezTo>
                <a:cubicBezTo>
                  <a:pt x="9193" y="6415"/>
                  <a:pt x="9163" y="6409"/>
                  <a:pt x="9103" y="6499"/>
                </a:cubicBezTo>
                <a:cubicBezTo>
                  <a:pt x="9064" y="6557"/>
                  <a:pt x="9035" y="6601"/>
                  <a:pt x="8979" y="6573"/>
                </a:cubicBezTo>
                <a:cubicBezTo>
                  <a:pt x="9049" y="6549"/>
                  <a:pt x="9120" y="6531"/>
                  <a:pt x="9178" y="6598"/>
                </a:cubicBezTo>
                <a:cubicBezTo>
                  <a:pt x="9210" y="6635"/>
                  <a:pt x="9267" y="6747"/>
                  <a:pt x="9252" y="6796"/>
                </a:cubicBezTo>
                <a:cubicBezTo>
                  <a:pt x="9236" y="6848"/>
                  <a:pt x="9178" y="6901"/>
                  <a:pt x="9128" y="6921"/>
                </a:cubicBezTo>
                <a:cubicBezTo>
                  <a:pt x="9075" y="6942"/>
                  <a:pt x="8915" y="6970"/>
                  <a:pt x="8880" y="6896"/>
                </a:cubicBezTo>
                <a:cubicBezTo>
                  <a:pt x="8880" y="6871"/>
                  <a:pt x="8880" y="6846"/>
                  <a:pt x="8880" y="6821"/>
                </a:cubicBezTo>
              </a:path>
              <a:path w="3375" h="1539">
                <a:moveTo>
                  <a:pt x="9351" y="6499"/>
                </a:moveTo>
                <a:cubicBezTo>
                  <a:pt x="9401" y="6555"/>
                  <a:pt x="9440" y="6606"/>
                  <a:pt x="9475" y="6672"/>
                </a:cubicBezTo>
                <a:cubicBezTo>
                  <a:pt x="9511" y="6741"/>
                  <a:pt x="9559" y="6808"/>
                  <a:pt x="9624" y="6846"/>
                </a:cubicBezTo>
                <a:cubicBezTo>
                  <a:pt x="9668" y="6872"/>
                  <a:pt x="9753" y="6933"/>
                  <a:pt x="9798" y="6945"/>
                </a:cubicBezTo>
                <a:cubicBezTo>
                  <a:pt x="9814" y="6945"/>
                  <a:pt x="9831" y="6945"/>
                  <a:pt x="9847" y="6945"/>
                </a:cubicBezTo>
              </a:path>
              <a:path w="3375" h="1539">
                <a:moveTo>
                  <a:pt x="9699" y="6424"/>
                </a:moveTo>
                <a:cubicBezTo>
                  <a:pt x="9664" y="6500"/>
                  <a:pt x="9622" y="6602"/>
                  <a:pt x="9575" y="6672"/>
                </a:cubicBezTo>
                <a:cubicBezTo>
                  <a:pt x="9533" y="6736"/>
                  <a:pt x="9467" y="6764"/>
                  <a:pt x="9426" y="6821"/>
                </a:cubicBezTo>
                <a:cubicBezTo>
                  <a:pt x="9406" y="6862"/>
                  <a:pt x="9397" y="6868"/>
                  <a:pt x="9401" y="6896"/>
                </a:cubicBezTo>
              </a:path>
              <a:path w="3375" h="1539">
                <a:moveTo>
                  <a:pt x="9798" y="6623"/>
                </a:moveTo>
                <a:cubicBezTo>
                  <a:pt x="9936" y="6617"/>
                  <a:pt x="10058" y="6598"/>
                  <a:pt x="10195" y="6598"/>
                </a:cubicBezTo>
              </a:path>
              <a:path w="3375" h="1539">
                <a:moveTo>
                  <a:pt x="10567" y="6176"/>
                </a:moveTo>
                <a:cubicBezTo>
                  <a:pt x="10560" y="6257"/>
                  <a:pt x="10527" y="6323"/>
                  <a:pt x="10517" y="6400"/>
                </a:cubicBezTo>
                <a:cubicBezTo>
                  <a:pt x="10507" y="6478"/>
                  <a:pt x="10492" y="6543"/>
                  <a:pt x="10492" y="6623"/>
                </a:cubicBezTo>
                <a:cubicBezTo>
                  <a:pt x="10492" y="6714"/>
                  <a:pt x="10531" y="6745"/>
                  <a:pt x="10592" y="6796"/>
                </a:cubicBezTo>
                <a:cubicBezTo>
                  <a:pt x="10646" y="6841"/>
                  <a:pt x="10704" y="6823"/>
                  <a:pt x="10765" y="6796"/>
                </a:cubicBezTo>
                <a:cubicBezTo>
                  <a:pt x="10849" y="6759"/>
                  <a:pt x="10853" y="6715"/>
                  <a:pt x="10889" y="6648"/>
                </a:cubicBezTo>
                <a:cubicBezTo>
                  <a:pt x="10919" y="6618"/>
                  <a:pt x="10924" y="6604"/>
                  <a:pt x="10889" y="6573"/>
                </a:cubicBezTo>
                <a:cubicBezTo>
                  <a:pt x="10805" y="6585"/>
                  <a:pt x="10762" y="6630"/>
                  <a:pt x="10740" y="6722"/>
                </a:cubicBezTo>
                <a:cubicBezTo>
                  <a:pt x="10722" y="6797"/>
                  <a:pt x="10764" y="6789"/>
                  <a:pt x="10815" y="6796"/>
                </a:cubicBezTo>
              </a:path>
              <a:path w="3375" h="1539">
                <a:moveTo>
                  <a:pt x="11112" y="6424"/>
                </a:moveTo>
                <a:cubicBezTo>
                  <a:pt x="11203" y="6424"/>
                  <a:pt x="11294" y="6424"/>
                  <a:pt x="11385" y="6424"/>
                </a:cubicBezTo>
              </a:path>
              <a:path w="3375" h="1539">
                <a:moveTo>
                  <a:pt x="11212" y="6623"/>
                </a:moveTo>
                <a:cubicBezTo>
                  <a:pt x="11400" y="6614"/>
                  <a:pt x="11362" y="6629"/>
                  <a:pt x="11509" y="6524"/>
                </a:cubicBezTo>
              </a:path>
              <a:path w="3375" h="1539">
                <a:moveTo>
                  <a:pt x="11733" y="6201"/>
                </a:moveTo>
                <a:cubicBezTo>
                  <a:pt x="11712" y="6303"/>
                  <a:pt x="11688" y="6398"/>
                  <a:pt x="11683" y="6499"/>
                </a:cubicBezTo>
                <a:cubicBezTo>
                  <a:pt x="11679" y="6587"/>
                  <a:pt x="11679" y="6626"/>
                  <a:pt x="11757" y="6672"/>
                </a:cubicBezTo>
                <a:cubicBezTo>
                  <a:pt x="11823" y="6710"/>
                  <a:pt x="11902" y="6744"/>
                  <a:pt x="11981" y="6722"/>
                </a:cubicBezTo>
                <a:cubicBezTo>
                  <a:pt x="12122" y="6683"/>
                  <a:pt x="12172" y="6619"/>
                  <a:pt x="12229" y="6499"/>
                </a:cubicBezTo>
                <a:cubicBezTo>
                  <a:pt x="12255" y="6446"/>
                  <a:pt x="12281" y="6351"/>
                  <a:pt x="12229" y="6300"/>
                </a:cubicBezTo>
                <a:cubicBezTo>
                  <a:pt x="12176" y="6248"/>
                  <a:pt x="12026" y="6217"/>
                  <a:pt x="11956" y="6226"/>
                </a:cubicBezTo>
                <a:cubicBezTo>
                  <a:pt x="11923" y="6234"/>
                  <a:pt x="11890" y="6243"/>
                  <a:pt x="11857" y="6251"/>
                </a:cubicBezTo>
              </a:path>
              <a:path w="3375" h="1539">
                <a:moveTo>
                  <a:pt x="10592" y="7169"/>
                </a:moveTo>
                <a:cubicBezTo>
                  <a:pt x="10604" y="7264"/>
                  <a:pt x="10640" y="7291"/>
                  <a:pt x="10691" y="7367"/>
                </a:cubicBezTo>
                <a:cubicBezTo>
                  <a:pt x="10761" y="7472"/>
                  <a:pt x="10793" y="7497"/>
                  <a:pt x="10889" y="7565"/>
                </a:cubicBezTo>
                <a:cubicBezTo>
                  <a:pt x="10966" y="7620"/>
                  <a:pt x="10997" y="7670"/>
                  <a:pt x="11088" y="7640"/>
                </a:cubicBezTo>
              </a:path>
              <a:path w="3375" h="1539">
                <a:moveTo>
                  <a:pt x="10864" y="7243"/>
                </a:moveTo>
                <a:cubicBezTo>
                  <a:pt x="10809" y="7376"/>
                  <a:pt x="10757" y="7490"/>
                  <a:pt x="10691" y="7615"/>
                </a:cubicBezTo>
                <a:cubicBezTo>
                  <a:pt x="10667" y="7663"/>
                  <a:pt x="10659" y="7677"/>
                  <a:pt x="10666" y="7714"/>
                </a:cubicBezTo>
              </a:path>
              <a:path w="3375" h="1539">
                <a:moveTo>
                  <a:pt x="11112" y="7342"/>
                </a:moveTo>
                <a:cubicBezTo>
                  <a:pt x="11214" y="7359"/>
                  <a:pt x="11305" y="7367"/>
                  <a:pt x="11410" y="7367"/>
                </a:cubicBezTo>
              </a:path>
              <a:path w="3375" h="1539">
                <a:moveTo>
                  <a:pt x="11237" y="7516"/>
                </a:moveTo>
                <a:cubicBezTo>
                  <a:pt x="11317" y="7532"/>
                  <a:pt x="11354" y="7524"/>
                  <a:pt x="11435" y="7491"/>
                </a:cubicBezTo>
              </a:path>
              <a:path w="3375" h="1539">
                <a:moveTo>
                  <a:pt x="11708" y="7144"/>
                </a:moveTo>
                <a:cubicBezTo>
                  <a:pt x="11763" y="7144"/>
                  <a:pt x="11898" y="7126"/>
                  <a:pt x="11931" y="7193"/>
                </a:cubicBezTo>
                <a:cubicBezTo>
                  <a:pt x="11971" y="7273"/>
                  <a:pt x="11893" y="7338"/>
                  <a:pt x="11857" y="7392"/>
                </a:cubicBezTo>
                <a:cubicBezTo>
                  <a:pt x="11835" y="7425"/>
                  <a:pt x="11708" y="7506"/>
                  <a:pt x="11708" y="7541"/>
                </a:cubicBezTo>
                <a:cubicBezTo>
                  <a:pt x="11708" y="7609"/>
                  <a:pt x="11860" y="7644"/>
                  <a:pt x="11906" y="7640"/>
                </a:cubicBezTo>
                <a:cubicBezTo>
                  <a:pt x="11981" y="7615"/>
                  <a:pt x="12005" y="7607"/>
                  <a:pt x="12055" y="75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Ink 7"/>
          <p:cNvSpPr/>
          <p:nvPr/>
        </p:nvSpPr>
        <p:spPr>
          <a:xfrm>
            <a:off x="4786200" y="2214720"/>
            <a:ext cx="669960" cy="411120"/>
          </a:xfrm>
          <a:custGeom>
            <a:avLst/>
            <a:gdLst/>
            <a:ahLst/>
            <a:rect l="l" t="t" r="r" b="b"/>
            <a:pathLst>
              <a:path w="1862" h="1142">
                <a:moveTo>
                  <a:pt x="13494" y="6325"/>
                </a:moveTo>
                <a:cubicBezTo>
                  <a:pt x="13444" y="6387"/>
                  <a:pt x="13402" y="6475"/>
                  <a:pt x="13370" y="6548"/>
                </a:cubicBezTo>
                <a:cubicBezTo>
                  <a:pt x="13325" y="6651"/>
                  <a:pt x="13280" y="6783"/>
                  <a:pt x="13295" y="6896"/>
                </a:cubicBezTo>
                <a:cubicBezTo>
                  <a:pt x="13306" y="6979"/>
                  <a:pt x="13320" y="7090"/>
                  <a:pt x="13345" y="7169"/>
                </a:cubicBezTo>
                <a:cubicBezTo>
                  <a:pt x="13362" y="7223"/>
                  <a:pt x="13406" y="7255"/>
                  <a:pt x="13444" y="7293"/>
                </a:cubicBezTo>
              </a:path>
              <a:path w="1862" h="1142">
                <a:moveTo>
                  <a:pt x="13841" y="6524"/>
                </a:moveTo>
                <a:cubicBezTo>
                  <a:pt x="13970" y="6491"/>
                  <a:pt x="14057" y="6440"/>
                  <a:pt x="14114" y="6598"/>
                </a:cubicBezTo>
                <a:cubicBezTo>
                  <a:pt x="14159" y="6723"/>
                  <a:pt x="14129" y="6802"/>
                  <a:pt x="14089" y="6921"/>
                </a:cubicBezTo>
                <a:cubicBezTo>
                  <a:pt x="14065" y="6993"/>
                  <a:pt x="13990" y="7110"/>
                  <a:pt x="13915" y="7144"/>
                </a:cubicBezTo>
                <a:cubicBezTo>
                  <a:pt x="13863" y="7167"/>
                  <a:pt x="13774" y="7138"/>
                  <a:pt x="13742" y="7094"/>
                </a:cubicBezTo>
                <a:cubicBezTo>
                  <a:pt x="13734" y="7078"/>
                  <a:pt x="13725" y="7061"/>
                  <a:pt x="13717" y="7045"/>
                </a:cubicBezTo>
                <a:cubicBezTo>
                  <a:pt x="13772" y="6967"/>
                  <a:pt x="13799" y="6954"/>
                  <a:pt x="13891" y="6995"/>
                </a:cubicBezTo>
                <a:cubicBezTo>
                  <a:pt x="13961" y="7026"/>
                  <a:pt x="14019" y="7044"/>
                  <a:pt x="14089" y="7069"/>
                </a:cubicBezTo>
              </a:path>
              <a:path w="1862" h="1142">
                <a:moveTo>
                  <a:pt x="14486" y="6970"/>
                </a:moveTo>
                <a:cubicBezTo>
                  <a:pt x="14486" y="7005"/>
                  <a:pt x="14453" y="7272"/>
                  <a:pt x="14461" y="7293"/>
                </a:cubicBezTo>
                <a:cubicBezTo>
                  <a:pt x="14469" y="7293"/>
                  <a:pt x="14478" y="7293"/>
                  <a:pt x="14486" y="7293"/>
                </a:cubicBezTo>
              </a:path>
              <a:path w="1862" h="1142">
                <a:moveTo>
                  <a:pt x="14734" y="6449"/>
                </a:moveTo>
                <a:cubicBezTo>
                  <a:pt x="14680" y="6547"/>
                  <a:pt x="14629" y="6679"/>
                  <a:pt x="14610" y="6796"/>
                </a:cubicBezTo>
                <a:cubicBezTo>
                  <a:pt x="14596" y="6882"/>
                  <a:pt x="14655" y="6925"/>
                  <a:pt x="14709" y="6970"/>
                </a:cubicBezTo>
                <a:cubicBezTo>
                  <a:pt x="14748" y="7002"/>
                  <a:pt x="14821" y="7017"/>
                  <a:pt x="14858" y="6970"/>
                </a:cubicBezTo>
                <a:cubicBezTo>
                  <a:pt x="14909" y="6904"/>
                  <a:pt x="14888" y="6812"/>
                  <a:pt x="14883" y="6747"/>
                </a:cubicBezTo>
                <a:cubicBezTo>
                  <a:pt x="14874" y="6645"/>
                  <a:pt x="14831" y="6619"/>
                  <a:pt x="14759" y="6548"/>
                </a:cubicBezTo>
                <a:cubicBezTo>
                  <a:pt x="14751" y="6540"/>
                  <a:pt x="14742" y="6532"/>
                  <a:pt x="14734" y="6524"/>
                </a:cubicBezTo>
              </a:path>
              <a:path w="1862" h="1142">
                <a:moveTo>
                  <a:pt x="14784" y="6152"/>
                </a:moveTo>
                <a:cubicBezTo>
                  <a:pt x="14887" y="6307"/>
                  <a:pt x="14976" y="6455"/>
                  <a:pt x="15056" y="6623"/>
                </a:cubicBezTo>
                <a:cubicBezTo>
                  <a:pt x="15129" y="6776"/>
                  <a:pt x="15140" y="6885"/>
                  <a:pt x="15131" y="7045"/>
                </a:cubicBezTo>
                <a:cubicBezTo>
                  <a:pt x="15131" y="7078"/>
                  <a:pt x="15131" y="7111"/>
                  <a:pt x="15131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Ink 8"/>
          <p:cNvSpPr/>
          <p:nvPr/>
        </p:nvSpPr>
        <p:spPr>
          <a:xfrm>
            <a:off x="5286240" y="2776680"/>
            <a:ext cx="2224080" cy="420480"/>
          </a:xfrm>
          <a:custGeom>
            <a:avLst/>
            <a:gdLst/>
            <a:ahLst/>
            <a:rect l="l" t="t" r="r" b="b"/>
            <a:pathLst>
              <a:path w="6178" h="1167">
                <a:moveTo>
                  <a:pt x="14759" y="8235"/>
                </a:moveTo>
                <a:cubicBezTo>
                  <a:pt x="14824" y="8325"/>
                  <a:pt x="14929" y="8414"/>
                  <a:pt x="14982" y="8508"/>
                </a:cubicBezTo>
                <a:cubicBezTo>
                  <a:pt x="15072" y="8666"/>
                  <a:pt x="15152" y="8689"/>
                  <a:pt x="15280" y="8806"/>
                </a:cubicBezTo>
                <a:cubicBezTo>
                  <a:pt x="15336" y="8857"/>
                  <a:pt x="15380" y="8865"/>
                  <a:pt x="15453" y="8880"/>
                </a:cubicBezTo>
              </a:path>
              <a:path w="6178" h="1167">
                <a:moveTo>
                  <a:pt x="15304" y="8111"/>
                </a:moveTo>
                <a:cubicBezTo>
                  <a:pt x="15103" y="8268"/>
                  <a:pt x="15034" y="8368"/>
                  <a:pt x="14883" y="8558"/>
                </a:cubicBezTo>
                <a:cubicBezTo>
                  <a:pt x="14815" y="8643"/>
                  <a:pt x="14762" y="8714"/>
                  <a:pt x="14709" y="8806"/>
                </a:cubicBezTo>
                <a:cubicBezTo>
                  <a:pt x="14681" y="8862"/>
                  <a:pt x="14675" y="8871"/>
                  <a:pt x="14709" y="8781"/>
                </a:cubicBezTo>
              </a:path>
              <a:path w="6178" h="1167">
                <a:moveTo>
                  <a:pt x="15379" y="7714"/>
                </a:moveTo>
                <a:cubicBezTo>
                  <a:pt x="15486" y="7719"/>
                  <a:pt x="15660" y="7695"/>
                  <a:pt x="15652" y="7863"/>
                </a:cubicBezTo>
                <a:cubicBezTo>
                  <a:pt x="15649" y="7930"/>
                  <a:pt x="15522" y="8018"/>
                  <a:pt x="15478" y="8062"/>
                </a:cubicBezTo>
                <a:cubicBezTo>
                  <a:pt x="15470" y="8070"/>
                  <a:pt x="15461" y="8078"/>
                  <a:pt x="15453" y="8086"/>
                </a:cubicBezTo>
                <a:cubicBezTo>
                  <a:pt x="15516" y="8149"/>
                  <a:pt x="15583" y="8127"/>
                  <a:pt x="15677" y="8086"/>
                </a:cubicBezTo>
                <a:cubicBezTo>
                  <a:pt x="15702" y="8070"/>
                  <a:pt x="15726" y="8053"/>
                  <a:pt x="15751" y="8037"/>
                </a:cubicBezTo>
              </a:path>
              <a:path w="6178" h="1167">
                <a:moveTo>
                  <a:pt x="15974" y="8086"/>
                </a:moveTo>
                <a:cubicBezTo>
                  <a:pt x="15951" y="8333"/>
                  <a:pt x="15916" y="8336"/>
                  <a:pt x="16024" y="8508"/>
                </a:cubicBezTo>
                <a:cubicBezTo>
                  <a:pt x="16032" y="8525"/>
                  <a:pt x="16041" y="8541"/>
                  <a:pt x="16049" y="8558"/>
                </a:cubicBezTo>
              </a:path>
              <a:path w="6178" h="1167">
                <a:moveTo>
                  <a:pt x="15726" y="8334"/>
                </a:moveTo>
                <a:cubicBezTo>
                  <a:pt x="15878" y="8334"/>
                  <a:pt x="16026" y="8343"/>
                  <a:pt x="16173" y="8310"/>
                </a:cubicBezTo>
              </a:path>
              <a:path w="6178" h="1167">
                <a:moveTo>
                  <a:pt x="16619" y="8062"/>
                </a:moveTo>
                <a:cubicBezTo>
                  <a:pt x="16739" y="8068"/>
                  <a:pt x="16847" y="8086"/>
                  <a:pt x="16966" y="8086"/>
                </a:cubicBezTo>
              </a:path>
              <a:path w="6178" h="1167">
                <a:moveTo>
                  <a:pt x="16520" y="8037"/>
                </a:moveTo>
                <a:cubicBezTo>
                  <a:pt x="16435" y="8099"/>
                  <a:pt x="16306" y="8178"/>
                  <a:pt x="16470" y="8260"/>
                </a:cubicBezTo>
                <a:cubicBezTo>
                  <a:pt x="16567" y="8308"/>
                  <a:pt x="16673" y="8292"/>
                  <a:pt x="16768" y="8285"/>
                </a:cubicBezTo>
                <a:cubicBezTo>
                  <a:pt x="16835" y="8280"/>
                  <a:pt x="17020" y="8296"/>
                  <a:pt x="17066" y="8359"/>
                </a:cubicBezTo>
                <a:cubicBezTo>
                  <a:pt x="17147" y="8471"/>
                  <a:pt x="17110" y="8618"/>
                  <a:pt x="17016" y="8706"/>
                </a:cubicBezTo>
                <a:cubicBezTo>
                  <a:pt x="16958" y="8760"/>
                  <a:pt x="16824" y="8818"/>
                  <a:pt x="16743" y="8781"/>
                </a:cubicBezTo>
                <a:cubicBezTo>
                  <a:pt x="16648" y="8737"/>
                  <a:pt x="16625" y="8650"/>
                  <a:pt x="16594" y="8558"/>
                </a:cubicBezTo>
              </a:path>
              <a:path w="6178" h="1167">
                <a:moveTo>
                  <a:pt x="17115" y="8136"/>
                </a:moveTo>
                <a:cubicBezTo>
                  <a:pt x="17213" y="8269"/>
                  <a:pt x="17308" y="8402"/>
                  <a:pt x="17438" y="8508"/>
                </a:cubicBezTo>
                <a:cubicBezTo>
                  <a:pt x="17463" y="8525"/>
                  <a:pt x="17487" y="8541"/>
                  <a:pt x="17512" y="8558"/>
                </a:cubicBezTo>
              </a:path>
              <a:path w="6178" h="1167">
                <a:moveTo>
                  <a:pt x="17462" y="8111"/>
                </a:moveTo>
                <a:cubicBezTo>
                  <a:pt x="17309" y="8258"/>
                  <a:pt x="17205" y="8408"/>
                  <a:pt x="17066" y="8558"/>
                </a:cubicBezTo>
                <a:cubicBezTo>
                  <a:pt x="17018" y="8581"/>
                  <a:pt x="17001" y="8587"/>
                  <a:pt x="17016" y="8632"/>
                </a:cubicBezTo>
              </a:path>
              <a:path w="6178" h="1167">
                <a:moveTo>
                  <a:pt x="17785" y="8037"/>
                </a:moveTo>
                <a:cubicBezTo>
                  <a:pt x="17802" y="8185"/>
                  <a:pt x="17781" y="8363"/>
                  <a:pt x="17810" y="8508"/>
                </a:cubicBezTo>
                <a:cubicBezTo>
                  <a:pt x="17818" y="8525"/>
                  <a:pt x="17827" y="8541"/>
                  <a:pt x="17835" y="8558"/>
                </a:cubicBezTo>
              </a:path>
              <a:path w="6178" h="1167">
                <a:moveTo>
                  <a:pt x="17611" y="8210"/>
                </a:moveTo>
                <a:cubicBezTo>
                  <a:pt x="17732" y="8264"/>
                  <a:pt x="17803" y="8264"/>
                  <a:pt x="17934" y="8235"/>
                </a:cubicBezTo>
                <a:cubicBezTo>
                  <a:pt x="17967" y="8227"/>
                  <a:pt x="18000" y="8218"/>
                  <a:pt x="18033" y="8210"/>
                </a:cubicBezTo>
              </a:path>
              <a:path w="6178" h="1167">
                <a:moveTo>
                  <a:pt x="18455" y="7962"/>
                </a:moveTo>
                <a:cubicBezTo>
                  <a:pt x="18425" y="8046"/>
                  <a:pt x="18294" y="8298"/>
                  <a:pt x="18331" y="8409"/>
                </a:cubicBezTo>
                <a:cubicBezTo>
                  <a:pt x="18364" y="8510"/>
                  <a:pt x="18489" y="8551"/>
                  <a:pt x="18579" y="8558"/>
                </a:cubicBezTo>
                <a:cubicBezTo>
                  <a:pt x="18658" y="8564"/>
                  <a:pt x="18777" y="8555"/>
                  <a:pt x="18827" y="8483"/>
                </a:cubicBezTo>
                <a:cubicBezTo>
                  <a:pt x="18870" y="8422"/>
                  <a:pt x="18856" y="8383"/>
                  <a:pt x="18827" y="8334"/>
                </a:cubicBezTo>
                <a:cubicBezTo>
                  <a:pt x="18727" y="8359"/>
                  <a:pt x="18664" y="8395"/>
                  <a:pt x="18604" y="8483"/>
                </a:cubicBezTo>
                <a:cubicBezTo>
                  <a:pt x="18563" y="8543"/>
                  <a:pt x="18519" y="8604"/>
                  <a:pt x="18604" y="8657"/>
                </a:cubicBezTo>
                <a:cubicBezTo>
                  <a:pt x="18637" y="8673"/>
                  <a:pt x="18670" y="8690"/>
                  <a:pt x="18703" y="8706"/>
                </a:cubicBezTo>
              </a:path>
              <a:path w="6178" h="1167">
                <a:moveTo>
                  <a:pt x="19248" y="8186"/>
                </a:moveTo>
                <a:cubicBezTo>
                  <a:pt x="19414" y="8186"/>
                  <a:pt x="19462" y="8198"/>
                  <a:pt x="19596" y="8161"/>
                </a:cubicBezTo>
              </a:path>
              <a:path w="6178" h="1167">
                <a:moveTo>
                  <a:pt x="19174" y="8409"/>
                </a:moveTo>
                <a:cubicBezTo>
                  <a:pt x="19321" y="8458"/>
                  <a:pt x="19333" y="8464"/>
                  <a:pt x="19472" y="8434"/>
                </a:cubicBezTo>
              </a:path>
              <a:path w="6178" h="1167">
                <a:moveTo>
                  <a:pt x="20265" y="7913"/>
                </a:moveTo>
                <a:cubicBezTo>
                  <a:pt x="20200" y="8045"/>
                  <a:pt x="20131" y="8168"/>
                  <a:pt x="20092" y="8310"/>
                </a:cubicBezTo>
                <a:cubicBezTo>
                  <a:pt x="20053" y="8452"/>
                  <a:pt x="20090" y="8459"/>
                  <a:pt x="20166" y="8558"/>
                </a:cubicBezTo>
                <a:cubicBezTo>
                  <a:pt x="20232" y="8643"/>
                  <a:pt x="20302" y="8652"/>
                  <a:pt x="20414" y="8657"/>
                </a:cubicBezTo>
                <a:cubicBezTo>
                  <a:pt x="20555" y="8663"/>
                  <a:pt x="20652" y="8535"/>
                  <a:pt x="20737" y="8434"/>
                </a:cubicBezTo>
                <a:cubicBezTo>
                  <a:pt x="20810" y="8347"/>
                  <a:pt x="20855" y="8326"/>
                  <a:pt x="20861" y="8210"/>
                </a:cubicBezTo>
                <a:cubicBezTo>
                  <a:pt x="20867" y="8077"/>
                  <a:pt x="20719" y="8019"/>
                  <a:pt x="20613" y="7987"/>
                </a:cubicBezTo>
                <a:cubicBezTo>
                  <a:pt x="20469" y="7943"/>
                  <a:pt x="20314" y="7962"/>
                  <a:pt x="20166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Ink 9"/>
          <p:cNvSpPr/>
          <p:nvPr/>
        </p:nvSpPr>
        <p:spPr>
          <a:xfrm>
            <a:off x="5322960" y="3268800"/>
            <a:ext cx="2606760" cy="581040"/>
          </a:xfrm>
          <a:custGeom>
            <a:avLst/>
            <a:gdLst/>
            <a:ahLst/>
            <a:rect l="l" t="t" r="r" b="b"/>
            <a:pathLst>
              <a:path w="7244" h="1613">
                <a:moveTo>
                  <a:pt x="15180" y="9227"/>
                </a:moveTo>
                <a:cubicBezTo>
                  <a:pt x="15075" y="9378"/>
                  <a:pt x="14955" y="9529"/>
                  <a:pt x="14883" y="9699"/>
                </a:cubicBezTo>
                <a:cubicBezTo>
                  <a:pt x="14804" y="9884"/>
                  <a:pt x="14782" y="10074"/>
                  <a:pt x="14808" y="10269"/>
                </a:cubicBezTo>
                <a:cubicBezTo>
                  <a:pt x="14830" y="10438"/>
                  <a:pt x="14955" y="10631"/>
                  <a:pt x="15131" y="10691"/>
                </a:cubicBezTo>
                <a:cubicBezTo>
                  <a:pt x="15258" y="10691"/>
                  <a:pt x="15303" y="10690"/>
                  <a:pt x="15379" y="10641"/>
                </a:cubicBezTo>
              </a:path>
              <a:path w="7244" h="1613">
                <a:moveTo>
                  <a:pt x="17264" y="9079"/>
                </a:moveTo>
                <a:cubicBezTo>
                  <a:pt x="17461" y="9201"/>
                  <a:pt x="17568" y="9295"/>
                  <a:pt x="17686" y="9500"/>
                </a:cubicBezTo>
                <a:cubicBezTo>
                  <a:pt x="17778" y="9660"/>
                  <a:pt x="17814" y="9817"/>
                  <a:pt x="17760" y="9996"/>
                </a:cubicBezTo>
                <a:cubicBezTo>
                  <a:pt x="17706" y="10176"/>
                  <a:pt x="17600" y="10321"/>
                  <a:pt x="17462" y="10443"/>
                </a:cubicBezTo>
                <a:cubicBezTo>
                  <a:pt x="17390" y="10507"/>
                  <a:pt x="17327" y="10510"/>
                  <a:pt x="17239" y="10517"/>
                </a:cubicBezTo>
              </a:path>
              <a:path w="7244" h="1613">
                <a:moveTo>
                  <a:pt x="18033" y="9327"/>
                </a:moveTo>
                <a:cubicBezTo>
                  <a:pt x="17906" y="9513"/>
                  <a:pt x="17791" y="9659"/>
                  <a:pt x="17810" y="9897"/>
                </a:cubicBezTo>
                <a:cubicBezTo>
                  <a:pt x="17823" y="10057"/>
                  <a:pt x="17933" y="10201"/>
                  <a:pt x="18058" y="10294"/>
                </a:cubicBezTo>
                <a:cubicBezTo>
                  <a:pt x="18180" y="10385"/>
                  <a:pt x="18342" y="10429"/>
                  <a:pt x="18479" y="10492"/>
                </a:cubicBezTo>
              </a:path>
              <a:path w="7244" h="1613">
                <a:moveTo>
                  <a:pt x="19968" y="9302"/>
                </a:moveTo>
                <a:cubicBezTo>
                  <a:pt x="20101" y="9447"/>
                  <a:pt x="20170" y="9570"/>
                  <a:pt x="20191" y="9773"/>
                </a:cubicBezTo>
                <a:cubicBezTo>
                  <a:pt x="20209" y="9942"/>
                  <a:pt x="20190" y="10125"/>
                  <a:pt x="20092" y="10269"/>
                </a:cubicBezTo>
                <a:cubicBezTo>
                  <a:pt x="20038" y="10349"/>
                  <a:pt x="19907" y="10460"/>
                  <a:pt x="19819" y="10492"/>
                </a:cubicBezTo>
                <a:cubicBezTo>
                  <a:pt x="19758" y="10514"/>
                  <a:pt x="19749" y="10455"/>
                  <a:pt x="19720" y="10418"/>
                </a:cubicBezTo>
              </a:path>
              <a:path w="7244" h="1613">
                <a:moveTo>
                  <a:pt x="20439" y="9674"/>
                </a:moveTo>
                <a:cubicBezTo>
                  <a:pt x="20555" y="9674"/>
                  <a:pt x="20670" y="9674"/>
                  <a:pt x="20786" y="9674"/>
                </a:cubicBezTo>
              </a:path>
              <a:path w="7244" h="1613">
                <a:moveTo>
                  <a:pt x="20489" y="9897"/>
                </a:moveTo>
                <a:cubicBezTo>
                  <a:pt x="20618" y="9951"/>
                  <a:pt x="20692" y="9971"/>
                  <a:pt x="20836" y="9971"/>
                </a:cubicBezTo>
              </a:path>
              <a:path w="7244" h="1613">
                <a:moveTo>
                  <a:pt x="21307" y="9599"/>
                </a:moveTo>
                <a:cubicBezTo>
                  <a:pt x="21192" y="9867"/>
                  <a:pt x="21101" y="9935"/>
                  <a:pt x="21332" y="10120"/>
                </a:cubicBezTo>
                <a:cubicBezTo>
                  <a:pt x="21407" y="10180"/>
                  <a:pt x="21574" y="10299"/>
                  <a:pt x="21679" y="10269"/>
                </a:cubicBezTo>
                <a:cubicBezTo>
                  <a:pt x="21791" y="10237"/>
                  <a:pt x="21905" y="10135"/>
                  <a:pt x="21977" y="10046"/>
                </a:cubicBezTo>
                <a:cubicBezTo>
                  <a:pt x="22034" y="9976"/>
                  <a:pt x="22058" y="9856"/>
                  <a:pt x="22002" y="9773"/>
                </a:cubicBezTo>
                <a:cubicBezTo>
                  <a:pt x="21890" y="9607"/>
                  <a:pt x="21731" y="9566"/>
                  <a:pt x="21555" y="9500"/>
                </a:cubicBezTo>
                <a:cubicBezTo>
                  <a:pt x="21514" y="9484"/>
                  <a:pt x="21472" y="9467"/>
                  <a:pt x="21431" y="9451"/>
                </a:cubicBezTo>
              </a:path>
              <a:path w="7244" h="1613">
                <a:moveTo>
                  <a:pt x="15255" y="9699"/>
                </a:moveTo>
                <a:cubicBezTo>
                  <a:pt x="15265" y="9786"/>
                  <a:pt x="15287" y="9891"/>
                  <a:pt x="15329" y="9971"/>
                </a:cubicBezTo>
                <a:cubicBezTo>
                  <a:pt x="15385" y="10079"/>
                  <a:pt x="15493" y="10182"/>
                  <a:pt x="15577" y="10269"/>
                </a:cubicBezTo>
                <a:cubicBezTo>
                  <a:pt x="15670" y="10365"/>
                  <a:pt x="15726" y="10344"/>
                  <a:pt x="15850" y="10344"/>
                </a:cubicBezTo>
              </a:path>
              <a:path w="7244" h="1613">
                <a:moveTo>
                  <a:pt x="15602" y="9748"/>
                </a:moveTo>
                <a:cubicBezTo>
                  <a:pt x="15503" y="9937"/>
                  <a:pt x="15412" y="10159"/>
                  <a:pt x="15304" y="10344"/>
                </a:cubicBezTo>
                <a:cubicBezTo>
                  <a:pt x="15282" y="10366"/>
                  <a:pt x="15271" y="10374"/>
                  <a:pt x="15304" y="10368"/>
                </a:cubicBezTo>
              </a:path>
              <a:path w="7244" h="1613">
                <a:moveTo>
                  <a:pt x="16049" y="9748"/>
                </a:moveTo>
                <a:cubicBezTo>
                  <a:pt x="16049" y="9925"/>
                  <a:pt x="16012" y="10077"/>
                  <a:pt x="16098" y="10220"/>
                </a:cubicBezTo>
                <a:cubicBezTo>
                  <a:pt x="16106" y="10236"/>
                  <a:pt x="16115" y="10253"/>
                  <a:pt x="16123" y="10269"/>
                </a:cubicBezTo>
              </a:path>
              <a:path w="7244" h="1613">
                <a:moveTo>
                  <a:pt x="15925" y="9996"/>
                </a:moveTo>
                <a:cubicBezTo>
                  <a:pt x="16066" y="9990"/>
                  <a:pt x="16181" y="9978"/>
                  <a:pt x="16321" y="9971"/>
                </a:cubicBezTo>
              </a:path>
              <a:path w="7244" h="1613">
                <a:moveTo>
                  <a:pt x="16570" y="9699"/>
                </a:moveTo>
                <a:cubicBezTo>
                  <a:pt x="16641" y="9712"/>
                  <a:pt x="16726" y="9730"/>
                  <a:pt x="16743" y="9823"/>
                </a:cubicBezTo>
                <a:cubicBezTo>
                  <a:pt x="16763" y="9934"/>
                  <a:pt x="16732" y="10030"/>
                  <a:pt x="16669" y="10120"/>
                </a:cubicBezTo>
                <a:cubicBezTo>
                  <a:pt x="16624" y="10184"/>
                  <a:pt x="16633" y="10257"/>
                  <a:pt x="16718" y="10269"/>
                </a:cubicBezTo>
                <a:cubicBezTo>
                  <a:pt x="16823" y="10283"/>
                  <a:pt x="16968" y="10269"/>
                  <a:pt x="17066" y="10269"/>
                </a:cubicBezTo>
              </a:path>
              <a:path w="7244" h="1613">
                <a:moveTo>
                  <a:pt x="18083" y="9748"/>
                </a:moveTo>
                <a:cubicBezTo>
                  <a:pt x="18165" y="9831"/>
                  <a:pt x="18221" y="9950"/>
                  <a:pt x="18306" y="10046"/>
                </a:cubicBezTo>
                <a:cubicBezTo>
                  <a:pt x="18389" y="10139"/>
                  <a:pt x="18447" y="10180"/>
                  <a:pt x="18554" y="10220"/>
                </a:cubicBezTo>
              </a:path>
              <a:path w="7244" h="1613">
                <a:moveTo>
                  <a:pt x="18380" y="9674"/>
                </a:moveTo>
                <a:cubicBezTo>
                  <a:pt x="18287" y="9811"/>
                  <a:pt x="18171" y="9933"/>
                  <a:pt x="18083" y="10071"/>
                </a:cubicBezTo>
                <a:cubicBezTo>
                  <a:pt x="18063" y="10111"/>
                  <a:pt x="18044" y="10127"/>
                  <a:pt x="18083" y="10120"/>
                </a:cubicBezTo>
              </a:path>
              <a:path w="7244" h="1613">
                <a:moveTo>
                  <a:pt x="18579" y="9897"/>
                </a:moveTo>
                <a:cubicBezTo>
                  <a:pt x="18711" y="9897"/>
                  <a:pt x="18844" y="9897"/>
                  <a:pt x="18976" y="9897"/>
                </a:cubicBezTo>
              </a:path>
              <a:path w="7244" h="1613">
                <a:moveTo>
                  <a:pt x="18827" y="9624"/>
                </a:moveTo>
                <a:cubicBezTo>
                  <a:pt x="18779" y="9767"/>
                  <a:pt x="18707" y="9898"/>
                  <a:pt x="18777" y="10046"/>
                </a:cubicBezTo>
                <a:cubicBezTo>
                  <a:pt x="18807" y="10076"/>
                  <a:pt x="18818" y="10090"/>
                  <a:pt x="18827" y="10120"/>
                </a:cubicBezTo>
              </a:path>
              <a:path w="7244" h="1613">
                <a:moveTo>
                  <a:pt x="19025" y="9500"/>
                </a:moveTo>
                <a:cubicBezTo>
                  <a:pt x="19128" y="9488"/>
                  <a:pt x="19278" y="9473"/>
                  <a:pt x="19372" y="9550"/>
                </a:cubicBezTo>
                <a:cubicBezTo>
                  <a:pt x="19442" y="9608"/>
                  <a:pt x="19406" y="9643"/>
                  <a:pt x="19372" y="9699"/>
                </a:cubicBezTo>
                <a:cubicBezTo>
                  <a:pt x="19355" y="9727"/>
                  <a:pt x="19254" y="9809"/>
                  <a:pt x="19224" y="9823"/>
                </a:cubicBezTo>
                <a:cubicBezTo>
                  <a:pt x="19182" y="9823"/>
                  <a:pt x="19174" y="9823"/>
                  <a:pt x="19149" y="9823"/>
                </a:cubicBezTo>
                <a:cubicBezTo>
                  <a:pt x="19214" y="9886"/>
                  <a:pt x="19251" y="9881"/>
                  <a:pt x="19323" y="9922"/>
                </a:cubicBezTo>
                <a:cubicBezTo>
                  <a:pt x="19389" y="9959"/>
                  <a:pt x="19495" y="10054"/>
                  <a:pt x="19472" y="10145"/>
                </a:cubicBezTo>
                <a:cubicBezTo>
                  <a:pt x="19453" y="10221"/>
                  <a:pt x="19363" y="10217"/>
                  <a:pt x="19298" y="10220"/>
                </a:cubicBezTo>
                <a:cubicBezTo>
                  <a:pt x="19210" y="10224"/>
                  <a:pt x="19141" y="10209"/>
                  <a:pt x="19050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Ink 10"/>
          <p:cNvSpPr/>
          <p:nvPr/>
        </p:nvSpPr>
        <p:spPr>
          <a:xfrm>
            <a:off x="6081840" y="3902040"/>
            <a:ext cx="1579320" cy="366840"/>
          </a:xfrm>
          <a:custGeom>
            <a:avLst/>
            <a:gdLst/>
            <a:ahLst/>
            <a:rect l="l" t="t" r="r" b="b"/>
            <a:pathLst>
              <a:path w="4391" h="1018">
                <a:moveTo>
                  <a:pt x="16892" y="10939"/>
                </a:moveTo>
                <a:cubicBezTo>
                  <a:pt x="16932" y="11018"/>
                  <a:pt x="16954" y="11124"/>
                  <a:pt x="17016" y="11187"/>
                </a:cubicBezTo>
                <a:cubicBezTo>
                  <a:pt x="17127" y="11299"/>
                  <a:pt x="17266" y="11386"/>
                  <a:pt x="17388" y="11485"/>
                </a:cubicBezTo>
                <a:cubicBezTo>
                  <a:pt x="17452" y="11537"/>
                  <a:pt x="17457" y="11549"/>
                  <a:pt x="17537" y="11559"/>
                </a:cubicBezTo>
              </a:path>
              <a:path w="4391" h="1018">
                <a:moveTo>
                  <a:pt x="17289" y="10939"/>
                </a:moveTo>
                <a:cubicBezTo>
                  <a:pt x="17200" y="11116"/>
                  <a:pt x="17113" y="11289"/>
                  <a:pt x="17016" y="11460"/>
                </a:cubicBezTo>
                <a:cubicBezTo>
                  <a:pt x="16983" y="11518"/>
                  <a:pt x="16972" y="11586"/>
                  <a:pt x="16991" y="11633"/>
                </a:cubicBezTo>
              </a:path>
              <a:path w="4391" h="1018">
                <a:moveTo>
                  <a:pt x="17487" y="11063"/>
                </a:moveTo>
                <a:cubicBezTo>
                  <a:pt x="17570" y="11063"/>
                  <a:pt x="17652" y="11063"/>
                  <a:pt x="17735" y="11063"/>
                </a:cubicBezTo>
              </a:path>
              <a:path w="4391" h="1018">
                <a:moveTo>
                  <a:pt x="17537" y="11336"/>
                </a:moveTo>
                <a:cubicBezTo>
                  <a:pt x="17636" y="11342"/>
                  <a:pt x="17681" y="11356"/>
                  <a:pt x="17760" y="11336"/>
                </a:cubicBezTo>
              </a:path>
              <a:path w="4391" h="1018">
                <a:moveTo>
                  <a:pt x="17859" y="11137"/>
                </a:moveTo>
                <a:cubicBezTo>
                  <a:pt x="17977" y="11137"/>
                  <a:pt x="17999" y="11151"/>
                  <a:pt x="18058" y="11112"/>
                </a:cubicBezTo>
              </a:path>
              <a:path w="4391" h="1018">
                <a:moveTo>
                  <a:pt x="18231" y="10864"/>
                </a:moveTo>
                <a:cubicBezTo>
                  <a:pt x="18312" y="10835"/>
                  <a:pt x="18372" y="10829"/>
                  <a:pt x="18455" y="10864"/>
                </a:cubicBezTo>
                <a:cubicBezTo>
                  <a:pt x="18538" y="10899"/>
                  <a:pt x="18574" y="10952"/>
                  <a:pt x="18579" y="11038"/>
                </a:cubicBezTo>
                <a:cubicBezTo>
                  <a:pt x="18583" y="11115"/>
                  <a:pt x="18526" y="11181"/>
                  <a:pt x="18479" y="11237"/>
                </a:cubicBezTo>
                <a:cubicBezTo>
                  <a:pt x="18434" y="11291"/>
                  <a:pt x="18381" y="11316"/>
                  <a:pt x="18331" y="11361"/>
                </a:cubicBezTo>
                <a:cubicBezTo>
                  <a:pt x="18323" y="11369"/>
                  <a:pt x="18314" y="11377"/>
                  <a:pt x="18306" y="11385"/>
                </a:cubicBezTo>
                <a:cubicBezTo>
                  <a:pt x="18388" y="11451"/>
                  <a:pt x="18469" y="11473"/>
                  <a:pt x="18579" y="11460"/>
                </a:cubicBezTo>
                <a:cubicBezTo>
                  <a:pt x="18636" y="11453"/>
                  <a:pt x="18699" y="11430"/>
                  <a:pt x="18752" y="11410"/>
                </a:cubicBezTo>
              </a:path>
              <a:path w="4391" h="1018">
                <a:moveTo>
                  <a:pt x="19075" y="11435"/>
                </a:moveTo>
                <a:cubicBezTo>
                  <a:pt x="19040" y="11573"/>
                  <a:pt x="18984" y="11680"/>
                  <a:pt x="18951" y="11807"/>
                </a:cubicBezTo>
                <a:cubicBezTo>
                  <a:pt x="18951" y="11824"/>
                  <a:pt x="18951" y="11840"/>
                  <a:pt x="18951" y="11857"/>
                </a:cubicBezTo>
              </a:path>
              <a:path w="4391" h="1018">
                <a:moveTo>
                  <a:pt x="19447" y="10964"/>
                </a:moveTo>
                <a:cubicBezTo>
                  <a:pt x="19527" y="11125"/>
                  <a:pt x="19600" y="11251"/>
                  <a:pt x="19720" y="11385"/>
                </a:cubicBezTo>
                <a:cubicBezTo>
                  <a:pt x="19792" y="11465"/>
                  <a:pt x="19876" y="11552"/>
                  <a:pt x="19968" y="11609"/>
                </a:cubicBezTo>
                <a:cubicBezTo>
                  <a:pt x="19984" y="11617"/>
                  <a:pt x="20001" y="11625"/>
                  <a:pt x="20017" y="11633"/>
                </a:cubicBezTo>
              </a:path>
              <a:path w="4391" h="1018">
                <a:moveTo>
                  <a:pt x="19819" y="10840"/>
                </a:moveTo>
                <a:cubicBezTo>
                  <a:pt x="19700" y="11006"/>
                  <a:pt x="19639" y="11139"/>
                  <a:pt x="19546" y="11311"/>
                </a:cubicBezTo>
                <a:cubicBezTo>
                  <a:pt x="19506" y="11385"/>
                  <a:pt x="19464" y="11451"/>
                  <a:pt x="19447" y="11534"/>
                </a:cubicBezTo>
              </a:path>
              <a:path w="4391" h="1018">
                <a:moveTo>
                  <a:pt x="19893" y="11212"/>
                </a:moveTo>
                <a:cubicBezTo>
                  <a:pt x="20017" y="11212"/>
                  <a:pt x="20141" y="11212"/>
                  <a:pt x="20265" y="11212"/>
                </a:cubicBezTo>
              </a:path>
              <a:path w="4391" h="1018">
                <a:moveTo>
                  <a:pt x="19993" y="11410"/>
                </a:moveTo>
                <a:cubicBezTo>
                  <a:pt x="20143" y="11429"/>
                  <a:pt x="20167" y="11459"/>
                  <a:pt x="20241" y="11410"/>
                </a:cubicBezTo>
              </a:path>
              <a:path w="4391" h="1018">
                <a:moveTo>
                  <a:pt x="20464" y="11137"/>
                </a:moveTo>
                <a:cubicBezTo>
                  <a:pt x="20547" y="11137"/>
                  <a:pt x="20629" y="11137"/>
                  <a:pt x="20712" y="11137"/>
                </a:cubicBezTo>
              </a:path>
              <a:path w="4391" h="1018">
                <a:moveTo>
                  <a:pt x="20861" y="10864"/>
                </a:moveTo>
                <a:cubicBezTo>
                  <a:pt x="20943" y="10880"/>
                  <a:pt x="21136" y="10899"/>
                  <a:pt x="21208" y="10964"/>
                </a:cubicBezTo>
                <a:cubicBezTo>
                  <a:pt x="21225" y="10989"/>
                  <a:pt x="21241" y="11013"/>
                  <a:pt x="21258" y="11038"/>
                </a:cubicBezTo>
                <a:cubicBezTo>
                  <a:pt x="21223" y="11086"/>
                  <a:pt x="21170" y="11169"/>
                  <a:pt x="21109" y="11187"/>
                </a:cubicBezTo>
                <a:cubicBezTo>
                  <a:pt x="21057" y="11187"/>
                  <a:pt x="21039" y="11188"/>
                  <a:pt x="21010" y="11212"/>
                </a:cubicBezTo>
                <a:cubicBezTo>
                  <a:pt x="21074" y="11258"/>
                  <a:pt x="21189" y="11288"/>
                  <a:pt x="21233" y="11361"/>
                </a:cubicBezTo>
                <a:cubicBezTo>
                  <a:pt x="21273" y="11429"/>
                  <a:pt x="21301" y="11513"/>
                  <a:pt x="21258" y="11584"/>
                </a:cubicBezTo>
                <a:cubicBezTo>
                  <a:pt x="21232" y="11626"/>
                  <a:pt x="21101" y="11662"/>
                  <a:pt x="21059" y="11658"/>
                </a:cubicBezTo>
                <a:cubicBezTo>
                  <a:pt x="20973" y="11650"/>
                  <a:pt x="20872" y="11612"/>
                  <a:pt x="20786" y="115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nk 11"/>
          <p:cNvSpPr/>
          <p:nvPr/>
        </p:nvSpPr>
        <p:spPr>
          <a:xfrm>
            <a:off x="1820880" y="3830760"/>
            <a:ext cx="198360" cy="401400"/>
          </a:xfrm>
          <a:custGeom>
            <a:avLst/>
            <a:gdLst/>
            <a:ahLst/>
            <a:rect l="l" t="t" r="r" b="b"/>
            <a:pathLst>
              <a:path w="547" h="1117">
                <a:moveTo>
                  <a:pt x="5060" y="10641"/>
                </a:moveTo>
                <a:cubicBezTo>
                  <a:pt x="5116" y="10728"/>
                  <a:pt x="5176" y="10804"/>
                  <a:pt x="5234" y="10889"/>
                </a:cubicBezTo>
                <a:cubicBezTo>
                  <a:pt x="5315" y="11007"/>
                  <a:pt x="5387" y="11130"/>
                  <a:pt x="5482" y="11237"/>
                </a:cubicBezTo>
              </a:path>
              <a:path w="547" h="1117">
                <a:moveTo>
                  <a:pt x="5606" y="10815"/>
                </a:moveTo>
                <a:cubicBezTo>
                  <a:pt x="5546" y="11007"/>
                  <a:pt x="5502" y="11190"/>
                  <a:pt x="5457" y="11385"/>
                </a:cubicBezTo>
                <a:cubicBezTo>
                  <a:pt x="5433" y="11489"/>
                  <a:pt x="5432" y="11577"/>
                  <a:pt x="5432" y="11683"/>
                </a:cubicBezTo>
                <a:cubicBezTo>
                  <a:pt x="5432" y="11728"/>
                  <a:pt x="5428" y="11741"/>
                  <a:pt x="5457" y="117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Ink 12"/>
          <p:cNvSpPr/>
          <p:nvPr/>
        </p:nvSpPr>
        <p:spPr>
          <a:xfrm>
            <a:off x="2143080" y="3857760"/>
            <a:ext cx="438120" cy="160200"/>
          </a:xfrm>
          <a:custGeom>
            <a:avLst/>
            <a:gdLst/>
            <a:ahLst/>
            <a:rect l="l" t="t" r="r" b="b"/>
            <a:pathLst>
              <a:path w="1217" h="447">
                <a:moveTo>
                  <a:pt x="5953" y="10765"/>
                </a:moveTo>
                <a:cubicBezTo>
                  <a:pt x="6096" y="10744"/>
                  <a:pt x="6188" y="10730"/>
                  <a:pt x="6325" y="10765"/>
                </a:cubicBezTo>
              </a:path>
              <a:path w="1217" h="447">
                <a:moveTo>
                  <a:pt x="5978" y="10964"/>
                </a:moveTo>
                <a:cubicBezTo>
                  <a:pt x="6052" y="11013"/>
                  <a:pt x="6128" y="11032"/>
                  <a:pt x="6226" y="11013"/>
                </a:cubicBezTo>
                <a:cubicBezTo>
                  <a:pt x="6251" y="11005"/>
                  <a:pt x="6275" y="10996"/>
                  <a:pt x="6300" y="10988"/>
                </a:cubicBezTo>
              </a:path>
              <a:path w="1217" h="447">
                <a:moveTo>
                  <a:pt x="6598" y="10815"/>
                </a:moveTo>
                <a:cubicBezTo>
                  <a:pt x="6503" y="10947"/>
                  <a:pt x="6427" y="10982"/>
                  <a:pt x="6548" y="11088"/>
                </a:cubicBezTo>
                <a:cubicBezTo>
                  <a:pt x="6634" y="11163"/>
                  <a:pt x="6729" y="11182"/>
                  <a:pt x="6846" y="11162"/>
                </a:cubicBezTo>
                <a:cubicBezTo>
                  <a:pt x="6969" y="11141"/>
                  <a:pt x="7043" y="11048"/>
                  <a:pt x="7119" y="10964"/>
                </a:cubicBezTo>
                <a:cubicBezTo>
                  <a:pt x="7178" y="10899"/>
                  <a:pt x="7169" y="10920"/>
                  <a:pt x="7169" y="10840"/>
                </a:cubicBezTo>
                <a:cubicBezTo>
                  <a:pt x="7069" y="10762"/>
                  <a:pt x="6952" y="10728"/>
                  <a:pt x="6821" y="10716"/>
                </a:cubicBezTo>
                <a:cubicBezTo>
                  <a:pt x="6780" y="10716"/>
                  <a:pt x="6738" y="10716"/>
                  <a:pt x="6697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Ink 13"/>
          <p:cNvSpPr/>
          <p:nvPr/>
        </p:nvSpPr>
        <p:spPr>
          <a:xfrm>
            <a:off x="4456080" y="3170160"/>
            <a:ext cx="3411720" cy="1125720"/>
          </a:xfrm>
          <a:custGeom>
            <a:avLst/>
            <a:gdLst/>
            <a:ahLst/>
            <a:rect l="l" t="t" r="r" b="b"/>
            <a:pathLst>
              <a:path w="9476" h="3126">
                <a:moveTo>
                  <a:pt x="12378" y="8806"/>
                </a:moveTo>
                <a:cubicBezTo>
                  <a:pt x="12422" y="8817"/>
                  <a:pt x="12557" y="8836"/>
                  <a:pt x="12626" y="8855"/>
                </a:cubicBezTo>
                <a:cubicBezTo>
                  <a:pt x="12755" y="8890"/>
                  <a:pt x="12909" y="8972"/>
                  <a:pt x="13022" y="9029"/>
                </a:cubicBezTo>
                <a:cubicBezTo>
                  <a:pt x="13196" y="9117"/>
                  <a:pt x="13341" y="9207"/>
                  <a:pt x="13494" y="9327"/>
                </a:cubicBezTo>
                <a:cubicBezTo>
                  <a:pt x="13659" y="9456"/>
                  <a:pt x="13757" y="9599"/>
                  <a:pt x="13866" y="9773"/>
                </a:cubicBezTo>
                <a:cubicBezTo>
                  <a:pt x="14044" y="10056"/>
                  <a:pt x="14076" y="10423"/>
                  <a:pt x="14263" y="10691"/>
                </a:cubicBezTo>
                <a:cubicBezTo>
                  <a:pt x="14370" y="10845"/>
                  <a:pt x="14555" y="10963"/>
                  <a:pt x="14709" y="11063"/>
                </a:cubicBezTo>
                <a:cubicBezTo>
                  <a:pt x="14926" y="11205"/>
                  <a:pt x="15142" y="11269"/>
                  <a:pt x="15379" y="11361"/>
                </a:cubicBezTo>
                <a:cubicBezTo>
                  <a:pt x="15717" y="11492"/>
                  <a:pt x="16066" y="11604"/>
                  <a:pt x="16421" y="11683"/>
                </a:cubicBezTo>
                <a:cubicBezTo>
                  <a:pt x="16757" y="11758"/>
                  <a:pt x="17097" y="11816"/>
                  <a:pt x="17438" y="11857"/>
                </a:cubicBezTo>
                <a:cubicBezTo>
                  <a:pt x="17794" y="11900"/>
                  <a:pt x="18146" y="11906"/>
                  <a:pt x="18504" y="11906"/>
                </a:cubicBezTo>
                <a:cubicBezTo>
                  <a:pt x="19175" y="11906"/>
                  <a:pt x="19843" y="11863"/>
                  <a:pt x="20513" y="11857"/>
                </a:cubicBezTo>
                <a:cubicBezTo>
                  <a:pt x="20772" y="11855"/>
                  <a:pt x="21026" y="11884"/>
                  <a:pt x="21282" y="11906"/>
                </a:cubicBezTo>
                <a:cubicBezTo>
                  <a:pt x="21426" y="11918"/>
                  <a:pt x="21589" y="11942"/>
                  <a:pt x="21729" y="11906"/>
                </a:cubicBezTo>
                <a:cubicBezTo>
                  <a:pt x="21822" y="11882"/>
                  <a:pt x="21795" y="11828"/>
                  <a:pt x="21853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8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1600200" y="1143000"/>
            <a:ext cx="5562720" cy="4191120"/>
          </a:xfrm>
          <a:prstGeom prst="rect">
            <a:avLst/>
          </a:prstGeom>
          <a:ln w="0">
            <a:noFill/>
          </a:ln>
        </p:spPr>
      </p:pic>
      <p:sp>
        <p:nvSpPr>
          <p:cNvPr id="169" name="Ink 4"/>
          <p:cNvSpPr/>
          <p:nvPr/>
        </p:nvSpPr>
        <p:spPr>
          <a:xfrm>
            <a:off x="1874880" y="5456160"/>
            <a:ext cx="19080" cy="17640"/>
          </a:xfrm>
          <a:custGeom>
            <a:avLst/>
            <a:gdLst/>
            <a:ahLst/>
            <a:rect l="l" t="t" r="r" b="b"/>
            <a:pathLst>
              <a:path w="51" h="50">
                <a:moveTo>
                  <a:pt x="5259" y="15180"/>
                </a:moveTo>
                <a:cubicBezTo>
                  <a:pt x="5251" y="15188"/>
                  <a:pt x="5242" y="15197"/>
                  <a:pt x="5234" y="15205"/>
                </a:cubicBezTo>
              </a:path>
              <a:path w="51" h="50">
                <a:moveTo>
                  <a:pt x="5234" y="15205"/>
                </a:moveTo>
                <a:cubicBezTo>
                  <a:pt x="5199" y="15205"/>
                  <a:pt x="5195" y="15196"/>
                  <a:pt x="5234" y="15156"/>
                </a:cubicBezTo>
              </a:path>
              <a:path w="51" h="50">
                <a:moveTo>
                  <a:pt x="5234" y="15205"/>
                </a:moveTo>
                <a:lnTo>
                  <a:pt x="5234" y="1520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5"/>
          <p:cNvSpPr/>
          <p:nvPr/>
        </p:nvSpPr>
        <p:spPr>
          <a:xfrm>
            <a:off x="3303720" y="1303200"/>
            <a:ext cx="936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9203" y="3621"/>
                </a:moveTo>
                <a:cubicBezTo>
                  <a:pt x="9203" y="3666"/>
                  <a:pt x="9206" y="3679"/>
                  <a:pt x="9178" y="36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Ink 6"/>
          <p:cNvSpPr/>
          <p:nvPr/>
        </p:nvSpPr>
        <p:spPr>
          <a:xfrm>
            <a:off x="1677960" y="1401840"/>
            <a:ext cx="5199120" cy="3591000"/>
          </a:xfrm>
          <a:custGeom>
            <a:avLst/>
            <a:gdLst/>
            <a:ahLst/>
            <a:rect l="l" t="t" r="r" b="b"/>
            <a:pathLst>
              <a:path w="14438" h="9973">
                <a:moveTo>
                  <a:pt x="12154" y="9897"/>
                </a:moveTo>
                <a:cubicBezTo>
                  <a:pt x="12116" y="9965"/>
                  <a:pt x="12098" y="10022"/>
                  <a:pt x="12229" y="9996"/>
                </a:cubicBezTo>
                <a:cubicBezTo>
                  <a:pt x="12335" y="9975"/>
                  <a:pt x="12280" y="9854"/>
                  <a:pt x="12204" y="9847"/>
                </a:cubicBezTo>
                <a:cubicBezTo>
                  <a:pt x="12131" y="9847"/>
                  <a:pt x="12107" y="9846"/>
                  <a:pt x="12080" y="9897"/>
                </a:cubicBezTo>
                <a:cubicBezTo>
                  <a:pt x="12000" y="9937"/>
                  <a:pt x="12023" y="9942"/>
                  <a:pt x="12080" y="9996"/>
                </a:cubicBezTo>
                <a:cubicBezTo>
                  <a:pt x="12183" y="10093"/>
                  <a:pt x="12159" y="10019"/>
                  <a:pt x="12254" y="9971"/>
                </a:cubicBezTo>
                <a:cubicBezTo>
                  <a:pt x="12262" y="9971"/>
                  <a:pt x="12270" y="9971"/>
                  <a:pt x="12278" y="9971"/>
                </a:cubicBezTo>
                <a:cubicBezTo>
                  <a:pt x="12273" y="9928"/>
                  <a:pt x="12247" y="9805"/>
                  <a:pt x="12154" y="9847"/>
                </a:cubicBezTo>
                <a:cubicBezTo>
                  <a:pt x="12088" y="9877"/>
                  <a:pt x="11988" y="9890"/>
                  <a:pt x="12005" y="9971"/>
                </a:cubicBezTo>
                <a:cubicBezTo>
                  <a:pt x="12022" y="10051"/>
                  <a:pt x="12145" y="10046"/>
                  <a:pt x="12204" y="10046"/>
                </a:cubicBezTo>
                <a:cubicBezTo>
                  <a:pt x="12262" y="10046"/>
                  <a:pt x="12270" y="10046"/>
                  <a:pt x="12303" y="10046"/>
                </a:cubicBezTo>
                <a:cubicBezTo>
                  <a:pt x="12341" y="9958"/>
                  <a:pt x="12339" y="9924"/>
                  <a:pt x="12278" y="9847"/>
                </a:cubicBezTo>
                <a:cubicBezTo>
                  <a:pt x="12240" y="9799"/>
                  <a:pt x="12127" y="9813"/>
                  <a:pt x="12080" y="9847"/>
                </a:cubicBezTo>
                <a:cubicBezTo>
                  <a:pt x="12042" y="9875"/>
                  <a:pt x="11962" y="9911"/>
                  <a:pt x="11981" y="9971"/>
                </a:cubicBezTo>
                <a:cubicBezTo>
                  <a:pt x="12007" y="10051"/>
                  <a:pt x="12057" y="10046"/>
                  <a:pt x="12129" y="10046"/>
                </a:cubicBezTo>
                <a:cubicBezTo>
                  <a:pt x="12226" y="10046"/>
                  <a:pt x="12280" y="10080"/>
                  <a:pt x="12303" y="9971"/>
                </a:cubicBezTo>
                <a:cubicBezTo>
                  <a:pt x="12321" y="9886"/>
                  <a:pt x="12289" y="9871"/>
                  <a:pt x="12229" y="9847"/>
                </a:cubicBezTo>
                <a:cubicBezTo>
                  <a:pt x="12172" y="9824"/>
                  <a:pt x="12086" y="9845"/>
                  <a:pt x="12055" y="9897"/>
                </a:cubicBezTo>
                <a:cubicBezTo>
                  <a:pt x="12010" y="9972"/>
                  <a:pt x="12044" y="9984"/>
                  <a:pt x="12080" y="10046"/>
                </a:cubicBezTo>
                <a:cubicBezTo>
                  <a:pt x="12184" y="10046"/>
                  <a:pt x="12267" y="10084"/>
                  <a:pt x="12303" y="9971"/>
                </a:cubicBezTo>
                <a:cubicBezTo>
                  <a:pt x="12340" y="9854"/>
                  <a:pt x="12221" y="9813"/>
                  <a:pt x="12129" y="9847"/>
                </a:cubicBezTo>
                <a:cubicBezTo>
                  <a:pt x="12030" y="9884"/>
                  <a:pt x="12035" y="9902"/>
                  <a:pt x="12055" y="9971"/>
                </a:cubicBezTo>
                <a:cubicBezTo>
                  <a:pt x="12087" y="9990"/>
                  <a:pt x="12192" y="10069"/>
                  <a:pt x="12229" y="10046"/>
                </a:cubicBezTo>
                <a:cubicBezTo>
                  <a:pt x="12243" y="10037"/>
                  <a:pt x="12353" y="9924"/>
                  <a:pt x="12328" y="9897"/>
                </a:cubicBezTo>
                <a:cubicBezTo>
                  <a:pt x="12273" y="9837"/>
                  <a:pt x="12106" y="9847"/>
                  <a:pt x="12129" y="9847"/>
                </a:cubicBezTo>
              </a:path>
              <a:path w="14438" h="9973">
                <a:moveTo>
                  <a:pt x="14089" y="8930"/>
                </a:moveTo>
                <a:cubicBezTo>
                  <a:pt x="14157" y="8997"/>
                  <a:pt x="14250" y="9073"/>
                  <a:pt x="14288" y="8930"/>
                </a:cubicBezTo>
                <a:cubicBezTo>
                  <a:pt x="14315" y="8827"/>
                  <a:pt x="14200" y="8855"/>
                  <a:pt x="14139" y="8855"/>
                </a:cubicBezTo>
                <a:cubicBezTo>
                  <a:pt x="14084" y="8855"/>
                  <a:pt x="13994" y="8874"/>
                  <a:pt x="14015" y="8954"/>
                </a:cubicBezTo>
                <a:cubicBezTo>
                  <a:pt x="14023" y="8971"/>
                  <a:pt x="14031" y="8987"/>
                  <a:pt x="14039" y="9004"/>
                </a:cubicBezTo>
                <a:cubicBezTo>
                  <a:pt x="14153" y="9004"/>
                  <a:pt x="14218" y="9037"/>
                  <a:pt x="14263" y="8930"/>
                </a:cubicBezTo>
                <a:cubicBezTo>
                  <a:pt x="14271" y="8905"/>
                  <a:pt x="14280" y="8880"/>
                  <a:pt x="14288" y="8855"/>
                </a:cubicBezTo>
                <a:cubicBezTo>
                  <a:pt x="14232" y="8827"/>
                  <a:pt x="14222" y="8786"/>
                  <a:pt x="14139" y="8781"/>
                </a:cubicBezTo>
                <a:cubicBezTo>
                  <a:pt x="14061" y="8777"/>
                  <a:pt x="13994" y="8817"/>
                  <a:pt x="13940" y="8855"/>
                </a:cubicBezTo>
                <a:cubicBezTo>
                  <a:pt x="13914" y="8873"/>
                  <a:pt x="13931" y="8986"/>
                  <a:pt x="13965" y="9004"/>
                </a:cubicBezTo>
                <a:cubicBezTo>
                  <a:pt x="14014" y="9030"/>
                  <a:pt x="14105" y="9029"/>
                  <a:pt x="14163" y="9029"/>
                </a:cubicBezTo>
                <a:cubicBezTo>
                  <a:pt x="14237" y="9029"/>
                  <a:pt x="14272" y="9006"/>
                  <a:pt x="14288" y="8930"/>
                </a:cubicBezTo>
                <a:cubicBezTo>
                  <a:pt x="14305" y="8851"/>
                  <a:pt x="14226" y="8813"/>
                  <a:pt x="14163" y="8806"/>
                </a:cubicBezTo>
                <a:cubicBezTo>
                  <a:pt x="14086" y="8806"/>
                  <a:pt x="14043" y="8816"/>
                  <a:pt x="13990" y="8855"/>
                </a:cubicBezTo>
                <a:cubicBezTo>
                  <a:pt x="13954" y="8891"/>
                  <a:pt x="13975" y="8974"/>
                  <a:pt x="14039" y="9004"/>
                </a:cubicBezTo>
                <a:cubicBezTo>
                  <a:pt x="14089" y="9004"/>
                  <a:pt x="14106" y="9004"/>
                  <a:pt x="14139" y="9004"/>
                </a:cubicBezTo>
                <a:cubicBezTo>
                  <a:pt x="14190" y="8994"/>
                  <a:pt x="14277" y="8966"/>
                  <a:pt x="14263" y="8880"/>
                </a:cubicBezTo>
                <a:cubicBezTo>
                  <a:pt x="14250" y="8800"/>
                  <a:pt x="14127" y="8775"/>
                  <a:pt x="14064" y="8806"/>
                </a:cubicBezTo>
                <a:cubicBezTo>
                  <a:pt x="13995" y="8840"/>
                  <a:pt x="13926" y="8919"/>
                  <a:pt x="13965" y="9004"/>
                </a:cubicBezTo>
                <a:cubicBezTo>
                  <a:pt x="13973" y="9022"/>
                  <a:pt x="14113" y="9076"/>
                  <a:pt x="14139" y="9079"/>
                </a:cubicBezTo>
                <a:cubicBezTo>
                  <a:pt x="14200" y="9086"/>
                  <a:pt x="14276" y="9046"/>
                  <a:pt x="14288" y="9004"/>
                </a:cubicBezTo>
                <a:cubicBezTo>
                  <a:pt x="14288" y="8979"/>
                  <a:pt x="14288" y="8955"/>
                  <a:pt x="14288" y="8930"/>
                </a:cubicBezTo>
                <a:cubicBezTo>
                  <a:pt x="14202" y="8809"/>
                  <a:pt x="14205" y="8891"/>
                  <a:pt x="14089" y="8930"/>
                </a:cubicBezTo>
                <a:cubicBezTo>
                  <a:pt x="14021" y="8953"/>
                  <a:pt x="13968" y="8980"/>
                  <a:pt x="14039" y="9079"/>
                </a:cubicBezTo>
                <a:cubicBezTo>
                  <a:pt x="14042" y="9084"/>
                  <a:pt x="14175" y="9102"/>
                  <a:pt x="14188" y="9103"/>
                </a:cubicBezTo>
                <a:cubicBezTo>
                  <a:pt x="14254" y="9107"/>
                  <a:pt x="14286" y="9062"/>
                  <a:pt x="14312" y="9004"/>
                </a:cubicBezTo>
                <a:cubicBezTo>
                  <a:pt x="14320" y="8979"/>
                  <a:pt x="14329" y="8955"/>
                  <a:pt x="14337" y="8930"/>
                </a:cubicBezTo>
                <a:cubicBezTo>
                  <a:pt x="14288" y="8830"/>
                  <a:pt x="14248" y="8890"/>
                  <a:pt x="14163" y="8930"/>
                </a:cubicBezTo>
                <a:cubicBezTo>
                  <a:pt x="14098" y="8960"/>
                  <a:pt x="14108" y="8997"/>
                  <a:pt x="14188" y="9004"/>
                </a:cubicBezTo>
                <a:cubicBezTo>
                  <a:pt x="14263" y="9004"/>
                  <a:pt x="14288" y="9004"/>
                  <a:pt x="14263" y="8930"/>
                </a:cubicBezTo>
                <a:cubicBezTo>
                  <a:pt x="14304" y="8858"/>
                  <a:pt x="14346" y="8800"/>
                  <a:pt x="14238" y="8781"/>
                </a:cubicBezTo>
                <a:cubicBezTo>
                  <a:pt x="14167" y="8769"/>
                  <a:pt x="14106" y="8798"/>
                  <a:pt x="14039" y="8806"/>
                </a:cubicBezTo>
              </a:path>
              <a:path w="14438" h="9973">
                <a:moveTo>
                  <a:pt x="10244" y="4018"/>
                </a:moveTo>
                <a:cubicBezTo>
                  <a:pt x="10253" y="4084"/>
                  <a:pt x="10290" y="4121"/>
                  <a:pt x="10294" y="4192"/>
                </a:cubicBezTo>
                <a:cubicBezTo>
                  <a:pt x="10294" y="4233"/>
                  <a:pt x="10294" y="4241"/>
                  <a:pt x="10294" y="4266"/>
                </a:cubicBezTo>
              </a:path>
              <a:path w="14438" h="9973">
                <a:moveTo>
                  <a:pt x="10220" y="4539"/>
                </a:moveTo>
                <a:cubicBezTo>
                  <a:pt x="10200" y="4610"/>
                  <a:pt x="10174" y="4670"/>
                  <a:pt x="10170" y="4738"/>
                </a:cubicBezTo>
                <a:cubicBezTo>
                  <a:pt x="10170" y="4782"/>
                  <a:pt x="10173" y="4796"/>
                  <a:pt x="10145" y="4812"/>
                </a:cubicBezTo>
              </a:path>
              <a:path w="14438" h="9973">
                <a:moveTo>
                  <a:pt x="10145" y="5110"/>
                </a:moveTo>
                <a:cubicBezTo>
                  <a:pt x="10145" y="5201"/>
                  <a:pt x="10145" y="5292"/>
                  <a:pt x="10145" y="5383"/>
                </a:cubicBezTo>
              </a:path>
              <a:path w="14438" h="9973">
                <a:moveTo>
                  <a:pt x="10145" y="5705"/>
                </a:moveTo>
                <a:cubicBezTo>
                  <a:pt x="10131" y="5801"/>
                  <a:pt x="10120" y="5862"/>
                  <a:pt x="10120" y="5953"/>
                </a:cubicBezTo>
              </a:path>
              <a:path w="14438" h="9973">
                <a:moveTo>
                  <a:pt x="10096" y="6400"/>
                </a:moveTo>
                <a:cubicBezTo>
                  <a:pt x="10096" y="6499"/>
                  <a:pt x="10096" y="6598"/>
                  <a:pt x="10096" y="6697"/>
                </a:cubicBezTo>
              </a:path>
              <a:path w="14438" h="9973">
                <a:moveTo>
                  <a:pt x="10096" y="7144"/>
                </a:moveTo>
                <a:cubicBezTo>
                  <a:pt x="10096" y="7243"/>
                  <a:pt x="10096" y="7342"/>
                  <a:pt x="10096" y="7441"/>
                </a:cubicBezTo>
              </a:path>
              <a:path w="14438" h="9973">
                <a:moveTo>
                  <a:pt x="10145" y="8062"/>
                </a:moveTo>
                <a:cubicBezTo>
                  <a:pt x="10133" y="8183"/>
                  <a:pt x="10145" y="8246"/>
                  <a:pt x="10145" y="8359"/>
                </a:cubicBezTo>
              </a:path>
              <a:path w="14438" h="9973">
                <a:moveTo>
                  <a:pt x="10145" y="9004"/>
                </a:moveTo>
                <a:cubicBezTo>
                  <a:pt x="10102" y="9156"/>
                  <a:pt x="10087" y="9164"/>
                  <a:pt x="10120" y="9302"/>
                </a:cubicBezTo>
              </a:path>
              <a:path w="14438" h="9973">
                <a:moveTo>
                  <a:pt x="10096" y="10120"/>
                </a:moveTo>
                <a:cubicBezTo>
                  <a:pt x="10082" y="10271"/>
                  <a:pt x="10077" y="10285"/>
                  <a:pt x="10120" y="10418"/>
                </a:cubicBezTo>
              </a:path>
              <a:path w="14438" h="9973">
                <a:moveTo>
                  <a:pt x="9178" y="3894"/>
                </a:moveTo>
                <a:cubicBezTo>
                  <a:pt x="9196" y="3977"/>
                  <a:pt x="9203" y="4035"/>
                  <a:pt x="9203" y="4118"/>
                </a:cubicBezTo>
              </a:path>
              <a:path w="14438" h="9973">
                <a:moveTo>
                  <a:pt x="9277" y="4390"/>
                </a:moveTo>
                <a:cubicBezTo>
                  <a:pt x="9263" y="4490"/>
                  <a:pt x="9252" y="4565"/>
                  <a:pt x="9252" y="4663"/>
                </a:cubicBezTo>
              </a:path>
              <a:path w="14438" h="9973">
                <a:moveTo>
                  <a:pt x="9252" y="4862"/>
                </a:moveTo>
                <a:cubicBezTo>
                  <a:pt x="9224" y="4958"/>
                  <a:pt x="9172" y="5063"/>
                  <a:pt x="9153" y="5159"/>
                </a:cubicBezTo>
                <a:cubicBezTo>
                  <a:pt x="9153" y="5209"/>
                  <a:pt x="9153" y="5226"/>
                  <a:pt x="9153" y="5259"/>
                </a:cubicBezTo>
              </a:path>
              <a:path w="14438" h="9973">
                <a:moveTo>
                  <a:pt x="9178" y="5606"/>
                </a:moveTo>
                <a:cubicBezTo>
                  <a:pt x="9178" y="5722"/>
                  <a:pt x="9178" y="5837"/>
                  <a:pt x="9178" y="5953"/>
                </a:cubicBezTo>
              </a:path>
              <a:path w="14438" h="9973">
                <a:moveTo>
                  <a:pt x="9203" y="6474"/>
                </a:moveTo>
                <a:cubicBezTo>
                  <a:pt x="9185" y="6561"/>
                  <a:pt x="9156" y="6680"/>
                  <a:pt x="9178" y="6772"/>
                </a:cubicBezTo>
                <a:cubicBezTo>
                  <a:pt x="9186" y="6788"/>
                  <a:pt x="9195" y="6805"/>
                  <a:pt x="9203" y="6821"/>
                </a:cubicBezTo>
              </a:path>
              <a:path w="14438" h="9973">
                <a:moveTo>
                  <a:pt x="9203" y="7193"/>
                </a:moveTo>
                <a:cubicBezTo>
                  <a:pt x="9185" y="7315"/>
                  <a:pt x="9178" y="7419"/>
                  <a:pt x="9178" y="7541"/>
                </a:cubicBezTo>
                <a:cubicBezTo>
                  <a:pt x="9178" y="7557"/>
                  <a:pt x="9178" y="7574"/>
                  <a:pt x="9178" y="7590"/>
                </a:cubicBezTo>
              </a:path>
              <a:path w="14438" h="9973">
                <a:moveTo>
                  <a:pt x="9203" y="7888"/>
                </a:moveTo>
                <a:cubicBezTo>
                  <a:pt x="9175" y="8007"/>
                  <a:pt x="9153" y="8089"/>
                  <a:pt x="9153" y="8210"/>
                </a:cubicBezTo>
                <a:cubicBezTo>
                  <a:pt x="9153" y="8259"/>
                  <a:pt x="9169" y="8289"/>
                  <a:pt x="9178" y="8334"/>
                </a:cubicBezTo>
              </a:path>
              <a:path w="14438" h="9973">
                <a:moveTo>
                  <a:pt x="9227" y="8781"/>
                </a:moveTo>
                <a:cubicBezTo>
                  <a:pt x="9196" y="8900"/>
                  <a:pt x="9154" y="9027"/>
                  <a:pt x="9178" y="9153"/>
                </a:cubicBezTo>
                <a:cubicBezTo>
                  <a:pt x="9186" y="9178"/>
                  <a:pt x="9195" y="9202"/>
                  <a:pt x="9203" y="9227"/>
                </a:cubicBezTo>
              </a:path>
              <a:path w="14438" h="9973">
                <a:moveTo>
                  <a:pt x="9203" y="9599"/>
                </a:moveTo>
                <a:cubicBezTo>
                  <a:pt x="9147" y="9728"/>
                  <a:pt x="9101" y="9826"/>
                  <a:pt x="9128" y="9971"/>
                </a:cubicBezTo>
                <a:cubicBezTo>
                  <a:pt x="9148" y="10032"/>
                  <a:pt x="9146" y="10047"/>
                  <a:pt x="9178" y="10071"/>
                </a:cubicBezTo>
              </a:path>
              <a:path w="14438" h="9973">
                <a:moveTo>
                  <a:pt x="9227" y="10567"/>
                </a:moveTo>
                <a:cubicBezTo>
                  <a:pt x="9199" y="10718"/>
                  <a:pt x="9172" y="10836"/>
                  <a:pt x="9203" y="10988"/>
                </a:cubicBezTo>
                <a:cubicBezTo>
                  <a:pt x="9211" y="11013"/>
                  <a:pt x="9219" y="11038"/>
                  <a:pt x="9227" y="11063"/>
                </a:cubicBezTo>
              </a:path>
              <a:path w="14438" h="9973">
                <a:moveTo>
                  <a:pt x="4663" y="8930"/>
                </a:moveTo>
                <a:cubicBezTo>
                  <a:pt x="4782" y="8940"/>
                  <a:pt x="4886" y="8954"/>
                  <a:pt x="4986" y="9004"/>
                </a:cubicBezTo>
              </a:path>
              <a:path w="14438" h="9973">
                <a:moveTo>
                  <a:pt x="5556" y="8930"/>
                </a:moveTo>
                <a:cubicBezTo>
                  <a:pt x="5630" y="8930"/>
                  <a:pt x="5705" y="8930"/>
                  <a:pt x="5779" y="8930"/>
                </a:cubicBezTo>
              </a:path>
              <a:path w="14438" h="9973">
                <a:moveTo>
                  <a:pt x="6251" y="8880"/>
                </a:moveTo>
                <a:cubicBezTo>
                  <a:pt x="6332" y="8921"/>
                  <a:pt x="6345" y="8938"/>
                  <a:pt x="6400" y="8930"/>
                </a:cubicBezTo>
              </a:path>
              <a:path w="14438" h="9973">
                <a:moveTo>
                  <a:pt x="6970" y="8930"/>
                </a:moveTo>
                <a:cubicBezTo>
                  <a:pt x="7062" y="8930"/>
                  <a:pt x="7089" y="8928"/>
                  <a:pt x="7144" y="8954"/>
                </a:cubicBezTo>
              </a:path>
              <a:path w="14438" h="9973">
                <a:moveTo>
                  <a:pt x="7615" y="8954"/>
                </a:moveTo>
                <a:cubicBezTo>
                  <a:pt x="7706" y="9004"/>
                  <a:pt x="7736" y="9004"/>
                  <a:pt x="7838" y="9004"/>
                </a:cubicBezTo>
                <a:cubicBezTo>
                  <a:pt x="7855" y="9004"/>
                  <a:pt x="7871" y="9004"/>
                  <a:pt x="7888" y="9004"/>
                </a:cubicBezTo>
              </a:path>
              <a:path w="14438" h="9973">
                <a:moveTo>
                  <a:pt x="8384" y="9004"/>
                </a:moveTo>
                <a:cubicBezTo>
                  <a:pt x="8471" y="9020"/>
                  <a:pt x="8524" y="9029"/>
                  <a:pt x="8607" y="9029"/>
                </a:cubicBezTo>
              </a:path>
              <a:path w="14438" h="9973">
                <a:moveTo>
                  <a:pt x="9079" y="9029"/>
                </a:moveTo>
                <a:cubicBezTo>
                  <a:pt x="9171" y="9029"/>
                  <a:pt x="9197" y="9031"/>
                  <a:pt x="9252" y="9004"/>
                </a:cubicBezTo>
              </a:path>
              <a:path w="14438" h="9973">
                <a:moveTo>
                  <a:pt x="9723" y="9004"/>
                </a:moveTo>
                <a:cubicBezTo>
                  <a:pt x="9821" y="8964"/>
                  <a:pt x="9835" y="8948"/>
                  <a:pt x="9897" y="8954"/>
                </a:cubicBezTo>
              </a:path>
              <a:path w="14438" h="9973">
                <a:moveTo>
                  <a:pt x="10319" y="8954"/>
                </a:moveTo>
                <a:cubicBezTo>
                  <a:pt x="10427" y="8954"/>
                  <a:pt x="10469" y="8956"/>
                  <a:pt x="10567" y="8930"/>
                </a:cubicBezTo>
              </a:path>
              <a:path w="14438" h="9973">
                <a:moveTo>
                  <a:pt x="11013" y="8930"/>
                </a:moveTo>
                <a:cubicBezTo>
                  <a:pt x="11071" y="8930"/>
                  <a:pt x="11129" y="8930"/>
                  <a:pt x="11187" y="8930"/>
                </a:cubicBezTo>
              </a:path>
              <a:path w="14438" h="9973">
                <a:moveTo>
                  <a:pt x="11683" y="8855"/>
                </a:moveTo>
                <a:cubicBezTo>
                  <a:pt x="11766" y="8855"/>
                  <a:pt x="11848" y="8855"/>
                  <a:pt x="11931" y="8855"/>
                </a:cubicBezTo>
              </a:path>
              <a:path w="14438" h="9973">
                <a:moveTo>
                  <a:pt x="12477" y="8855"/>
                </a:moveTo>
                <a:cubicBezTo>
                  <a:pt x="12551" y="8855"/>
                  <a:pt x="12626" y="8855"/>
                  <a:pt x="12700" y="8855"/>
                </a:cubicBezTo>
              </a:path>
              <a:path w="14438" h="9973">
                <a:moveTo>
                  <a:pt x="13370" y="8880"/>
                </a:moveTo>
                <a:cubicBezTo>
                  <a:pt x="13479" y="8927"/>
                  <a:pt x="13482" y="8930"/>
                  <a:pt x="13593" y="8930"/>
                </a:cubicBezTo>
              </a:path>
              <a:path w="14438" h="9973">
                <a:moveTo>
                  <a:pt x="14163" y="8930"/>
                </a:moveTo>
                <a:cubicBezTo>
                  <a:pt x="14238" y="8930"/>
                  <a:pt x="14312" y="8930"/>
                  <a:pt x="14387" y="8930"/>
                </a:cubicBezTo>
              </a:path>
              <a:path w="14438" h="9973">
                <a:moveTo>
                  <a:pt x="15081" y="8880"/>
                </a:moveTo>
                <a:cubicBezTo>
                  <a:pt x="15246" y="8917"/>
                  <a:pt x="15261" y="8934"/>
                  <a:pt x="15354" y="8930"/>
                </a:cubicBezTo>
              </a:path>
              <a:path w="14438" h="9973">
                <a:moveTo>
                  <a:pt x="15974" y="8880"/>
                </a:moveTo>
                <a:cubicBezTo>
                  <a:pt x="16073" y="8880"/>
                  <a:pt x="16173" y="8880"/>
                  <a:pt x="16272" y="8880"/>
                </a:cubicBezTo>
              </a:path>
              <a:path w="14438" h="9973">
                <a:moveTo>
                  <a:pt x="16966" y="8954"/>
                </a:moveTo>
                <a:cubicBezTo>
                  <a:pt x="17088" y="8997"/>
                  <a:pt x="17097" y="9004"/>
                  <a:pt x="17214" y="9004"/>
                </a:cubicBezTo>
              </a:path>
              <a:path w="14438" h="9973">
                <a:moveTo>
                  <a:pt x="17934" y="9079"/>
                </a:moveTo>
                <a:cubicBezTo>
                  <a:pt x="18037" y="9079"/>
                  <a:pt x="18052" y="9083"/>
                  <a:pt x="18132" y="9029"/>
                </a:cubicBezTo>
              </a:path>
              <a:path w="14438" h="9973">
                <a:moveTo>
                  <a:pt x="18678" y="9004"/>
                </a:moveTo>
                <a:cubicBezTo>
                  <a:pt x="18752" y="9007"/>
                  <a:pt x="18963" y="9052"/>
                  <a:pt x="19050" y="9029"/>
                </a:cubicBezTo>
                <a:cubicBezTo>
                  <a:pt x="19067" y="9021"/>
                  <a:pt x="19083" y="9012"/>
                  <a:pt x="19100" y="9004"/>
                </a:cubicBezTo>
              </a:path>
              <a:path w="14438" h="9973">
                <a:moveTo>
                  <a:pt x="10542" y="13866"/>
                </a:moveTo>
                <a:cubicBezTo>
                  <a:pt x="10554" y="13798"/>
                  <a:pt x="10551" y="13727"/>
                  <a:pt x="10567" y="13667"/>
                </a:cubicBezTo>
                <a:cubicBezTo>
                  <a:pt x="10582" y="13608"/>
                  <a:pt x="10600" y="13557"/>
                  <a:pt x="10616" y="13494"/>
                </a:cubicBezTo>
                <a:cubicBezTo>
                  <a:pt x="10638" y="13405"/>
                  <a:pt x="10658" y="13310"/>
                  <a:pt x="10691" y="13221"/>
                </a:cubicBezTo>
                <a:cubicBezTo>
                  <a:pt x="10728" y="13120"/>
                  <a:pt x="10779" y="13025"/>
                  <a:pt x="10815" y="12923"/>
                </a:cubicBezTo>
                <a:cubicBezTo>
                  <a:pt x="10842" y="12847"/>
                  <a:pt x="10862" y="12773"/>
                  <a:pt x="10889" y="12700"/>
                </a:cubicBezTo>
                <a:cubicBezTo>
                  <a:pt x="10944" y="12549"/>
                  <a:pt x="10997" y="12404"/>
                  <a:pt x="11038" y="12254"/>
                </a:cubicBezTo>
                <a:cubicBezTo>
                  <a:pt x="11061" y="12168"/>
                  <a:pt x="11085" y="12087"/>
                  <a:pt x="11112" y="12005"/>
                </a:cubicBezTo>
                <a:cubicBezTo>
                  <a:pt x="11140" y="11920"/>
                  <a:pt x="11178" y="11840"/>
                  <a:pt x="11212" y="11757"/>
                </a:cubicBezTo>
                <a:cubicBezTo>
                  <a:pt x="11250" y="11665"/>
                  <a:pt x="11292" y="11575"/>
                  <a:pt x="11336" y="11485"/>
                </a:cubicBezTo>
                <a:cubicBezTo>
                  <a:pt x="11387" y="11379"/>
                  <a:pt x="11430" y="11267"/>
                  <a:pt x="11485" y="11162"/>
                </a:cubicBezTo>
                <a:cubicBezTo>
                  <a:pt x="11538" y="11059"/>
                  <a:pt x="11583" y="10969"/>
                  <a:pt x="11633" y="10864"/>
                </a:cubicBezTo>
                <a:cubicBezTo>
                  <a:pt x="11680" y="10765"/>
                  <a:pt x="11741" y="10664"/>
                  <a:pt x="11782" y="10567"/>
                </a:cubicBezTo>
                <a:cubicBezTo>
                  <a:pt x="11810" y="10501"/>
                  <a:pt x="11822" y="10429"/>
                  <a:pt x="11857" y="10368"/>
                </a:cubicBezTo>
                <a:cubicBezTo>
                  <a:pt x="11904" y="10285"/>
                  <a:pt x="11930" y="10266"/>
                  <a:pt x="11981" y="10195"/>
                </a:cubicBezTo>
                <a:cubicBezTo>
                  <a:pt x="12006" y="10160"/>
                  <a:pt x="12062" y="10090"/>
                  <a:pt x="12105" y="10046"/>
                </a:cubicBezTo>
                <a:cubicBezTo>
                  <a:pt x="12136" y="10014"/>
                  <a:pt x="12190" y="9961"/>
                  <a:pt x="12229" y="9922"/>
                </a:cubicBezTo>
                <a:cubicBezTo>
                  <a:pt x="12268" y="9883"/>
                  <a:pt x="12332" y="9867"/>
                  <a:pt x="12378" y="9823"/>
                </a:cubicBezTo>
                <a:cubicBezTo>
                  <a:pt x="12429" y="9774"/>
                  <a:pt x="12470" y="9720"/>
                  <a:pt x="12526" y="9674"/>
                </a:cubicBezTo>
                <a:cubicBezTo>
                  <a:pt x="12582" y="9629"/>
                  <a:pt x="12650" y="9591"/>
                  <a:pt x="12700" y="9550"/>
                </a:cubicBezTo>
                <a:cubicBezTo>
                  <a:pt x="12743" y="9514"/>
                  <a:pt x="12814" y="9483"/>
                  <a:pt x="12849" y="9451"/>
                </a:cubicBezTo>
                <a:cubicBezTo>
                  <a:pt x="12911" y="9395"/>
                  <a:pt x="12991" y="9344"/>
                  <a:pt x="13047" y="9302"/>
                </a:cubicBezTo>
                <a:cubicBezTo>
                  <a:pt x="13108" y="9257"/>
                  <a:pt x="13159" y="9196"/>
                  <a:pt x="13221" y="9153"/>
                </a:cubicBezTo>
                <a:cubicBezTo>
                  <a:pt x="13280" y="9112"/>
                  <a:pt x="13349" y="9074"/>
                  <a:pt x="13419" y="9029"/>
                </a:cubicBezTo>
                <a:cubicBezTo>
                  <a:pt x="13480" y="8990"/>
                  <a:pt x="13530" y="8960"/>
                  <a:pt x="13593" y="8930"/>
                </a:cubicBezTo>
                <a:cubicBezTo>
                  <a:pt x="13652" y="8902"/>
                  <a:pt x="13728" y="8882"/>
                  <a:pt x="13791" y="8855"/>
                </a:cubicBezTo>
                <a:cubicBezTo>
                  <a:pt x="13852" y="8829"/>
                  <a:pt x="13956" y="8813"/>
                  <a:pt x="14015" y="8781"/>
                </a:cubicBezTo>
                <a:cubicBezTo>
                  <a:pt x="14085" y="8743"/>
                  <a:pt x="14143" y="8689"/>
                  <a:pt x="14213" y="8657"/>
                </a:cubicBezTo>
                <a:cubicBezTo>
                  <a:pt x="14299" y="8617"/>
                  <a:pt x="14395" y="8590"/>
                  <a:pt x="14486" y="8558"/>
                </a:cubicBezTo>
                <a:cubicBezTo>
                  <a:pt x="14578" y="8525"/>
                  <a:pt x="14689" y="8513"/>
                  <a:pt x="14784" y="8483"/>
                </a:cubicBezTo>
                <a:cubicBezTo>
                  <a:pt x="14891" y="8449"/>
                  <a:pt x="15003" y="8382"/>
                  <a:pt x="15106" y="8359"/>
                </a:cubicBezTo>
                <a:cubicBezTo>
                  <a:pt x="15289" y="8318"/>
                  <a:pt x="15465" y="8303"/>
                  <a:pt x="15652" y="8260"/>
                </a:cubicBezTo>
                <a:cubicBezTo>
                  <a:pt x="16008" y="8178"/>
                  <a:pt x="16358" y="8058"/>
                  <a:pt x="16718" y="8012"/>
                </a:cubicBezTo>
                <a:cubicBezTo>
                  <a:pt x="16828" y="7998"/>
                  <a:pt x="16934" y="7991"/>
                  <a:pt x="17041" y="7962"/>
                </a:cubicBezTo>
                <a:cubicBezTo>
                  <a:pt x="17163" y="7929"/>
                  <a:pt x="17255" y="7867"/>
                  <a:pt x="17363" y="78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Ink 7"/>
          <p:cNvSpPr/>
          <p:nvPr/>
        </p:nvSpPr>
        <p:spPr>
          <a:xfrm>
            <a:off x="1589040" y="3241800"/>
            <a:ext cx="2536920" cy="2152440"/>
          </a:xfrm>
          <a:custGeom>
            <a:avLst/>
            <a:gdLst/>
            <a:ahLst/>
            <a:rect l="l" t="t" r="r" b="b"/>
            <a:pathLst>
              <a:path w="7046" h="5979">
                <a:moveTo>
                  <a:pt x="10120" y="11212"/>
                </a:moveTo>
                <a:cubicBezTo>
                  <a:pt x="10102" y="11435"/>
                  <a:pt x="10094" y="11460"/>
                  <a:pt x="10096" y="11584"/>
                </a:cubicBezTo>
              </a:path>
              <a:path w="7046" h="5979">
                <a:moveTo>
                  <a:pt x="10096" y="12303"/>
                </a:moveTo>
                <a:cubicBezTo>
                  <a:pt x="10075" y="12446"/>
                  <a:pt x="10061" y="12538"/>
                  <a:pt x="10096" y="12675"/>
                </a:cubicBezTo>
              </a:path>
              <a:path w="7046" h="5979">
                <a:moveTo>
                  <a:pt x="10021" y="13320"/>
                </a:moveTo>
                <a:cubicBezTo>
                  <a:pt x="9993" y="13442"/>
                  <a:pt x="9946" y="13586"/>
                  <a:pt x="9971" y="13717"/>
                </a:cubicBezTo>
                <a:cubicBezTo>
                  <a:pt x="9994" y="13838"/>
                  <a:pt x="9992" y="13941"/>
                  <a:pt x="9971" y="14064"/>
                </a:cubicBezTo>
                <a:cubicBezTo>
                  <a:pt x="9951" y="14182"/>
                  <a:pt x="9889" y="14294"/>
                  <a:pt x="9872" y="14412"/>
                </a:cubicBezTo>
                <a:cubicBezTo>
                  <a:pt x="9872" y="14486"/>
                  <a:pt x="9872" y="14511"/>
                  <a:pt x="9872" y="14560"/>
                </a:cubicBezTo>
              </a:path>
              <a:path w="7046" h="5979">
                <a:moveTo>
                  <a:pt x="9227" y="11534"/>
                </a:moveTo>
                <a:cubicBezTo>
                  <a:pt x="9179" y="11722"/>
                  <a:pt x="9159" y="11783"/>
                  <a:pt x="9178" y="11956"/>
                </a:cubicBezTo>
                <a:cubicBezTo>
                  <a:pt x="9178" y="11981"/>
                  <a:pt x="9178" y="12005"/>
                  <a:pt x="9178" y="12030"/>
                </a:cubicBezTo>
              </a:path>
              <a:path w="7046" h="5979">
                <a:moveTo>
                  <a:pt x="9153" y="12675"/>
                </a:moveTo>
                <a:cubicBezTo>
                  <a:pt x="9123" y="12811"/>
                  <a:pt x="9055" y="12997"/>
                  <a:pt x="9079" y="13146"/>
                </a:cubicBezTo>
                <a:cubicBezTo>
                  <a:pt x="9087" y="13171"/>
                  <a:pt x="9095" y="13196"/>
                  <a:pt x="9103" y="13221"/>
                </a:cubicBezTo>
              </a:path>
              <a:path w="7046" h="5979">
                <a:moveTo>
                  <a:pt x="9079" y="13717"/>
                </a:moveTo>
                <a:cubicBezTo>
                  <a:pt x="9067" y="13827"/>
                  <a:pt x="9031" y="13995"/>
                  <a:pt x="9054" y="14114"/>
                </a:cubicBezTo>
                <a:cubicBezTo>
                  <a:pt x="9062" y="14139"/>
                  <a:pt x="9071" y="14163"/>
                  <a:pt x="9079" y="14188"/>
                </a:cubicBezTo>
              </a:path>
              <a:path w="7046" h="5979">
                <a:moveTo>
                  <a:pt x="9079" y="14635"/>
                </a:moveTo>
                <a:cubicBezTo>
                  <a:pt x="9056" y="14739"/>
                  <a:pt x="9029" y="14827"/>
                  <a:pt x="9029" y="14932"/>
                </a:cubicBezTo>
                <a:cubicBezTo>
                  <a:pt x="9029" y="14949"/>
                  <a:pt x="9029" y="14965"/>
                  <a:pt x="9029" y="14982"/>
                </a:cubicBezTo>
              </a:path>
              <a:path w="7046" h="5979">
                <a:moveTo>
                  <a:pt x="4539" y="9178"/>
                </a:moveTo>
                <a:cubicBezTo>
                  <a:pt x="4671" y="9178"/>
                  <a:pt x="4824" y="9217"/>
                  <a:pt x="4911" y="9227"/>
                </a:cubicBezTo>
                <a:cubicBezTo>
                  <a:pt x="5032" y="9241"/>
                  <a:pt x="5150" y="9223"/>
                  <a:pt x="5259" y="9252"/>
                </a:cubicBezTo>
                <a:cubicBezTo>
                  <a:pt x="5321" y="9268"/>
                  <a:pt x="5399" y="9279"/>
                  <a:pt x="5457" y="9302"/>
                </a:cubicBezTo>
                <a:cubicBezTo>
                  <a:pt x="5517" y="9326"/>
                  <a:pt x="5594" y="9350"/>
                  <a:pt x="5655" y="9376"/>
                </a:cubicBezTo>
                <a:cubicBezTo>
                  <a:pt x="5727" y="9407"/>
                  <a:pt x="5787" y="9426"/>
                  <a:pt x="5854" y="9451"/>
                </a:cubicBezTo>
                <a:cubicBezTo>
                  <a:pt x="5909" y="9472"/>
                  <a:pt x="5982" y="9475"/>
                  <a:pt x="6028" y="9500"/>
                </a:cubicBezTo>
                <a:cubicBezTo>
                  <a:pt x="6077" y="9526"/>
                  <a:pt x="6114" y="9580"/>
                  <a:pt x="6152" y="9599"/>
                </a:cubicBezTo>
                <a:cubicBezTo>
                  <a:pt x="6199" y="9622"/>
                  <a:pt x="6275" y="9650"/>
                  <a:pt x="6325" y="9674"/>
                </a:cubicBezTo>
                <a:cubicBezTo>
                  <a:pt x="6394" y="9706"/>
                  <a:pt x="6417" y="9700"/>
                  <a:pt x="6499" y="9748"/>
                </a:cubicBezTo>
                <a:cubicBezTo>
                  <a:pt x="6551" y="9779"/>
                  <a:pt x="6591" y="9799"/>
                  <a:pt x="6648" y="9847"/>
                </a:cubicBezTo>
                <a:cubicBezTo>
                  <a:pt x="6708" y="9897"/>
                  <a:pt x="6764" y="9930"/>
                  <a:pt x="6821" y="9971"/>
                </a:cubicBezTo>
                <a:cubicBezTo>
                  <a:pt x="6886" y="10018"/>
                  <a:pt x="6994" y="10078"/>
                  <a:pt x="7045" y="10120"/>
                </a:cubicBezTo>
                <a:cubicBezTo>
                  <a:pt x="7122" y="10183"/>
                  <a:pt x="7200" y="10268"/>
                  <a:pt x="7268" y="10344"/>
                </a:cubicBezTo>
                <a:cubicBezTo>
                  <a:pt x="7340" y="10424"/>
                  <a:pt x="7419" y="10489"/>
                  <a:pt x="7491" y="10567"/>
                </a:cubicBezTo>
                <a:cubicBezTo>
                  <a:pt x="7591" y="10675"/>
                  <a:pt x="7668" y="10804"/>
                  <a:pt x="7764" y="10914"/>
                </a:cubicBezTo>
                <a:cubicBezTo>
                  <a:pt x="7875" y="11042"/>
                  <a:pt x="7962" y="11173"/>
                  <a:pt x="8062" y="11311"/>
                </a:cubicBezTo>
                <a:cubicBezTo>
                  <a:pt x="8129" y="11403"/>
                  <a:pt x="8178" y="11486"/>
                  <a:pt x="8235" y="11584"/>
                </a:cubicBezTo>
                <a:cubicBezTo>
                  <a:pt x="8288" y="11674"/>
                  <a:pt x="8337" y="11765"/>
                  <a:pt x="8384" y="11857"/>
                </a:cubicBezTo>
                <a:cubicBezTo>
                  <a:pt x="8429" y="11946"/>
                  <a:pt x="8469" y="12037"/>
                  <a:pt x="8508" y="12129"/>
                </a:cubicBezTo>
                <a:cubicBezTo>
                  <a:pt x="8640" y="12441"/>
                  <a:pt x="8723" y="12776"/>
                  <a:pt x="8830" y="13097"/>
                </a:cubicBezTo>
                <a:cubicBezTo>
                  <a:pt x="8864" y="13198"/>
                  <a:pt x="8880" y="13296"/>
                  <a:pt x="8905" y="13395"/>
                </a:cubicBezTo>
                <a:cubicBezTo>
                  <a:pt x="8926" y="13476"/>
                  <a:pt x="8933" y="13562"/>
                  <a:pt x="8954" y="13643"/>
                </a:cubicBezTo>
                <a:cubicBezTo>
                  <a:pt x="8970" y="13704"/>
                  <a:pt x="8980" y="13658"/>
                  <a:pt x="9004" y="13717"/>
                </a:cubicBezTo>
              </a:path>
              <a:path w="7046" h="5979">
                <a:moveTo>
                  <a:pt x="8979" y="12973"/>
                </a:moveTo>
                <a:cubicBezTo>
                  <a:pt x="8991" y="13054"/>
                  <a:pt x="9004" y="13101"/>
                  <a:pt x="9004" y="13196"/>
                </a:cubicBezTo>
                <a:cubicBezTo>
                  <a:pt x="9004" y="13294"/>
                  <a:pt x="9012" y="13376"/>
                  <a:pt x="9004" y="13469"/>
                </a:cubicBezTo>
                <a:cubicBezTo>
                  <a:pt x="8997" y="13552"/>
                  <a:pt x="8992" y="13590"/>
                  <a:pt x="8954" y="13667"/>
                </a:cubicBezTo>
                <a:cubicBezTo>
                  <a:pt x="8916" y="13744"/>
                  <a:pt x="8890" y="13775"/>
                  <a:pt x="8806" y="13742"/>
                </a:cubicBezTo>
                <a:cubicBezTo>
                  <a:pt x="8730" y="13712"/>
                  <a:pt x="8703" y="13656"/>
                  <a:pt x="8657" y="13593"/>
                </a:cubicBezTo>
              </a:path>
              <a:path w="7046" h="5979">
                <a:moveTo>
                  <a:pt x="4837" y="9004"/>
                </a:moveTo>
                <a:cubicBezTo>
                  <a:pt x="4764" y="9014"/>
                  <a:pt x="4710" y="9058"/>
                  <a:pt x="4638" y="9079"/>
                </a:cubicBezTo>
                <a:cubicBezTo>
                  <a:pt x="4560" y="9101"/>
                  <a:pt x="4500" y="9111"/>
                  <a:pt x="4440" y="9153"/>
                </a:cubicBezTo>
                <a:cubicBezTo>
                  <a:pt x="4350" y="9216"/>
                  <a:pt x="4464" y="9281"/>
                  <a:pt x="4490" y="9302"/>
                </a:cubicBezTo>
                <a:cubicBezTo>
                  <a:pt x="4596" y="9389"/>
                  <a:pt x="4716" y="9426"/>
                  <a:pt x="4837" y="9500"/>
                </a:cubicBezTo>
              </a:path>
              <a:path w="7046" h="5979">
                <a:moveTo>
                  <a:pt x="10393" y="12675"/>
                </a:moveTo>
                <a:cubicBezTo>
                  <a:pt x="10370" y="12862"/>
                  <a:pt x="10350" y="13057"/>
                  <a:pt x="10368" y="13246"/>
                </a:cubicBezTo>
                <a:cubicBezTo>
                  <a:pt x="10392" y="13506"/>
                  <a:pt x="10406" y="13786"/>
                  <a:pt x="10468" y="14039"/>
                </a:cubicBezTo>
                <a:cubicBezTo>
                  <a:pt x="10512" y="14220"/>
                  <a:pt x="10663" y="14296"/>
                  <a:pt x="10840" y="14312"/>
                </a:cubicBezTo>
                <a:cubicBezTo>
                  <a:pt x="11057" y="14332"/>
                  <a:pt x="11262" y="14259"/>
                  <a:pt x="11460" y="141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Ink 8"/>
          <p:cNvSpPr/>
          <p:nvPr/>
        </p:nvSpPr>
        <p:spPr>
          <a:xfrm>
            <a:off x="6180120" y="2678040"/>
            <a:ext cx="249120" cy="270000"/>
          </a:xfrm>
          <a:custGeom>
            <a:avLst/>
            <a:gdLst/>
            <a:ahLst/>
            <a:rect l="l" t="t" r="r" b="b"/>
            <a:pathLst>
              <a:path w="695" h="746">
                <a:moveTo>
                  <a:pt x="17165" y="7466"/>
                </a:moveTo>
                <a:cubicBezTo>
                  <a:pt x="17254" y="7432"/>
                  <a:pt x="17277" y="7455"/>
                  <a:pt x="17363" y="7466"/>
                </a:cubicBezTo>
                <a:cubicBezTo>
                  <a:pt x="17473" y="7480"/>
                  <a:pt x="17577" y="7525"/>
                  <a:pt x="17686" y="7541"/>
                </a:cubicBezTo>
                <a:cubicBezTo>
                  <a:pt x="17763" y="7552"/>
                  <a:pt x="17788" y="7555"/>
                  <a:pt x="17859" y="7590"/>
                </a:cubicBezTo>
                <a:cubicBezTo>
                  <a:pt x="17848" y="7673"/>
                  <a:pt x="17797" y="7702"/>
                  <a:pt x="17735" y="7764"/>
                </a:cubicBezTo>
                <a:cubicBezTo>
                  <a:pt x="17624" y="7874"/>
                  <a:pt x="17515" y="7972"/>
                  <a:pt x="17438" y="8111"/>
                </a:cubicBezTo>
                <a:cubicBezTo>
                  <a:pt x="17430" y="8136"/>
                  <a:pt x="17421" y="8161"/>
                  <a:pt x="17413" y="81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(x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-9)/(x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+7x+1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Ink 4"/>
          <p:cNvSpPr/>
          <p:nvPr/>
        </p:nvSpPr>
        <p:spPr>
          <a:xfrm>
            <a:off x="2027160" y="546408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5631" y="15230"/>
                </a:moveTo>
                <a:cubicBezTo>
                  <a:pt x="5631" y="15213"/>
                  <a:pt x="5631" y="15197"/>
                  <a:pt x="5631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Ink 5"/>
          <p:cNvSpPr/>
          <p:nvPr/>
        </p:nvSpPr>
        <p:spPr>
          <a:xfrm>
            <a:off x="3116160" y="1366920"/>
            <a:ext cx="1482840" cy="731880"/>
          </a:xfrm>
          <a:custGeom>
            <a:avLst/>
            <a:gdLst/>
            <a:ahLst/>
            <a:rect l="l" t="t" r="r" b="b"/>
            <a:pathLst>
              <a:path w="4118" h="2035">
                <a:moveTo>
                  <a:pt x="8657" y="4787"/>
                </a:moveTo>
                <a:cubicBezTo>
                  <a:pt x="8733" y="4864"/>
                  <a:pt x="8747" y="4896"/>
                  <a:pt x="8806" y="5011"/>
                </a:cubicBezTo>
                <a:cubicBezTo>
                  <a:pt x="8836" y="5069"/>
                  <a:pt x="8889" y="5104"/>
                  <a:pt x="8930" y="5159"/>
                </a:cubicBezTo>
                <a:cubicBezTo>
                  <a:pt x="8961" y="5201"/>
                  <a:pt x="9008" y="5247"/>
                  <a:pt x="9054" y="5259"/>
                </a:cubicBezTo>
              </a:path>
              <a:path w="4118" h="2035">
                <a:moveTo>
                  <a:pt x="9103" y="4589"/>
                </a:moveTo>
                <a:cubicBezTo>
                  <a:pt x="9080" y="4754"/>
                  <a:pt x="9034" y="4919"/>
                  <a:pt x="9029" y="5085"/>
                </a:cubicBezTo>
                <a:cubicBezTo>
                  <a:pt x="9025" y="5212"/>
                  <a:pt x="9004" y="5329"/>
                  <a:pt x="9004" y="5457"/>
                </a:cubicBezTo>
                <a:cubicBezTo>
                  <a:pt x="9004" y="5555"/>
                  <a:pt x="8968" y="5636"/>
                  <a:pt x="8954" y="5730"/>
                </a:cubicBezTo>
                <a:cubicBezTo>
                  <a:pt x="8947" y="5776"/>
                  <a:pt x="8925" y="5880"/>
                  <a:pt x="8905" y="5779"/>
                </a:cubicBezTo>
              </a:path>
              <a:path w="4118" h="2035">
                <a:moveTo>
                  <a:pt x="9302" y="4787"/>
                </a:moveTo>
                <a:cubicBezTo>
                  <a:pt x="9415" y="4768"/>
                  <a:pt x="9510" y="4762"/>
                  <a:pt x="9624" y="4762"/>
                </a:cubicBezTo>
                <a:cubicBezTo>
                  <a:pt x="9641" y="4762"/>
                  <a:pt x="9657" y="4762"/>
                  <a:pt x="9674" y="4762"/>
                </a:cubicBezTo>
              </a:path>
              <a:path w="4118" h="2035">
                <a:moveTo>
                  <a:pt x="9351" y="4986"/>
                </a:moveTo>
                <a:cubicBezTo>
                  <a:pt x="9463" y="5017"/>
                  <a:pt x="9491" y="5002"/>
                  <a:pt x="9599" y="4961"/>
                </a:cubicBezTo>
                <a:cubicBezTo>
                  <a:pt x="9624" y="4953"/>
                  <a:pt x="9649" y="4944"/>
                  <a:pt x="9674" y="4936"/>
                </a:cubicBezTo>
              </a:path>
              <a:path w="4118" h="2035">
                <a:moveTo>
                  <a:pt x="9897" y="4316"/>
                </a:moveTo>
                <a:cubicBezTo>
                  <a:pt x="9988" y="4316"/>
                  <a:pt x="10079" y="4316"/>
                  <a:pt x="10170" y="4316"/>
                </a:cubicBezTo>
              </a:path>
              <a:path w="4118" h="2035">
                <a:moveTo>
                  <a:pt x="10815" y="3894"/>
                </a:moveTo>
                <a:cubicBezTo>
                  <a:pt x="10840" y="3845"/>
                  <a:pt x="10848" y="3828"/>
                  <a:pt x="10815" y="3795"/>
                </a:cubicBezTo>
                <a:cubicBezTo>
                  <a:pt x="10757" y="3803"/>
                  <a:pt x="10692" y="3831"/>
                  <a:pt x="10641" y="3870"/>
                </a:cubicBezTo>
                <a:cubicBezTo>
                  <a:pt x="10604" y="3899"/>
                  <a:pt x="10523" y="3963"/>
                  <a:pt x="10542" y="4018"/>
                </a:cubicBezTo>
                <a:cubicBezTo>
                  <a:pt x="10555" y="4057"/>
                  <a:pt x="10627" y="4106"/>
                  <a:pt x="10666" y="4093"/>
                </a:cubicBezTo>
                <a:cubicBezTo>
                  <a:pt x="10737" y="4069"/>
                  <a:pt x="10805" y="3985"/>
                  <a:pt x="10840" y="3919"/>
                </a:cubicBezTo>
                <a:cubicBezTo>
                  <a:pt x="10848" y="3903"/>
                  <a:pt x="10856" y="3886"/>
                  <a:pt x="10864" y="3870"/>
                </a:cubicBezTo>
                <a:cubicBezTo>
                  <a:pt x="10847" y="3933"/>
                  <a:pt x="10810" y="4059"/>
                  <a:pt x="10815" y="4118"/>
                </a:cubicBezTo>
                <a:cubicBezTo>
                  <a:pt x="10821" y="4194"/>
                  <a:pt x="10853" y="4278"/>
                  <a:pt x="10889" y="4341"/>
                </a:cubicBezTo>
                <a:cubicBezTo>
                  <a:pt x="10913" y="4382"/>
                  <a:pt x="10930" y="4420"/>
                  <a:pt x="10939" y="4465"/>
                </a:cubicBezTo>
              </a:path>
              <a:path w="4118" h="2035">
                <a:moveTo>
                  <a:pt x="10468" y="4614"/>
                </a:moveTo>
                <a:cubicBezTo>
                  <a:pt x="10597" y="4638"/>
                  <a:pt x="10733" y="4651"/>
                  <a:pt x="10864" y="4663"/>
                </a:cubicBezTo>
                <a:cubicBezTo>
                  <a:pt x="10937" y="4670"/>
                  <a:pt x="11015" y="4663"/>
                  <a:pt x="11088" y="4663"/>
                </a:cubicBezTo>
              </a:path>
              <a:path w="4118" h="2035">
                <a:moveTo>
                  <a:pt x="10716" y="4961"/>
                </a:moveTo>
                <a:cubicBezTo>
                  <a:pt x="10696" y="5101"/>
                  <a:pt x="10695" y="5160"/>
                  <a:pt x="10716" y="5283"/>
                </a:cubicBezTo>
                <a:cubicBezTo>
                  <a:pt x="10726" y="5343"/>
                  <a:pt x="10722" y="5515"/>
                  <a:pt x="10740" y="5457"/>
                </a:cubicBezTo>
                <a:cubicBezTo>
                  <a:pt x="10740" y="5440"/>
                  <a:pt x="10740" y="5424"/>
                  <a:pt x="10740" y="5407"/>
                </a:cubicBezTo>
              </a:path>
              <a:path w="4118" h="2035">
                <a:moveTo>
                  <a:pt x="10790" y="4986"/>
                </a:moveTo>
                <a:cubicBezTo>
                  <a:pt x="10863" y="4957"/>
                  <a:pt x="11087" y="4829"/>
                  <a:pt x="11162" y="4961"/>
                </a:cubicBezTo>
                <a:cubicBezTo>
                  <a:pt x="11195" y="5020"/>
                  <a:pt x="11136" y="5110"/>
                  <a:pt x="11112" y="5159"/>
                </a:cubicBezTo>
                <a:cubicBezTo>
                  <a:pt x="11078" y="5229"/>
                  <a:pt x="11006" y="5279"/>
                  <a:pt x="10988" y="5358"/>
                </a:cubicBezTo>
                <a:cubicBezTo>
                  <a:pt x="10973" y="5427"/>
                  <a:pt x="10987" y="5489"/>
                  <a:pt x="11063" y="5507"/>
                </a:cubicBezTo>
                <a:cubicBezTo>
                  <a:pt x="11156" y="5529"/>
                  <a:pt x="11193" y="5516"/>
                  <a:pt x="11286" y="5482"/>
                </a:cubicBezTo>
              </a:path>
              <a:path w="4118" h="2035">
                <a:moveTo>
                  <a:pt x="11534" y="4713"/>
                </a:moveTo>
                <a:cubicBezTo>
                  <a:pt x="11584" y="4713"/>
                  <a:pt x="11633" y="4713"/>
                  <a:pt x="11683" y="4713"/>
                </a:cubicBezTo>
              </a:path>
              <a:path w="4118" h="2035">
                <a:moveTo>
                  <a:pt x="11584" y="4911"/>
                </a:moveTo>
                <a:cubicBezTo>
                  <a:pt x="11645" y="4911"/>
                  <a:pt x="11660" y="4920"/>
                  <a:pt x="11683" y="4887"/>
                </a:cubicBezTo>
              </a:path>
              <a:path w="4118" h="2035">
                <a:moveTo>
                  <a:pt x="12005" y="4390"/>
                </a:moveTo>
                <a:cubicBezTo>
                  <a:pt x="12088" y="4370"/>
                  <a:pt x="12103" y="4362"/>
                  <a:pt x="12154" y="4366"/>
                </a:cubicBezTo>
              </a:path>
              <a:path w="4118" h="2035">
                <a:moveTo>
                  <a:pt x="12427" y="3944"/>
                </a:moveTo>
                <a:cubicBezTo>
                  <a:pt x="12490" y="3944"/>
                  <a:pt x="12552" y="3930"/>
                  <a:pt x="12601" y="3969"/>
                </a:cubicBezTo>
                <a:cubicBezTo>
                  <a:pt x="12662" y="4018"/>
                  <a:pt x="12568" y="4093"/>
                  <a:pt x="12526" y="4118"/>
                </a:cubicBezTo>
                <a:cubicBezTo>
                  <a:pt x="12477" y="4142"/>
                  <a:pt x="12460" y="4150"/>
                  <a:pt x="12427" y="4167"/>
                </a:cubicBezTo>
                <a:cubicBezTo>
                  <a:pt x="12501" y="4176"/>
                  <a:pt x="12578" y="4189"/>
                  <a:pt x="12650" y="4217"/>
                </a:cubicBezTo>
                <a:cubicBezTo>
                  <a:pt x="12731" y="4248"/>
                  <a:pt x="12765" y="4282"/>
                  <a:pt x="12725" y="4366"/>
                </a:cubicBezTo>
                <a:cubicBezTo>
                  <a:pt x="12699" y="4421"/>
                  <a:pt x="12553" y="4456"/>
                  <a:pt x="12502" y="4465"/>
                </a:cubicBezTo>
                <a:cubicBezTo>
                  <a:pt x="12485" y="4465"/>
                  <a:pt x="12469" y="4465"/>
                  <a:pt x="12452" y="4465"/>
                </a:cubicBezTo>
              </a:path>
              <a:path w="4118" h="2035">
                <a:moveTo>
                  <a:pt x="12154" y="4614"/>
                </a:moveTo>
                <a:cubicBezTo>
                  <a:pt x="12319" y="4590"/>
                  <a:pt x="12486" y="4555"/>
                  <a:pt x="12650" y="4539"/>
                </a:cubicBezTo>
                <a:cubicBezTo>
                  <a:pt x="12716" y="4539"/>
                  <a:pt x="12733" y="4539"/>
                  <a:pt x="12774" y="4539"/>
                </a:cubicBezTo>
              </a:path>
              <a:path w="4118" h="2035">
                <a:moveTo>
                  <a:pt x="12303" y="4762"/>
                </a:moveTo>
                <a:cubicBezTo>
                  <a:pt x="12271" y="4868"/>
                  <a:pt x="12238" y="4984"/>
                  <a:pt x="12204" y="5085"/>
                </a:cubicBezTo>
                <a:cubicBezTo>
                  <a:pt x="12189" y="5128"/>
                  <a:pt x="12152" y="5169"/>
                  <a:pt x="12129" y="5209"/>
                </a:cubicBezTo>
                <a:cubicBezTo>
                  <a:pt x="12218" y="5209"/>
                  <a:pt x="12318" y="5209"/>
                  <a:pt x="12402" y="5184"/>
                </a:cubicBezTo>
                <a:cubicBezTo>
                  <a:pt x="12452" y="5159"/>
                  <a:pt x="12468" y="5151"/>
                  <a:pt x="12502" y="5135"/>
                </a:cubicBezTo>
              </a:path>
              <a:path w="4118" h="2035">
                <a:moveTo>
                  <a:pt x="12526" y="4713"/>
                </a:moveTo>
                <a:cubicBezTo>
                  <a:pt x="12508" y="4844"/>
                  <a:pt x="12489" y="4982"/>
                  <a:pt x="12477" y="5110"/>
                </a:cubicBezTo>
                <a:cubicBezTo>
                  <a:pt x="12467" y="5221"/>
                  <a:pt x="12446" y="5440"/>
                  <a:pt x="12502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Ink 6"/>
          <p:cNvSpPr/>
          <p:nvPr/>
        </p:nvSpPr>
        <p:spPr>
          <a:xfrm>
            <a:off x="4867200" y="1455840"/>
            <a:ext cx="428760" cy="527040"/>
          </a:xfrm>
          <a:custGeom>
            <a:avLst/>
            <a:gdLst/>
            <a:ahLst/>
            <a:rect l="l" t="t" r="r" b="b"/>
            <a:pathLst>
              <a:path w="1191" h="1465">
                <a:moveTo>
                  <a:pt x="13841" y="4043"/>
                </a:moveTo>
                <a:cubicBezTo>
                  <a:pt x="13778" y="4169"/>
                  <a:pt x="13686" y="4305"/>
                  <a:pt x="13643" y="4440"/>
                </a:cubicBezTo>
                <a:cubicBezTo>
                  <a:pt x="13600" y="4577"/>
                  <a:pt x="13570" y="4700"/>
                  <a:pt x="13543" y="4837"/>
                </a:cubicBezTo>
                <a:cubicBezTo>
                  <a:pt x="13525" y="4929"/>
                  <a:pt x="13498" y="5039"/>
                  <a:pt x="13519" y="5135"/>
                </a:cubicBezTo>
                <a:cubicBezTo>
                  <a:pt x="13537" y="5217"/>
                  <a:pt x="13537" y="5247"/>
                  <a:pt x="13618" y="5259"/>
                </a:cubicBezTo>
              </a:path>
              <a:path w="1191" h="1465">
                <a:moveTo>
                  <a:pt x="14263" y="4217"/>
                </a:moveTo>
                <a:cubicBezTo>
                  <a:pt x="14211" y="4350"/>
                  <a:pt x="14178" y="4477"/>
                  <a:pt x="14139" y="4614"/>
                </a:cubicBezTo>
                <a:cubicBezTo>
                  <a:pt x="14113" y="4706"/>
                  <a:pt x="14057" y="4842"/>
                  <a:pt x="14064" y="4936"/>
                </a:cubicBezTo>
                <a:cubicBezTo>
                  <a:pt x="14069" y="5003"/>
                  <a:pt x="14094" y="5085"/>
                  <a:pt x="14139" y="5135"/>
                </a:cubicBezTo>
                <a:cubicBezTo>
                  <a:pt x="14206" y="5209"/>
                  <a:pt x="14281" y="5144"/>
                  <a:pt x="14337" y="5110"/>
                </a:cubicBezTo>
                <a:cubicBezTo>
                  <a:pt x="14426" y="5056"/>
                  <a:pt x="14468" y="4983"/>
                  <a:pt x="14511" y="4887"/>
                </a:cubicBezTo>
                <a:cubicBezTo>
                  <a:pt x="14562" y="4773"/>
                  <a:pt x="14560" y="4660"/>
                  <a:pt x="14560" y="4539"/>
                </a:cubicBezTo>
                <a:cubicBezTo>
                  <a:pt x="14560" y="4467"/>
                  <a:pt x="14545" y="4346"/>
                  <a:pt x="14486" y="4291"/>
                </a:cubicBezTo>
                <a:cubicBezTo>
                  <a:pt x="14423" y="4233"/>
                  <a:pt x="14349" y="4192"/>
                  <a:pt x="14263" y="4192"/>
                </a:cubicBezTo>
              </a:path>
              <a:path w="1191" h="1465">
                <a:moveTo>
                  <a:pt x="14684" y="5135"/>
                </a:moveTo>
                <a:cubicBezTo>
                  <a:pt x="14679" y="5171"/>
                  <a:pt x="14629" y="5401"/>
                  <a:pt x="14635" y="5457"/>
                </a:cubicBezTo>
                <a:cubicBezTo>
                  <a:pt x="14646" y="5553"/>
                  <a:pt x="14682" y="5484"/>
                  <a:pt x="14709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k 7"/>
          <p:cNvSpPr/>
          <p:nvPr/>
        </p:nvSpPr>
        <p:spPr>
          <a:xfrm>
            <a:off x="5429160" y="1285920"/>
            <a:ext cx="571680" cy="554040"/>
          </a:xfrm>
          <a:custGeom>
            <a:avLst/>
            <a:gdLst/>
            <a:ahLst/>
            <a:rect l="l" t="t" r="r" b="b"/>
            <a:pathLst>
              <a:path w="1589" h="1539">
                <a:moveTo>
                  <a:pt x="15081" y="4514"/>
                </a:moveTo>
                <a:cubicBezTo>
                  <a:pt x="15221" y="4495"/>
                  <a:pt x="15246" y="4487"/>
                  <a:pt x="15329" y="4490"/>
                </a:cubicBezTo>
              </a:path>
              <a:path w="1589" h="1539">
                <a:moveTo>
                  <a:pt x="15503" y="4018"/>
                </a:moveTo>
                <a:cubicBezTo>
                  <a:pt x="15591" y="3997"/>
                  <a:pt x="15617" y="3991"/>
                  <a:pt x="15701" y="4018"/>
                </a:cubicBezTo>
                <a:cubicBezTo>
                  <a:pt x="15719" y="4101"/>
                  <a:pt x="15706" y="4145"/>
                  <a:pt x="15652" y="4217"/>
                </a:cubicBezTo>
                <a:cubicBezTo>
                  <a:pt x="15619" y="4261"/>
                  <a:pt x="15574" y="4289"/>
                  <a:pt x="15528" y="4316"/>
                </a:cubicBezTo>
                <a:cubicBezTo>
                  <a:pt x="15595" y="4262"/>
                  <a:pt x="15622" y="4256"/>
                  <a:pt x="15701" y="4291"/>
                </a:cubicBezTo>
                <a:cubicBezTo>
                  <a:pt x="15774" y="4323"/>
                  <a:pt x="15805" y="4365"/>
                  <a:pt x="15751" y="4440"/>
                </a:cubicBezTo>
                <a:cubicBezTo>
                  <a:pt x="15698" y="4513"/>
                  <a:pt x="15612" y="4535"/>
                  <a:pt x="15528" y="4539"/>
                </a:cubicBezTo>
                <a:cubicBezTo>
                  <a:pt x="15446" y="4543"/>
                  <a:pt x="15447" y="4529"/>
                  <a:pt x="15429" y="4465"/>
                </a:cubicBezTo>
              </a:path>
              <a:path w="1589" h="1539">
                <a:moveTo>
                  <a:pt x="15999" y="3894"/>
                </a:moveTo>
                <a:cubicBezTo>
                  <a:pt x="16012" y="4130"/>
                  <a:pt x="16012" y="4270"/>
                  <a:pt x="15949" y="4490"/>
                </a:cubicBezTo>
                <a:cubicBezTo>
                  <a:pt x="15916" y="4604"/>
                  <a:pt x="15873" y="4689"/>
                  <a:pt x="15825" y="4787"/>
                </a:cubicBezTo>
                <a:cubicBezTo>
                  <a:pt x="15805" y="4828"/>
                  <a:pt x="15734" y="4956"/>
                  <a:pt x="15776" y="4986"/>
                </a:cubicBezTo>
                <a:cubicBezTo>
                  <a:pt x="15784" y="4986"/>
                  <a:pt x="15793" y="4986"/>
                  <a:pt x="15801" y="4986"/>
                </a:cubicBezTo>
              </a:path>
              <a:path w="1589" h="1539">
                <a:moveTo>
                  <a:pt x="16073" y="4589"/>
                </a:moveTo>
                <a:cubicBezTo>
                  <a:pt x="16049" y="4614"/>
                  <a:pt x="16024" y="4638"/>
                  <a:pt x="15999" y="4663"/>
                </a:cubicBezTo>
                <a:cubicBezTo>
                  <a:pt x="16088" y="4663"/>
                  <a:pt x="16162" y="4650"/>
                  <a:pt x="16247" y="4638"/>
                </a:cubicBezTo>
                <a:cubicBezTo>
                  <a:pt x="16303" y="4638"/>
                  <a:pt x="16325" y="4633"/>
                  <a:pt x="16346" y="4589"/>
                </a:cubicBezTo>
              </a:path>
              <a:path w="1589" h="1539">
                <a:moveTo>
                  <a:pt x="16247" y="4415"/>
                </a:moveTo>
                <a:cubicBezTo>
                  <a:pt x="16220" y="4544"/>
                  <a:pt x="16197" y="4655"/>
                  <a:pt x="16197" y="4787"/>
                </a:cubicBezTo>
                <a:cubicBezTo>
                  <a:pt x="16197" y="4840"/>
                  <a:pt x="16202" y="4961"/>
                  <a:pt x="16222" y="5011"/>
                </a:cubicBezTo>
                <a:cubicBezTo>
                  <a:pt x="16230" y="5019"/>
                  <a:pt x="16239" y="5027"/>
                  <a:pt x="16247" y="5035"/>
                </a:cubicBezTo>
              </a:path>
              <a:path w="1589" h="1539">
                <a:moveTo>
                  <a:pt x="16346" y="3572"/>
                </a:moveTo>
                <a:cubicBezTo>
                  <a:pt x="16492" y="3743"/>
                  <a:pt x="16549" y="3883"/>
                  <a:pt x="16619" y="4093"/>
                </a:cubicBezTo>
                <a:cubicBezTo>
                  <a:pt x="16667" y="4236"/>
                  <a:pt x="16706" y="4436"/>
                  <a:pt x="16669" y="4589"/>
                </a:cubicBezTo>
                <a:cubicBezTo>
                  <a:pt x="16622" y="4783"/>
                  <a:pt x="16507" y="4950"/>
                  <a:pt x="16396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Ink 8"/>
          <p:cNvSpPr/>
          <p:nvPr/>
        </p:nvSpPr>
        <p:spPr>
          <a:xfrm>
            <a:off x="3348000" y="2160720"/>
            <a:ext cx="2536920" cy="1001520"/>
          </a:xfrm>
          <a:custGeom>
            <a:avLst/>
            <a:gdLst/>
            <a:ahLst/>
            <a:rect l="l" t="t" r="r" b="b"/>
            <a:pathLst>
              <a:path w="7045" h="2779">
                <a:moveTo>
                  <a:pt x="9302" y="6375"/>
                </a:moveTo>
                <a:cubicBezTo>
                  <a:pt x="9339" y="6467"/>
                  <a:pt x="9391" y="6518"/>
                  <a:pt x="9451" y="6598"/>
                </a:cubicBezTo>
                <a:cubicBezTo>
                  <a:pt x="9529" y="6702"/>
                  <a:pt x="9609" y="6802"/>
                  <a:pt x="9699" y="6896"/>
                </a:cubicBezTo>
                <a:cubicBezTo>
                  <a:pt x="9776" y="6977"/>
                  <a:pt x="9832" y="7030"/>
                  <a:pt x="9922" y="7094"/>
                </a:cubicBezTo>
                <a:cubicBezTo>
                  <a:pt x="9985" y="7139"/>
                  <a:pt x="9936" y="7144"/>
                  <a:pt x="10021" y="7119"/>
                </a:cubicBezTo>
              </a:path>
              <a:path w="7045" h="2779">
                <a:moveTo>
                  <a:pt x="9748" y="6276"/>
                </a:moveTo>
                <a:cubicBezTo>
                  <a:pt x="9684" y="6410"/>
                  <a:pt x="9632" y="6539"/>
                  <a:pt x="9575" y="6672"/>
                </a:cubicBezTo>
                <a:cubicBezTo>
                  <a:pt x="9529" y="6780"/>
                  <a:pt x="9488" y="6883"/>
                  <a:pt x="9451" y="6995"/>
                </a:cubicBezTo>
                <a:cubicBezTo>
                  <a:pt x="9427" y="7066"/>
                  <a:pt x="9411" y="7126"/>
                  <a:pt x="9401" y="7193"/>
                </a:cubicBezTo>
              </a:path>
              <a:path w="7045" h="2779">
                <a:moveTo>
                  <a:pt x="9947" y="6003"/>
                </a:moveTo>
                <a:cubicBezTo>
                  <a:pt x="9994" y="6007"/>
                  <a:pt x="10117" y="6020"/>
                  <a:pt x="10145" y="6077"/>
                </a:cubicBezTo>
                <a:cubicBezTo>
                  <a:pt x="10178" y="6144"/>
                  <a:pt x="10134" y="6231"/>
                  <a:pt x="10096" y="6276"/>
                </a:cubicBezTo>
                <a:cubicBezTo>
                  <a:pt x="10061" y="6318"/>
                  <a:pt x="10036" y="6360"/>
                  <a:pt x="9996" y="6400"/>
                </a:cubicBezTo>
                <a:cubicBezTo>
                  <a:pt x="10056" y="6435"/>
                  <a:pt x="10121" y="6424"/>
                  <a:pt x="10195" y="6424"/>
                </a:cubicBezTo>
                <a:cubicBezTo>
                  <a:pt x="10261" y="6424"/>
                  <a:pt x="10278" y="6424"/>
                  <a:pt x="10319" y="6424"/>
                </a:cubicBezTo>
              </a:path>
              <a:path w="7045" h="2779">
                <a:moveTo>
                  <a:pt x="10071" y="6747"/>
                </a:moveTo>
                <a:cubicBezTo>
                  <a:pt x="10203" y="6747"/>
                  <a:pt x="10317" y="6754"/>
                  <a:pt x="10443" y="6722"/>
                </a:cubicBezTo>
              </a:path>
              <a:path w="7045" h="2779">
                <a:moveTo>
                  <a:pt x="11336" y="6251"/>
                </a:moveTo>
                <a:cubicBezTo>
                  <a:pt x="11177" y="6233"/>
                  <a:pt x="11133" y="6241"/>
                  <a:pt x="11013" y="6350"/>
                </a:cubicBezTo>
                <a:cubicBezTo>
                  <a:pt x="10954" y="6403"/>
                  <a:pt x="10851" y="6509"/>
                  <a:pt x="10939" y="6598"/>
                </a:cubicBezTo>
                <a:cubicBezTo>
                  <a:pt x="10989" y="6649"/>
                  <a:pt x="11106" y="6642"/>
                  <a:pt x="11162" y="6623"/>
                </a:cubicBezTo>
                <a:cubicBezTo>
                  <a:pt x="11228" y="6601"/>
                  <a:pt x="11319" y="6555"/>
                  <a:pt x="11361" y="6499"/>
                </a:cubicBezTo>
                <a:cubicBezTo>
                  <a:pt x="11404" y="6442"/>
                  <a:pt x="11427" y="6367"/>
                  <a:pt x="11435" y="6300"/>
                </a:cubicBezTo>
                <a:cubicBezTo>
                  <a:pt x="11387" y="6407"/>
                  <a:pt x="11385" y="6481"/>
                  <a:pt x="11385" y="6598"/>
                </a:cubicBezTo>
                <a:cubicBezTo>
                  <a:pt x="11385" y="6703"/>
                  <a:pt x="11399" y="6795"/>
                  <a:pt x="11410" y="6896"/>
                </a:cubicBezTo>
                <a:cubicBezTo>
                  <a:pt x="11419" y="6975"/>
                  <a:pt x="11435" y="7038"/>
                  <a:pt x="11435" y="7119"/>
                </a:cubicBezTo>
                <a:cubicBezTo>
                  <a:pt x="11435" y="7127"/>
                  <a:pt x="11435" y="7136"/>
                  <a:pt x="11435" y="7144"/>
                </a:cubicBezTo>
              </a:path>
              <a:path w="7045" h="2779">
                <a:moveTo>
                  <a:pt x="11782" y="6573"/>
                </a:moveTo>
                <a:cubicBezTo>
                  <a:pt x="11899" y="6560"/>
                  <a:pt x="11992" y="6548"/>
                  <a:pt x="12105" y="6548"/>
                </a:cubicBezTo>
              </a:path>
              <a:path w="7045" h="2779">
                <a:moveTo>
                  <a:pt x="11832" y="6772"/>
                </a:moveTo>
                <a:cubicBezTo>
                  <a:pt x="11962" y="6815"/>
                  <a:pt x="12018" y="6805"/>
                  <a:pt x="12154" y="6772"/>
                </a:cubicBezTo>
              </a:path>
              <a:path w="7045" h="2779">
                <a:moveTo>
                  <a:pt x="12502" y="6300"/>
                </a:moveTo>
                <a:cubicBezTo>
                  <a:pt x="12455" y="6428"/>
                  <a:pt x="12365" y="6585"/>
                  <a:pt x="12378" y="6722"/>
                </a:cubicBezTo>
                <a:cubicBezTo>
                  <a:pt x="12389" y="6841"/>
                  <a:pt x="12530" y="6927"/>
                  <a:pt x="12626" y="6970"/>
                </a:cubicBezTo>
                <a:cubicBezTo>
                  <a:pt x="12735" y="7019"/>
                  <a:pt x="12811" y="7028"/>
                  <a:pt x="12923" y="6995"/>
                </a:cubicBezTo>
                <a:cubicBezTo>
                  <a:pt x="13063" y="6953"/>
                  <a:pt x="13104" y="6870"/>
                  <a:pt x="13171" y="6747"/>
                </a:cubicBezTo>
                <a:cubicBezTo>
                  <a:pt x="13213" y="6670"/>
                  <a:pt x="13293" y="6517"/>
                  <a:pt x="13246" y="6424"/>
                </a:cubicBezTo>
                <a:cubicBezTo>
                  <a:pt x="13167" y="6267"/>
                  <a:pt x="12868" y="6302"/>
                  <a:pt x="12750" y="6300"/>
                </a:cubicBezTo>
                <a:cubicBezTo>
                  <a:pt x="12700" y="6300"/>
                  <a:pt x="12651" y="6300"/>
                  <a:pt x="12601" y="6300"/>
                </a:cubicBezTo>
              </a:path>
              <a:path w="7045" h="2779">
                <a:moveTo>
                  <a:pt x="13022" y="7268"/>
                </a:moveTo>
                <a:cubicBezTo>
                  <a:pt x="13110" y="7379"/>
                  <a:pt x="13206" y="7481"/>
                  <a:pt x="13295" y="7590"/>
                </a:cubicBezTo>
                <a:cubicBezTo>
                  <a:pt x="13379" y="7692"/>
                  <a:pt x="13485" y="7755"/>
                  <a:pt x="13568" y="7838"/>
                </a:cubicBezTo>
                <a:cubicBezTo>
                  <a:pt x="13632" y="7902"/>
                  <a:pt x="13598" y="7933"/>
                  <a:pt x="13667" y="7863"/>
                </a:cubicBezTo>
              </a:path>
              <a:path w="7045" h="2779">
                <a:moveTo>
                  <a:pt x="13494" y="7193"/>
                </a:moveTo>
                <a:cubicBezTo>
                  <a:pt x="13436" y="7317"/>
                  <a:pt x="13389" y="7446"/>
                  <a:pt x="13320" y="7565"/>
                </a:cubicBezTo>
                <a:cubicBezTo>
                  <a:pt x="13279" y="7636"/>
                  <a:pt x="13214" y="7731"/>
                  <a:pt x="13196" y="7813"/>
                </a:cubicBezTo>
                <a:cubicBezTo>
                  <a:pt x="13196" y="7830"/>
                  <a:pt x="13196" y="7846"/>
                  <a:pt x="13196" y="7863"/>
                </a:cubicBezTo>
              </a:path>
              <a:path w="7045" h="2779">
                <a:moveTo>
                  <a:pt x="13717" y="6945"/>
                </a:moveTo>
                <a:cubicBezTo>
                  <a:pt x="13843" y="6959"/>
                  <a:pt x="13932" y="6945"/>
                  <a:pt x="13940" y="7094"/>
                </a:cubicBezTo>
                <a:cubicBezTo>
                  <a:pt x="13944" y="7161"/>
                  <a:pt x="13909" y="7219"/>
                  <a:pt x="13866" y="7268"/>
                </a:cubicBezTo>
                <a:cubicBezTo>
                  <a:pt x="13799" y="7343"/>
                  <a:pt x="13860" y="7347"/>
                  <a:pt x="13915" y="7367"/>
                </a:cubicBezTo>
                <a:cubicBezTo>
                  <a:pt x="13978" y="7389"/>
                  <a:pt x="14021" y="7392"/>
                  <a:pt x="14089" y="7392"/>
                </a:cubicBezTo>
              </a:path>
              <a:path w="7045" h="2779">
                <a:moveTo>
                  <a:pt x="14139" y="7441"/>
                </a:moveTo>
                <a:cubicBezTo>
                  <a:pt x="14246" y="7441"/>
                  <a:pt x="14354" y="7441"/>
                  <a:pt x="14461" y="7441"/>
                </a:cubicBezTo>
              </a:path>
              <a:path w="7045" h="2779">
                <a:moveTo>
                  <a:pt x="14188" y="7665"/>
                </a:moveTo>
                <a:cubicBezTo>
                  <a:pt x="14334" y="7665"/>
                  <a:pt x="14465" y="7660"/>
                  <a:pt x="14610" y="7640"/>
                </a:cubicBezTo>
              </a:path>
              <a:path w="7045" h="2779">
                <a:moveTo>
                  <a:pt x="15131" y="7119"/>
                </a:moveTo>
                <a:cubicBezTo>
                  <a:pt x="15032" y="7152"/>
                  <a:pt x="14959" y="7171"/>
                  <a:pt x="14883" y="7243"/>
                </a:cubicBezTo>
                <a:cubicBezTo>
                  <a:pt x="14829" y="7295"/>
                  <a:pt x="14775" y="7351"/>
                  <a:pt x="14833" y="7417"/>
                </a:cubicBezTo>
                <a:cubicBezTo>
                  <a:pt x="14905" y="7499"/>
                  <a:pt x="14990" y="7475"/>
                  <a:pt x="15081" y="7466"/>
                </a:cubicBezTo>
                <a:cubicBezTo>
                  <a:pt x="15177" y="7457"/>
                  <a:pt x="15212" y="7410"/>
                  <a:pt x="15280" y="7342"/>
                </a:cubicBezTo>
                <a:cubicBezTo>
                  <a:pt x="15337" y="7285"/>
                  <a:pt x="15345" y="7269"/>
                  <a:pt x="15354" y="7193"/>
                </a:cubicBezTo>
                <a:cubicBezTo>
                  <a:pt x="15354" y="7329"/>
                  <a:pt x="15342" y="7460"/>
                  <a:pt x="15379" y="7590"/>
                </a:cubicBezTo>
                <a:cubicBezTo>
                  <a:pt x="15399" y="7660"/>
                  <a:pt x="15421" y="7717"/>
                  <a:pt x="15429" y="7789"/>
                </a:cubicBezTo>
              </a:path>
              <a:path w="7045" h="2779">
                <a:moveTo>
                  <a:pt x="13965" y="8235"/>
                </a:moveTo>
                <a:cubicBezTo>
                  <a:pt x="14057" y="8344"/>
                  <a:pt x="14155" y="8412"/>
                  <a:pt x="14263" y="8508"/>
                </a:cubicBezTo>
                <a:cubicBezTo>
                  <a:pt x="14391" y="8623"/>
                  <a:pt x="14474" y="8679"/>
                  <a:pt x="14635" y="8706"/>
                </a:cubicBezTo>
              </a:path>
              <a:path w="7045" h="2779">
                <a:moveTo>
                  <a:pt x="14238" y="8260"/>
                </a:moveTo>
                <a:cubicBezTo>
                  <a:pt x="14128" y="8396"/>
                  <a:pt x="14081" y="8519"/>
                  <a:pt x="13990" y="8657"/>
                </a:cubicBezTo>
                <a:cubicBezTo>
                  <a:pt x="13948" y="8720"/>
                  <a:pt x="13912" y="8728"/>
                  <a:pt x="13965" y="8781"/>
                </a:cubicBezTo>
              </a:path>
              <a:path w="7045" h="2779">
                <a:moveTo>
                  <a:pt x="14536" y="8334"/>
                </a:moveTo>
                <a:cubicBezTo>
                  <a:pt x="14643" y="8334"/>
                  <a:pt x="14751" y="8334"/>
                  <a:pt x="14858" y="8334"/>
                </a:cubicBezTo>
              </a:path>
              <a:path w="7045" h="2779">
                <a:moveTo>
                  <a:pt x="14635" y="8483"/>
                </a:moveTo>
                <a:cubicBezTo>
                  <a:pt x="14759" y="8483"/>
                  <a:pt x="14883" y="8483"/>
                  <a:pt x="15007" y="8483"/>
                </a:cubicBezTo>
              </a:path>
              <a:path w="7045" h="2779">
                <a:moveTo>
                  <a:pt x="15379" y="7987"/>
                </a:moveTo>
                <a:cubicBezTo>
                  <a:pt x="15361" y="8147"/>
                  <a:pt x="15351" y="8200"/>
                  <a:pt x="15379" y="8334"/>
                </a:cubicBezTo>
              </a:path>
              <a:path w="7045" h="2779">
                <a:moveTo>
                  <a:pt x="15106" y="8186"/>
                </a:moveTo>
                <a:cubicBezTo>
                  <a:pt x="15218" y="8204"/>
                  <a:pt x="15319" y="8226"/>
                  <a:pt x="15429" y="8235"/>
                </a:cubicBezTo>
              </a:path>
              <a:path w="7045" h="2779">
                <a:moveTo>
                  <a:pt x="15304" y="8558"/>
                </a:moveTo>
                <a:cubicBezTo>
                  <a:pt x="15420" y="8558"/>
                  <a:pt x="15536" y="8558"/>
                  <a:pt x="15652" y="8558"/>
                </a:cubicBezTo>
              </a:path>
              <a:path w="7045" h="2779">
                <a:moveTo>
                  <a:pt x="15776" y="8086"/>
                </a:moveTo>
                <a:cubicBezTo>
                  <a:pt x="15916" y="8092"/>
                  <a:pt x="16019" y="8115"/>
                  <a:pt x="16148" y="8136"/>
                </a:cubicBezTo>
                <a:cubicBezTo>
                  <a:pt x="16192" y="8136"/>
                  <a:pt x="16206" y="8133"/>
                  <a:pt x="16222" y="8161"/>
                </a:cubicBezTo>
                <a:cubicBezTo>
                  <a:pt x="16211" y="8233"/>
                  <a:pt x="16191" y="8271"/>
                  <a:pt x="16123" y="8310"/>
                </a:cubicBezTo>
                <a:cubicBezTo>
                  <a:pt x="16075" y="8338"/>
                  <a:pt x="16026" y="8340"/>
                  <a:pt x="15974" y="8359"/>
                </a:cubicBezTo>
                <a:cubicBezTo>
                  <a:pt x="16069" y="8431"/>
                  <a:pt x="16108" y="8383"/>
                  <a:pt x="16222" y="8409"/>
                </a:cubicBezTo>
                <a:cubicBezTo>
                  <a:pt x="16304" y="8428"/>
                  <a:pt x="16341" y="8507"/>
                  <a:pt x="16346" y="8582"/>
                </a:cubicBezTo>
                <a:cubicBezTo>
                  <a:pt x="16352" y="8673"/>
                  <a:pt x="16333" y="8738"/>
                  <a:pt x="16247" y="8781"/>
                </a:cubicBezTo>
                <a:cubicBezTo>
                  <a:pt x="16159" y="8825"/>
                  <a:pt x="15949" y="8781"/>
                  <a:pt x="15850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Ink 9"/>
          <p:cNvSpPr/>
          <p:nvPr/>
        </p:nvSpPr>
        <p:spPr>
          <a:xfrm>
            <a:off x="6626160" y="2517840"/>
            <a:ext cx="2000160" cy="474480"/>
          </a:xfrm>
          <a:custGeom>
            <a:avLst/>
            <a:gdLst/>
            <a:ahLst/>
            <a:rect l="l" t="t" r="r" b="b"/>
            <a:pathLst>
              <a:path w="5557" h="1316">
                <a:moveTo>
                  <a:pt x="18405" y="7466"/>
                </a:moveTo>
                <a:cubicBezTo>
                  <a:pt x="18484" y="7604"/>
                  <a:pt x="18558" y="7736"/>
                  <a:pt x="18653" y="7863"/>
                </a:cubicBezTo>
                <a:cubicBezTo>
                  <a:pt x="18742" y="7982"/>
                  <a:pt x="18846" y="8081"/>
                  <a:pt x="18951" y="8186"/>
                </a:cubicBezTo>
                <a:cubicBezTo>
                  <a:pt x="18997" y="8232"/>
                  <a:pt x="19040" y="8295"/>
                  <a:pt x="19100" y="8310"/>
                </a:cubicBezTo>
              </a:path>
              <a:path w="5557" h="1316">
                <a:moveTo>
                  <a:pt x="19025" y="7392"/>
                </a:moveTo>
                <a:cubicBezTo>
                  <a:pt x="18924" y="7534"/>
                  <a:pt x="18794" y="7663"/>
                  <a:pt x="18703" y="7813"/>
                </a:cubicBezTo>
                <a:cubicBezTo>
                  <a:pt x="18621" y="7947"/>
                  <a:pt x="18545" y="8096"/>
                  <a:pt x="18479" y="8235"/>
                </a:cubicBezTo>
                <a:cubicBezTo>
                  <a:pt x="18472" y="8250"/>
                  <a:pt x="18392" y="8348"/>
                  <a:pt x="18455" y="8285"/>
                </a:cubicBezTo>
              </a:path>
              <a:path w="5557" h="1316">
                <a:moveTo>
                  <a:pt x="19000" y="7045"/>
                </a:moveTo>
                <a:cubicBezTo>
                  <a:pt x="19143" y="7011"/>
                  <a:pt x="19270" y="6960"/>
                  <a:pt x="19323" y="7144"/>
                </a:cubicBezTo>
                <a:cubicBezTo>
                  <a:pt x="19348" y="7230"/>
                  <a:pt x="19261" y="7343"/>
                  <a:pt x="19199" y="7392"/>
                </a:cubicBezTo>
                <a:cubicBezTo>
                  <a:pt x="19123" y="7452"/>
                  <a:pt x="19113" y="7423"/>
                  <a:pt x="19124" y="7516"/>
                </a:cubicBezTo>
                <a:cubicBezTo>
                  <a:pt x="19227" y="7567"/>
                  <a:pt x="19291" y="7534"/>
                  <a:pt x="19397" y="7491"/>
                </a:cubicBezTo>
              </a:path>
              <a:path w="5557" h="1316">
                <a:moveTo>
                  <a:pt x="19720" y="7441"/>
                </a:moveTo>
                <a:cubicBezTo>
                  <a:pt x="19701" y="7560"/>
                  <a:pt x="19641" y="7737"/>
                  <a:pt x="19670" y="7863"/>
                </a:cubicBezTo>
                <a:cubicBezTo>
                  <a:pt x="19683" y="7922"/>
                  <a:pt x="19729" y="7971"/>
                  <a:pt x="19769" y="8012"/>
                </a:cubicBezTo>
              </a:path>
              <a:path w="5557" h="1316">
                <a:moveTo>
                  <a:pt x="19472" y="7813"/>
                </a:moveTo>
                <a:cubicBezTo>
                  <a:pt x="19592" y="7813"/>
                  <a:pt x="19703" y="7812"/>
                  <a:pt x="19819" y="7789"/>
                </a:cubicBezTo>
              </a:path>
              <a:path w="5557" h="1316">
                <a:moveTo>
                  <a:pt x="20042" y="7367"/>
                </a:moveTo>
                <a:cubicBezTo>
                  <a:pt x="20152" y="7340"/>
                  <a:pt x="20251" y="7342"/>
                  <a:pt x="20365" y="7342"/>
                </a:cubicBezTo>
                <a:cubicBezTo>
                  <a:pt x="20464" y="7342"/>
                  <a:pt x="20548" y="7333"/>
                  <a:pt x="20638" y="7367"/>
                </a:cubicBezTo>
                <a:cubicBezTo>
                  <a:pt x="20605" y="7457"/>
                  <a:pt x="20549" y="7527"/>
                  <a:pt x="20513" y="7615"/>
                </a:cubicBezTo>
                <a:cubicBezTo>
                  <a:pt x="20473" y="7712"/>
                  <a:pt x="20439" y="7833"/>
                  <a:pt x="20464" y="7938"/>
                </a:cubicBezTo>
                <a:cubicBezTo>
                  <a:pt x="20476" y="7988"/>
                  <a:pt x="20495" y="8037"/>
                  <a:pt x="20513" y="8086"/>
                </a:cubicBezTo>
              </a:path>
              <a:path w="5557" h="1316">
                <a:moveTo>
                  <a:pt x="20662" y="7665"/>
                </a:moveTo>
                <a:cubicBezTo>
                  <a:pt x="20764" y="7784"/>
                  <a:pt x="20860" y="7920"/>
                  <a:pt x="20985" y="8012"/>
                </a:cubicBezTo>
                <a:cubicBezTo>
                  <a:pt x="21078" y="8080"/>
                  <a:pt x="21118" y="8084"/>
                  <a:pt x="21233" y="8111"/>
                </a:cubicBezTo>
              </a:path>
              <a:path w="5557" h="1316">
                <a:moveTo>
                  <a:pt x="21134" y="7565"/>
                </a:moveTo>
                <a:cubicBezTo>
                  <a:pt x="20954" y="7745"/>
                  <a:pt x="20832" y="7874"/>
                  <a:pt x="20687" y="8062"/>
                </a:cubicBezTo>
                <a:cubicBezTo>
                  <a:pt x="20654" y="8104"/>
                  <a:pt x="20668" y="8100"/>
                  <a:pt x="20712" y="8111"/>
                </a:cubicBezTo>
              </a:path>
              <a:path w="5557" h="1316">
                <a:moveTo>
                  <a:pt x="21332" y="7590"/>
                </a:moveTo>
                <a:cubicBezTo>
                  <a:pt x="21342" y="7677"/>
                  <a:pt x="21330" y="7866"/>
                  <a:pt x="21357" y="7962"/>
                </a:cubicBezTo>
                <a:cubicBezTo>
                  <a:pt x="21381" y="8010"/>
                  <a:pt x="21389" y="8025"/>
                  <a:pt x="21382" y="8062"/>
                </a:cubicBezTo>
              </a:path>
              <a:path w="5557" h="1316">
                <a:moveTo>
                  <a:pt x="21034" y="7739"/>
                </a:moveTo>
                <a:cubicBezTo>
                  <a:pt x="21208" y="7739"/>
                  <a:pt x="21381" y="7739"/>
                  <a:pt x="21555" y="7739"/>
                </a:cubicBezTo>
              </a:path>
              <a:path w="5557" h="1316">
                <a:moveTo>
                  <a:pt x="21828" y="7342"/>
                </a:moveTo>
                <a:cubicBezTo>
                  <a:pt x="21828" y="7493"/>
                  <a:pt x="21826" y="7642"/>
                  <a:pt x="21853" y="7789"/>
                </a:cubicBezTo>
                <a:cubicBezTo>
                  <a:pt x="21872" y="7892"/>
                  <a:pt x="21907" y="7987"/>
                  <a:pt x="21927" y="8086"/>
                </a:cubicBezTo>
                <a:cubicBezTo>
                  <a:pt x="21927" y="8128"/>
                  <a:pt x="21919" y="8144"/>
                  <a:pt x="21952" y="8136"/>
                </a:cubicBezTo>
              </a:path>
              <a:path w="5557" h="1316">
                <a:moveTo>
                  <a:pt x="22027" y="7466"/>
                </a:moveTo>
                <a:cubicBezTo>
                  <a:pt x="22123" y="7379"/>
                  <a:pt x="22148" y="7343"/>
                  <a:pt x="22275" y="7392"/>
                </a:cubicBezTo>
                <a:cubicBezTo>
                  <a:pt x="22366" y="7427"/>
                  <a:pt x="22387" y="7551"/>
                  <a:pt x="22374" y="7640"/>
                </a:cubicBezTo>
                <a:cubicBezTo>
                  <a:pt x="22361" y="7731"/>
                  <a:pt x="22284" y="7848"/>
                  <a:pt x="22225" y="7913"/>
                </a:cubicBezTo>
                <a:cubicBezTo>
                  <a:pt x="22187" y="7955"/>
                  <a:pt x="22129" y="8055"/>
                  <a:pt x="22200" y="8111"/>
                </a:cubicBezTo>
                <a:cubicBezTo>
                  <a:pt x="22293" y="8184"/>
                  <a:pt x="22392" y="8182"/>
                  <a:pt x="22473" y="8111"/>
                </a:cubicBezTo>
                <a:cubicBezTo>
                  <a:pt x="22498" y="8086"/>
                  <a:pt x="22522" y="8062"/>
                  <a:pt x="22547" y="8037"/>
                </a:cubicBezTo>
              </a:path>
              <a:path w="5557" h="1316">
                <a:moveTo>
                  <a:pt x="22746" y="7665"/>
                </a:moveTo>
                <a:cubicBezTo>
                  <a:pt x="22863" y="7684"/>
                  <a:pt x="22949" y="7689"/>
                  <a:pt x="23068" y="7689"/>
                </a:cubicBezTo>
              </a:path>
              <a:path w="5557" h="1316">
                <a:moveTo>
                  <a:pt x="22796" y="7913"/>
                </a:moveTo>
                <a:cubicBezTo>
                  <a:pt x="22928" y="7940"/>
                  <a:pt x="23011" y="7940"/>
                  <a:pt x="23143" y="7913"/>
                </a:cubicBezTo>
              </a:path>
              <a:path w="5557" h="1316">
                <a:moveTo>
                  <a:pt x="23316" y="7516"/>
                </a:moveTo>
                <a:cubicBezTo>
                  <a:pt x="23282" y="7605"/>
                  <a:pt x="23188" y="7766"/>
                  <a:pt x="23267" y="7863"/>
                </a:cubicBezTo>
                <a:cubicBezTo>
                  <a:pt x="23341" y="7954"/>
                  <a:pt x="23573" y="8029"/>
                  <a:pt x="23688" y="7987"/>
                </a:cubicBezTo>
                <a:cubicBezTo>
                  <a:pt x="23802" y="7945"/>
                  <a:pt x="23878" y="7839"/>
                  <a:pt x="23937" y="7739"/>
                </a:cubicBezTo>
                <a:cubicBezTo>
                  <a:pt x="23993" y="7643"/>
                  <a:pt x="23889" y="7543"/>
                  <a:pt x="23812" y="7491"/>
                </a:cubicBezTo>
                <a:cubicBezTo>
                  <a:pt x="23661" y="7389"/>
                  <a:pt x="23464" y="7417"/>
                  <a:pt x="23292" y="74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Ink 10"/>
          <p:cNvSpPr/>
          <p:nvPr/>
        </p:nvSpPr>
        <p:spPr>
          <a:xfrm>
            <a:off x="6446880" y="3054240"/>
            <a:ext cx="1420920" cy="509760"/>
          </a:xfrm>
          <a:custGeom>
            <a:avLst/>
            <a:gdLst/>
            <a:ahLst/>
            <a:rect l="l" t="t" r="r" b="b"/>
            <a:pathLst>
              <a:path w="3945" h="1415">
                <a:moveTo>
                  <a:pt x="18306" y="8483"/>
                </a:moveTo>
                <a:cubicBezTo>
                  <a:pt x="18202" y="8636"/>
                  <a:pt x="18089" y="8791"/>
                  <a:pt x="18008" y="8954"/>
                </a:cubicBezTo>
                <a:cubicBezTo>
                  <a:pt x="17936" y="9099"/>
                  <a:pt x="17894" y="9313"/>
                  <a:pt x="17909" y="9475"/>
                </a:cubicBezTo>
                <a:cubicBezTo>
                  <a:pt x="17925" y="9644"/>
                  <a:pt x="18046" y="9719"/>
                  <a:pt x="18207" y="9748"/>
                </a:cubicBezTo>
                <a:cubicBezTo>
                  <a:pt x="18240" y="9748"/>
                  <a:pt x="18273" y="9748"/>
                  <a:pt x="18306" y="9748"/>
                </a:cubicBezTo>
              </a:path>
              <a:path w="3945" h="1415">
                <a:moveTo>
                  <a:pt x="19993" y="8558"/>
                </a:moveTo>
                <a:cubicBezTo>
                  <a:pt x="20141" y="8697"/>
                  <a:pt x="20281" y="8876"/>
                  <a:pt x="20340" y="9079"/>
                </a:cubicBezTo>
                <a:cubicBezTo>
                  <a:pt x="20384" y="9229"/>
                  <a:pt x="20393" y="9449"/>
                  <a:pt x="20365" y="9599"/>
                </a:cubicBezTo>
                <a:cubicBezTo>
                  <a:pt x="20348" y="9688"/>
                  <a:pt x="20284" y="9846"/>
                  <a:pt x="20166" y="9847"/>
                </a:cubicBezTo>
                <a:cubicBezTo>
                  <a:pt x="20126" y="9827"/>
                  <a:pt x="20119" y="9819"/>
                  <a:pt x="20092" y="9823"/>
                </a:cubicBezTo>
              </a:path>
              <a:path w="3945" h="1415">
                <a:moveTo>
                  <a:pt x="20513" y="8930"/>
                </a:moveTo>
                <a:cubicBezTo>
                  <a:pt x="20383" y="9109"/>
                  <a:pt x="20189" y="9301"/>
                  <a:pt x="20241" y="9550"/>
                </a:cubicBezTo>
                <a:cubicBezTo>
                  <a:pt x="20284" y="9758"/>
                  <a:pt x="20470" y="9795"/>
                  <a:pt x="20638" y="9847"/>
                </a:cubicBezTo>
                <a:cubicBezTo>
                  <a:pt x="20792" y="9899"/>
                  <a:pt x="20847" y="9916"/>
                  <a:pt x="20960" y="9897"/>
                </a:cubicBezTo>
              </a:path>
              <a:path w="3945" h="1415">
                <a:moveTo>
                  <a:pt x="18355" y="8954"/>
                </a:moveTo>
                <a:cubicBezTo>
                  <a:pt x="18365" y="9042"/>
                  <a:pt x="18388" y="9146"/>
                  <a:pt x="18430" y="9227"/>
                </a:cubicBezTo>
                <a:cubicBezTo>
                  <a:pt x="18491" y="9345"/>
                  <a:pt x="18563" y="9371"/>
                  <a:pt x="18653" y="9451"/>
                </a:cubicBezTo>
                <a:cubicBezTo>
                  <a:pt x="18670" y="9467"/>
                  <a:pt x="18686" y="9484"/>
                  <a:pt x="18703" y="9500"/>
                </a:cubicBezTo>
              </a:path>
              <a:path w="3945" h="1415">
                <a:moveTo>
                  <a:pt x="18628" y="8930"/>
                </a:moveTo>
                <a:cubicBezTo>
                  <a:pt x="18525" y="9109"/>
                  <a:pt x="18375" y="9294"/>
                  <a:pt x="18281" y="9475"/>
                </a:cubicBezTo>
                <a:cubicBezTo>
                  <a:pt x="18252" y="9531"/>
                  <a:pt x="18227" y="9606"/>
                  <a:pt x="18256" y="9550"/>
                </a:cubicBezTo>
              </a:path>
              <a:path w="3945" h="1415">
                <a:moveTo>
                  <a:pt x="18901" y="9029"/>
                </a:moveTo>
                <a:cubicBezTo>
                  <a:pt x="18919" y="9151"/>
                  <a:pt x="18955" y="9291"/>
                  <a:pt x="18976" y="9401"/>
                </a:cubicBezTo>
                <a:cubicBezTo>
                  <a:pt x="18976" y="9418"/>
                  <a:pt x="18976" y="9434"/>
                  <a:pt x="18976" y="9451"/>
                </a:cubicBezTo>
              </a:path>
              <a:path w="3945" h="1415">
                <a:moveTo>
                  <a:pt x="18827" y="9153"/>
                </a:moveTo>
                <a:cubicBezTo>
                  <a:pt x="18926" y="9153"/>
                  <a:pt x="19025" y="9153"/>
                  <a:pt x="19124" y="9153"/>
                </a:cubicBezTo>
              </a:path>
              <a:path w="3945" h="1415">
                <a:moveTo>
                  <a:pt x="19397" y="8880"/>
                </a:moveTo>
                <a:cubicBezTo>
                  <a:pt x="19468" y="8888"/>
                  <a:pt x="19637" y="8888"/>
                  <a:pt x="19621" y="9004"/>
                </a:cubicBezTo>
                <a:cubicBezTo>
                  <a:pt x="19605" y="9120"/>
                  <a:pt x="19536" y="9129"/>
                  <a:pt x="19447" y="9153"/>
                </a:cubicBezTo>
                <a:cubicBezTo>
                  <a:pt x="19422" y="9161"/>
                  <a:pt x="19397" y="9170"/>
                  <a:pt x="19372" y="9178"/>
                </a:cubicBezTo>
                <a:cubicBezTo>
                  <a:pt x="19476" y="9204"/>
                  <a:pt x="19528" y="9242"/>
                  <a:pt x="19621" y="9302"/>
                </a:cubicBezTo>
                <a:cubicBezTo>
                  <a:pt x="19668" y="9333"/>
                  <a:pt x="19704" y="9361"/>
                  <a:pt x="19745" y="9401"/>
                </a:cubicBezTo>
                <a:cubicBezTo>
                  <a:pt x="19676" y="9497"/>
                  <a:pt x="19592" y="9495"/>
                  <a:pt x="19472" y="9500"/>
                </a:cubicBezTo>
                <a:cubicBezTo>
                  <a:pt x="19388" y="9504"/>
                  <a:pt x="19395" y="9518"/>
                  <a:pt x="19372" y="9451"/>
                </a:cubicBezTo>
              </a:path>
              <a:path w="3945" h="1415">
                <a:moveTo>
                  <a:pt x="20563" y="9079"/>
                </a:moveTo>
                <a:cubicBezTo>
                  <a:pt x="20626" y="9194"/>
                  <a:pt x="20644" y="9354"/>
                  <a:pt x="20737" y="9451"/>
                </a:cubicBezTo>
                <a:cubicBezTo>
                  <a:pt x="20816" y="9534"/>
                  <a:pt x="20920" y="9638"/>
                  <a:pt x="21034" y="9674"/>
                </a:cubicBezTo>
                <a:cubicBezTo>
                  <a:pt x="21051" y="9674"/>
                  <a:pt x="21067" y="9674"/>
                  <a:pt x="21084" y="9674"/>
                </a:cubicBezTo>
              </a:path>
              <a:path w="3945" h="1415">
                <a:moveTo>
                  <a:pt x="20811" y="9103"/>
                </a:moveTo>
                <a:cubicBezTo>
                  <a:pt x="20770" y="9160"/>
                  <a:pt x="20527" y="9429"/>
                  <a:pt x="20513" y="9550"/>
                </a:cubicBezTo>
                <a:cubicBezTo>
                  <a:pt x="20513" y="9566"/>
                  <a:pt x="20513" y="9583"/>
                  <a:pt x="20513" y="9599"/>
                </a:cubicBezTo>
              </a:path>
              <a:path w="3945" h="1415">
                <a:moveTo>
                  <a:pt x="21183" y="9153"/>
                </a:moveTo>
                <a:cubicBezTo>
                  <a:pt x="21197" y="9324"/>
                  <a:pt x="21208" y="9406"/>
                  <a:pt x="21208" y="9550"/>
                </a:cubicBezTo>
              </a:path>
              <a:path w="3945" h="1415">
                <a:moveTo>
                  <a:pt x="20985" y="9178"/>
                </a:moveTo>
                <a:cubicBezTo>
                  <a:pt x="21169" y="9207"/>
                  <a:pt x="21168" y="9203"/>
                  <a:pt x="21332" y="9178"/>
                </a:cubicBezTo>
              </a:path>
              <a:path w="3945" h="1415">
                <a:moveTo>
                  <a:pt x="21605" y="9029"/>
                </a:moveTo>
                <a:cubicBezTo>
                  <a:pt x="21582" y="9122"/>
                  <a:pt x="21521" y="9231"/>
                  <a:pt x="21630" y="9302"/>
                </a:cubicBezTo>
                <a:cubicBezTo>
                  <a:pt x="21679" y="9302"/>
                  <a:pt x="21696" y="9302"/>
                  <a:pt x="21729" y="9302"/>
                </a:cubicBezTo>
              </a:path>
              <a:path w="3945" h="1415">
                <a:moveTo>
                  <a:pt x="21853" y="8781"/>
                </a:moveTo>
                <a:cubicBezTo>
                  <a:pt x="21809" y="9007"/>
                  <a:pt x="21760" y="9222"/>
                  <a:pt x="21754" y="9451"/>
                </a:cubicBezTo>
                <a:cubicBezTo>
                  <a:pt x="21754" y="9525"/>
                  <a:pt x="21754" y="9550"/>
                  <a:pt x="21754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Ink 11"/>
          <p:cNvSpPr/>
          <p:nvPr/>
        </p:nvSpPr>
        <p:spPr>
          <a:xfrm>
            <a:off x="8028000" y="3187800"/>
            <a:ext cx="750960" cy="322200"/>
          </a:xfrm>
          <a:custGeom>
            <a:avLst/>
            <a:gdLst/>
            <a:ahLst/>
            <a:rect l="l" t="t" r="r" b="b"/>
            <a:pathLst>
              <a:path w="2085" h="894">
                <a:moveTo>
                  <a:pt x="22523" y="8855"/>
                </a:moveTo>
                <a:cubicBezTo>
                  <a:pt x="22607" y="9126"/>
                  <a:pt x="22690" y="9250"/>
                  <a:pt x="22572" y="9500"/>
                </a:cubicBezTo>
                <a:cubicBezTo>
                  <a:pt x="22531" y="9587"/>
                  <a:pt x="22446" y="9711"/>
                  <a:pt x="22349" y="9748"/>
                </a:cubicBezTo>
                <a:cubicBezTo>
                  <a:pt x="22299" y="9748"/>
                  <a:pt x="22283" y="9748"/>
                  <a:pt x="22299" y="9699"/>
                </a:cubicBezTo>
              </a:path>
              <a:path w="2085" h="894">
                <a:moveTo>
                  <a:pt x="22969" y="9153"/>
                </a:moveTo>
                <a:cubicBezTo>
                  <a:pt x="23112" y="9179"/>
                  <a:pt x="23228" y="9210"/>
                  <a:pt x="23366" y="9227"/>
                </a:cubicBezTo>
              </a:path>
              <a:path w="2085" h="894">
                <a:moveTo>
                  <a:pt x="23143" y="9451"/>
                </a:moveTo>
                <a:cubicBezTo>
                  <a:pt x="23313" y="9451"/>
                  <a:pt x="23385" y="9450"/>
                  <a:pt x="23540" y="9376"/>
                </a:cubicBezTo>
              </a:path>
              <a:path w="2085" h="894">
                <a:moveTo>
                  <a:pt x="23887" y="9079"/>
                </a:moveTo>
                <a:cubicBezTo>
                  <a:pt x="23794" y="9293"/>
                  <a:pt x="23705" y="9357"/>
                  <a:pt x="23862" y="9525"/>
                </a:cubicBezTo>
                <a:cubicBezTo>
                  <a:pt x="23927" y="9595"/>
                  <a:pt x="24084" y="9644"/>
                  <a:pt x="24185" y="9599"/>
                </a:cubicBezTo>
                <a:cubicBezTo>
                  <a:pt x="24272" y="9560"/>
                  <a:pt x="24363" y="9409"/>
                  <a:pt x="24383" y="9327"/>
                </a:cubicBezTo>
                <a:cubicBezTo>
                  <a:pt x="24413" y="9208"/>
                  <a:pt x="24378" y="9097"/>
                  <a:pt x="24284" y="9029"/>
                </a:cubicBezTo>
                <a:cubicBezTo>
                  <a:pt x="24164" y="8942"/>
                  <a:pt x="24027" y="8923"/>
                  <a:pt x="23887" y="88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Ink 12"/>
          <p:cNvSpPr/>
          <p:nvPr/>
        </p:nvSpPr>
        <p:spPr>
          <a:xfrm>
            <a:off x="7108920" y="3670200"/>
            <a:ext cx="1204920" cy="446040"/>
          </a:xfrm>
          <a:custGeom>
            <a:avLst/>
            <a:gdLst/>
            <a:ahLst/>
            <a:rect l="l" t="t" r="r" b="b"/>
            <a:pathLst>
              <a:path w="3349" h="1241">
                <a:moveTo>
                  <a:pt x="19844" y="10418"/>
                </a:moveTo>
                <a:cubicBezTo>
                  <a:pt x="19887" y="10597"/>
                  <a:pt x="19939" y="10702"/>
                  <a:pt x="20067" y="10840"/>
                </a:cubicBezTo>
                <a:cubicBezTo>
                  <a:pt x="20142" y="10921"/>
                  <a:pt x="20205" y="10956"/>
                  <a:pt x="20290" y="11013"/>
                </a:cubicBezTo>
              </a:path>
              <a:path w="3349" h="1241">
                <a:moveTo>
                  <a:pt x="20042" y="10418"/>
                </a:moveTo>
                <a:cubicBezTo>
                  <a:pt x="19943" y="10571"/>
                  <a:pt x="19868" y="10739"/>
                  <a:pt x="19769" y="10889"/>
                </a:cubicBezTo>
                <a:cubicBezTo>
                  <a:pt x="19745" y="10914"/>
                  <a:pt x="19737" y="10922"/>
                  <a:pt x="19769" y="10939"/>
                </a:cubicBezTo>
              </a:path>
              <a:path w="3349" h="1241">
                <a:moveTo>
                  <a:pt x="20365" y="10492"/>
                </a:moveTo>
                <a:cubicBezTo>
                  <a:pt x="20448" y="10492"/>
                  <a:pt x="20530" y="10492"/>
                  <a:pt x="20613" y="10492"/>
                </a:cubicBezTo>
              </a:path>
              <a:path w="3349" h="1241">
                <a:moveTo>
                  <a:pt x="20365" y="10641"/>
                </a:moveTo>
                <a:cubicBezTo>
                  <a:pt x="20448" y="10641"/>
                  <a:pt x="20530" y="10641"/>
                  <a:pt x="20613" y="10641"/>
                </a:cubicBezTo>
              </a:path>
              <a:path w="3349" h="1241">
                <a:moveTo>
                  <a:pt x="20786" y="10344"/>
                </a:moveTo>
                <a:cubicBezTo>
                  <a:pt x="20877" y="10344"/>
                  <a:pt x="20968" y="10344"/>
                  <a:pt x="21059" y="10344"/>
                </a:cubicBezTo>
              </a:path>
              <a:path w="3349" h="1241">
                <a:moveTo>
                  <a:pt x="21282" y="10195"/>
                </a:moveTo>
                <a:cubicBezTo>
                  <a:pt x="21412" y="10195"/>
                  <a:pt x="21465" y="10221"/>
                  <a:pt x="21530" y="10344"/>
                </a:cubicBezTo>
                <a:cubicBezTo>
                  <a:pt x="21564" y="10409"/>
                  <a:pt x="21461" y="10425"/>
                  <a:pt x="21431" y="10443"/>
                </a:cubicBezTo>
                <a:cubicBezTo>
                  <a:pt x="21337" y="10498"/>
                  <a:pt x="21292" y="10492"/>
                  <a:pt x="21183" y="10492"/>
                </a:cubicBezTo>
                <a:cubicBezTo>
                  <a:pt x="21221" y="10501"/>
                  <a:pt x="21332" y="10567"/>
                  <a:pt x="21357" y="10592"/>
                </a:cubicBezTo>
                <a:cubicBezTo>
                  <a:pt x="21452" y="10705"/>
                  <a:pt x="21513" y="10713"/>
                  <a:pt x="21456" y="10790"/>
                </a:cubicBezTo>
                <a:cubicBezTo>
                  <a:pt x="21389" y="10844"/>
                  <a:pt x="21343" y="10840"/>
                  <a:pt x="21258" y="10840"/>
                </a:cubicBezTo>
                <a:cubicBezTo>
                  <a:pt x="21183" y="10840"/>
                  <a:pt x="21120" y="10820"/>
                  <a:pt x="21134" y="10765"/>
                </a:cubicBezTo>
              </a:path>
              <a:path w="3349" h="1241">
                <a:moveTo>
                  <a:pt x="21878" y="10889"/>
                </a:moveTo>
                <a:cubicBezTo>
                  <a:pt x="21878" y="11060"/>
                  <a:pt x="21884" y="11200"/>
                  <a:pt x="21853" y="11361"/>
                </a:cubicBezTo>
                <a:cubicBezTo>
                  <a:pt x="21853" y="11369"/>
                  <a:pt x="21853" y="11377"/>
                  <a:pt x="21853" y="11385"/>
                </a:cubicBezTo>
              </a:path>
              <a:path w="3349" h="1241">
                <a:moveTo>
                  <a:pt x="22175" y="10641"/>
                </a:moveTo>
                <a:cubicBezTo>
                  <a:pt x="22418" y="10719"/>
                  <a:pt x="22474" y="10747"/>
                  <a:pt x="22696" y="10641"/>
                </a:cubicBezTo>
              </a:path>
              <a:path w="3349" h="1241">
                <a:moveTo>
                  <a:pt x="22671" y="10368"/>
                </a:moveTo>
                <a:cubicBezTo>
                  <a:pt x="22653" y="10593"/>
                  <a:pt x="22620" y="10555"/>
                  <a:pt x="22771" y="10641"/>
                </a:cubicBezTo>
                <a:cubicBezTo>
                  <a:pt x="22845" y="10691"/>
                  <a:pt x="22870" y="10708"/>
                  <a:pt x="22920" y="10641"/>
                </a:cubicBezTo>
              </a:path>
              <a:path w="3349" h="1241">
                <a:moveTo>
                  <a:pt x="23093" y="10195"/>
                </a:moveTo>
                <a:cubicBezTo>
                  <a:pt x="23033" y="10482"/>
                  <a:pt x="22961" y="10769"/>
                  <a:pt x="22944" y="11063"/>
                </a:cubicBezTo>
                <a:cubicBezTo>
                  <a:pt x="22944" y="11253"/>
                  <a:pt x="22944" y="11311"/>
                  <a:pt x="22944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Ink 13"/>
          <p:cNvSpPr/>
          <p:nvPr/>
        </p:nvSpPr>
        <p:spPr>
          <a:xfrm>
            <a:off x="4411800" y="3786120"/>
            <a:ext cx="839520" cy="581040"/>
          </a:xfrm>
          <a:custGeom>
            <a:avLst/>
            <a:gdLst/>
            <a:ahLst/>
            <a:rect l="l" t="t" r="r" b="b"/>
            <a:pathLst>
              <a:path w="2332" h="1613">
                <a:moveTo>
                  <a:pt x="12254" y="10765"/>
                </a:moveTo>
                <a:cubicBezTo>
                  <a:pt x="12355" y="10829"/>
                  <a:pt x="12434" y="10910"/>
                  <a:pt x="12526" y="10988"/>
                </a:cubicBezTo>
                <a:cubicBezTo>
                  <a:pt x="12676" y="11116"/>
                  <a:pt x="12814" y="11246"/>
                  <a:pt x="12973" y="11361"/>
                </a:cubicBezTo>
                <a:cubicBezTo>
                  <a:pt x="13064" y="11426"/>
                  <a:pt x="13125" y="11486"/>
                  <a:pt x="13221" y="11534"/>
                </a:cubicBezTo>
              </a:path>
              <a:path w="2332" h="1613">
                <a:moveTo>
                  <a:pt x="13171" y="10641"/>
                </a:moveTo>
                <a:cubicBezTo>
                  <a:pt x="13160" y="10767"/>
                  <a:pt x="13107" y="10885"/>
                  <a:pt x="13097" y="11013"/>
                </a:cubicBezTo>
                <a:cubicBezTo>
                  <a:pt x="13079" y="11229"/>
                  <a:pt x="13059" y="11445"/>
                  <a:pt x="13022" y="11658"/>
                </a:cubicBezTo>
                <a:cubicBezTo>
                  <a:pt x="12999" y="11792"/>
                  <a:pt x="12971" y="11922"/>
                  <a:pt x="12948" y="12055"/>
                </a:cubicBezTo>
                <a:cubicBezTo>
                  <a:pt x="12948" y="12096"/>
                  <a:pt x="12948" y="12104"/>
                  <a:pt x="12948" y="12129"/>
                </a:cubicBezTo>
              </a:path>
              <a:path w="2332" h="1613">
                <a:moveTo>
                  <a:pt x="13419" y="10840"/>
                </a:moveTo>
                <a:cubicBezTo>
                  <a:pt x="13562" y="10817"/>
                  <a:pt x="13654" y="10825"/>
                  <a:pt x="13791" y="10840"/>
                </a:cubicBezTo>
                <a:cubicBezTo>
                  <a:pt x="13816" y="10840"/>
                  <a:pt x="13841" y="10840"/>
                  <a:pt x="13866" y="10840"/>
                </a:cubicBezTo>
              </a:path>
              <a:path w="2332" h="1613">
                <a:moveTo>
                  <a:pt x="13519" y="11063"/>
                </a:moveTo>
                <a:cubicBezTo>
                  <a:pt x="13713" y="11087"/>
                  <a:pt x="13809" y="11099"/>
                  <a:pt x="13990" y="11038"/>
                </a:cubicBezTo>
              </a:path>
              <a:path w="2332" h="1613">
                <a:moveTo>
                  <a:pt x="14511" y="10517"/>
                </a:moveTo>
                <a:cubicBezTo>
                  <a:pt x="14511" y="10766"/>
                  <a:pt x="14497" y="11015"/>
                  <a:pt x="14536" y="11261"/>
                </a:cubicBezTo>
                <a:cubicBezTo>
                  <a:pt x="14559" y="11377"/>
                  <a:pt x="14565" y="11411"/>
                  <a:pt x="14585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7" name="Picture 5" descr="Graph_paper_xy_axis%20(large)"/>
          <p:cNvPicPr/>
          <p:nvPr/>
        </p:nvPicPr>
        <p:blipFill>
          <a:blip r:embed="rId1"/>
          <a:stretch/>
        </p:blipFill>
        <p:spPr>
          <a:xfrm>
            <a:off x="1600200" y="1143000"/>
            <a:ext cx="5562720" cy="4191120"/>
          </a:xfrm>
          <a:prstGeom prst="rect">
            <a:avLst/>
          </a:prstGeom>
          <a:ln w="0">
            <a:noFill/>
          </a:ln>
        </p:spPr>
      </p:pic>
      <p:sp>
        <p:nvSpPr>
          <p:cNvPr id="188" name="Ink 4"/>
          <p:cNvSpPr/>
          <p:nvPr/>
        </p:nvSpPr>
        <p:spPr>
          <a:xfrm>
            <a:off x="1839960" y="5456160"/>
            <a:ext cx="44280" cy="1800"/>
          </a:xfrm>
          <a:custGeom>
            <a:avLst/>
            <a:gdLst/>
            <a:ahLst/>
            <a:rect l="l" t="t" r="r" b="b"/>
            <a:pathLst>
              <a:path w="125" h="1">
                <a:moveTo>
                  <a:pt x="5110" y="15156"/>
                </a:moveTo>
                <a:lnTo>
                  <a:pt x="5110" y="15156"/>
                </a:lnTo>
                <a:lnTo>
                  <a:pt x="5110" y="15156"/>
                </a:lnTo>
              </a:path>
              <a:path w="125" h="1">
                <a:moveTo>
                  <a:pt x="5110" y="15156"/>
                </a:moveTo>
                <a:lnTo>
                  <a:pt x="5110" y="15156"/>
                </a:lnTo>
              </a:path>
              <a:path w="125" h="1">
                <a:moveTo>
                  <a:pt x="5234" y="15156"/>
                </a:moveTo>
                <a:cubicBezTo>
                  <a:pt x="5217" y="15156"/>
                  <a:pt x="5201" y="15156"/>
                  <a:pt x="5184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Ink 5"/>
          <p:cNvSpPr/>
          <p:nvPr/>
        </p:nvSpPr>
        <p:spPr>
          <a:xfrm>
            <a:off x="3554280" y="2938320"/>
            <a:ext cx="2687760" cy="1714680"/>
          </a:xfrm>
          <a:custGeom>
            <a:avLst/>
            <a:gdLst/>
            <a:ahLst/>
            <a:rect l="l" t="t" r="r" b="b"/>
            <a:pathLst>
              <a:path w="7467" h="4763">
                <a:moveTo>
                  <a:pt x="12129" y="9624"/>
                </a:moveTo>
                <a:cubicBezTo>
                  <a:pt x="12150" y="9686"/>
                  <a:pt x="12229" y="9703"/>
                  <a:pt x="12179" y="9624"/>
                </a:cubicBezTo>
                <a:cubicBezTo>
                  <a:pt x="12171" y="9616"/>
                  <a:pt x="12162" y="9607"/>
                  <a:pt x="12154" y="9599"/>
                </a:cubicBezTo>
                <a:cubicBezTo>
                  <a:pt x="12078" y="9609"/>
                  <a:pt x="12017" y="9619"/>
                  <a:pt x="12055" y="9699"/>
                </a:cubicBezTo>
                <a:cubicBezTo>
                  <a:pt x="12062" y="9713"/>
                  <a:pt x="12160" y="9803"/>
                  <a:pt x="12179" y="9748"/>
                </a:cubicBezTo>
                <a:cubicBezTo>
                  <a:pt x="12179" y="9682"/>
                  <a:pt x="12179" y="9665"/>
                  <a:pt x="12179" y="9624"/>
                </a:cubicBezTo>
                <a:cubicBezTo>
                  <a:pt x="12148" y="9632"/>
                  <a:pt x="12003" y="9693"/>
                  <a:pt x="12105" y="9748"/>
                </a:cubicBezTo>
                <a:cubicBezTo>
                  <a:pt x="12156" y="9775"/>
                  <a:pt x="12219" y="9729"/>
                  <a:pt x="12204" y="9674"/>
                </a:cubicBezTo>
                <a:cubicBezTo>
                  <a:pt x="12181" y="9587"/>
                  <a:pt x="12068" y="9630"/>
                  <a:pt x="12055" y="9674"/>
                </a:cubicBezTo>
                <a:cubicBezTo>
                  <a:pt x="12033" y="9747"/>
                  <a:pt x="12119" y="9794"/>
                  <a:pt x="12179" y="9748"/>
                </a:cubicBezTo>
                <a:cubicBezTo>
                  <a:pt x="12187" y="9732"/>
                  <a:pt x="12196" y="9715"/>
                  <a:pt x="12204" y="9699"/>
                </a:cubicBezTo>
                <a:cubicBezTo>
                  <a:pt x="12197" y="9663"/>
                  <a:pt x="12130" y="9560"/>
                  <a:pt x="12080" y="9624"/>
                </a:cubicBezTo>
                <a:cubicBezTo>
                  <a:pt x="12080" y="9641"/>
                  <a:pt x="12080" y="9657"/>
                  <a:pt x="12080" y="9674"/>
                </a:cubicBezTo>
              </a:path>
              <a:path w="7467" h="4763">
                <a:moveTo>
                  <a:pt x="15106" y="8930"/>
                </a:moveTo>
                <a:cubicBezTo>
                  <a:pt x="15148" y="8888"/>
                  <a:pt x="15156" y="8881"/>
                  <a:pt x="15180" y="8855"/>
                </a:cubicBezTo>
                <a:cubicBezTo>
                  <a:pt x="15128" y="8855"/>
                  <a:pt x="15062" y="8854"/>
                  <a:pt x="15081" y="8930"/>
                </a:cubicBezTo>
                <a:cubicBezTo>
                  <a:pt x="15102" y="9012"/>
                  <a:pt x="15177" y="9013"/>
                  <a:pt x="15205" y="8930"/>
                </a:cubicBezTo>
                <a:cubicBezTo>
                  <a:pt x="15205" y="8888"/>
                  <a:pt x="15205" y="8880"/>
                  <a:pt x="15205" y="8855"/>
                </a:cubicBezTo>
                <a:cubicBezTo>
                  <a:pt x="15171" y="8828"/>
                  <a:pt x="15104" y="8816"/>
                  <a:pt x="15056" y="8880"/>
                </a:cubicBezTo>
                <a:cubicBezTo>
                  <a:pt x="15013" y="8937"/>
                  <a:pt x="15043" y="9016"/>
                  <a:pt x="15106" y="9029"/>
                </a:cubicBezTo>
                <a:cubicBezTo>
                  <a:pt x="15158" y="9029"/>
                  <a:pt x="15176" y="9028"/>
                  <a:pt x="15205" y="9004"/>
                </a:cubicBezTo>
                <a:cubicBezTo>
                  <a:pt x="15249" y="8961"/>
                  <a:pt x="15266" y="8855"/>
                  <a:pt x="15205" y="8855"/>
                </a:cubicBezTo>
                <a:cubicBezTo>
                  <a:pt x="15129" y="8855"/>
                  <a:pt x="15074" y="8898"/>
                  <a:pt x="15032" y="8930"/>
                </a:cubicBezTo>
                <a:cubicBezTo>
                  <a:pt x="14963" y="8983"/>
                  <a:pt x="15017" y="9068"/>
                  <a:pt x="15081" y="9079"/>
                </a:cubicBezTo>
                <a:cubicBezTo>
                  <a:pt x="15178" y="9096"/>
                  <a:pt x="15160" y="8980"/>
                  <a:pt x="15205" y="8930"/>
                </a:cubicBezTo>
                <a:cubicBezTo>
                  <a:pt x="15248" y="8930"/>
                  <a:pt x="15251" y="8913"/>
                  <a:pt x="15205" y="8855"/>
                </a:cubicBezTo>
                <a:cubicBezTo>
                  <a:pt x="15137" y="8874"/>
                  <a:pt x="15053" y="8874"/>
                  <a:pt x="15032" y="8954"/>
                </a:cubicBezTo>
                <a:cubicBezTo>
                  <a:pt x="15012" y="9032"/>
                  <a:pt x="15096" y="9072"/>
                  <a:pt x="15156" y="9079"/>
                </a:cubicBezTo>
                <a:cubicBezTo>
                  <a:pt x="15221" y="9086"/>
                  <a:pt x="15220" y="9048"/>
                  <a:pt x="15255" y="9004"/>
                </a:cubicBezTo>
                <a:cubicBezTo>
                  <a:pt x="15279" y="8921"/>
                  <a:pt x="15264" y="8930"/>
                  <a:pt x="15180" y="8930"/>
                </a:cubicBezTo>
                <a:cubicBezTo>
                  <a:pt x="15124" y="8930"/>
                  <a:pt x="15102" y="8925"/>
                  <a:pt x="15081" y="8880"/>
                </a:cubicBezTo>
              </a:path>
              <a:path w="7467" h="4763">
                <a:moveTo>
                  <a:pt x="9996" y="12799"/>
                </a:moveTo>
                <a:cubicBezTo>
                  <a:pt x="10040" y="12712"/>
                  <a:pt x="10076" y="12614"/>
                  <a:pt x="10120" y="12526"/>
                </a:cubicBezTo>
                <a:cubicBezTo>
                  <a:pt x="10183" y="12401"/>
                  <a:pt x="10246" y="12286"/>
                  <a:pt x="10294" y="12154"/>
                </a:cubicBezTo>
                <a:cubicBezTo>
                  <a:pt x="10389" y="11894"/>
                  <a:pt x="10490" y="11634"/>
                  <a:pt x="10616" y="11385"/>
                </a:cubicBezTo>
                <a:cubicBezTo>
                  <a:pt x="10743" y="11134"/>
                  <a:pt x="10879" y="10873"/>
                  <a:pt x="11038" y="10641"/>
                </a:cubicBezTo>
                <a:cubicBezTo>
                  <a:pt x="11129" y="10509"/>
                  <a:pt x="11264" y="10341"/>
                  <a:pt x="11385" y="10220"/>
                </a:cubicBezTo>
                <a:cubicBezTo>
                  <a:pt x="11546" y="10059"/>
                  <a:pt x="11706" y="9893"/>
                  <a:pt x="11881" y="9748"/>
                </a:cubicBezTo>
                <a:cubicBezTo>
                  <a:pt x="12061" y="9599"/>
                  <a:pt x="12267" y="9498"/>
                  <a:pt x="12452" y="9376"/>
                </a:cubicBezTo>
                <a:cubicBezTo>
                  <a:pt x="12608" y="9272"/>
                  <a:pt x="12757" y="9162"/>
                  <a:pt x="12923" y="9079"/>
                </a:cubicBezTo>
                <a:cubicBezTo>
                  <a:pt x="13024" y="9029"/>
                  <a:pt x="13156" y="8998"/>
                  <a:pt x="13271" y="8954"/>
                </a:cubicBezTo>
                <a:cubicBezTo>
                  <a:pt x="13415" y="8899"/>
                  <a:pt x="13569" y="8834"/>
                  <a:pt x="13717" y="8806"/>
                </a:cubicBezTo>
                <a:cubicBezTo>
                  <a:pt x="13858" y="8779"/>
                  <a:pt x="14005" y="8753"/>
                  <a:pt x="14139" y="8731"/>
                </a:cubicBezTo>
                <a:cubicBezTo>
                  <a:pt x="14313" y="8702"/>
                  <a:pt x="14486" y="8728"/>
                  <a:pt x="14660" y="8706"/>
                </a:cubicBezTo>
                <a:cubicBezTo>
                  <a:pt x="14799" y="8689"/>
                  <a:pt x="14936" y="8671"/>
                  <a:pt x="15081" y="8657"/>
                </a:cubicBezTo>
                <a:cubicBezTo>
                  <a:pt x="15232" y="8643"/>
                  <a:pt x="15373" y="8633"/>
                  <a:pt x="15528" y="8632"/>
                </a:cubicBezTo>
                <a:cubicBezTo>
                  <a:pt x="15803" y="8630"/>
                  <a:pt x="16162" y="8682"/>
                  <a:pt x="16421" y="8657"/>
                </a:cubicBezTo>
                <a:cubicBezTo>
                  <a:pt x="16496" y="8650"/>
                  <a:pt x="16225" y="8655"/>
                  <a:pt x="16297" y="8632"/>
                </a:cubicBezTo>
                <a:cubicBezTo>
                  <a:pt x="16389" y="8602"/>
                  <a:pt x="16522" y="8572"/>
                  <a:pt x="16619" y="8558"/>
                </a:cubicBezTo>
                <a:cubicBezTo>
                  <a:pt x="16711" y="8545"/>
                  <a:pt x="16920" y="8505"/>
                  <a:pt x="16991" y="8508"/>
                </a:cubicBezTo>
                <a:cubicBezTo>
                  <a:pt x="17053" y="8511"/>
                  <a:pt x="17183" y="8549"/>
                  <a:pt x="17264" y="8558"/>
                </a:cubicBezTo>
                <a:cubicBezTo>
                  <a:pt x="17309" y="8558"/>
                  <a:pt x="17322" y="8554"/>
                  <a:pt x="17338" y="8582"/>
                </a:cubicBezTo>
              </a:path>
              <a:path w="7467" h="4763">
                <a:moveTo>
                  <a:pt x="16619" y="8161"/>
                </a:moveTo>
                <a:cubicBezTo>
                  <a:pt x="16744" y="8206"/>
                  <a:pt x="16932" y="8256"/>
                  <a:pt x="17041" y="8334"/>
                </a:cubicBezTo>
                <a:cubicBezTo>
                  <a:pt x="17137" y="8403"/>
                  <a:pt x="17182" y="8512"/>
                  <a:pt x="17090" y="8582"/>
                </a:cubicBezTo>
                <a:cubicBezTo>
                  <a:pt x="16932" y="8701"/>
                  <a:pt x="16815" y="8720"/>
                  <a:pt x="16669" y="8806"/>
                </a:cubicBezTo>
                <a:cubicBezTo>
                  <a:pt x="16606" y="8868"/>
                  <a:pt x="16571" y="8884"/>
                  <a:pt x="16495" y="8855"/>
                </a:cubicBezTo>
              </a:path>
              <a:path w="7467" h="4763">
                <a:moveTo>
                  <a:pt x="14932" y="8731"/>
                </a:moveTo>
                <a:cubicBezTo>
                  <a:pt x="14974" y="8814"/>
                  <a:pt x="15046" y="8767"/>
                  <a:pt x="15131" y="8706"/>
                </a:cubicBezTo>
                <a:cubicBezTo>
                  <a:pt x="15218" y="8644"/>
                  <a:pt x="15234" y="8574"/>
                  <a:pt x="15255" y="8483"/>
                </a:cubicBezTo>
                <a:cubicBezTo>
                  <a:pt x="15095" y="8483"/>
                  <a:pt x="15096" y="8493"/>
                  <a:pt x="14957" y="8558"/>
                </a:cubicBezTo>
                <a:cubicBezTo>
                  <a:pt x="14867" y="8600"/>
                  <a:pt x="14793" y="8661"/>
                  <a:pt x="14709" y="8706"/>
                </a:cubicBezTo>
                <a:cubicBezTo>
                  <a:pt x="14701" y="8706"/>
                  <a:pt x="14692" y="8706"/>
                  <a:pt x="14684" y="8706"/>
                </a:cubicBezTo>
              </a:path>
              <a:path w="7467" h="4763">
                <a:moveTo>
                  <a:pt x="10046" y="12080"/>
                </a:moveTo>
                <a:cubicBezTo>
                  <a:pt x="9986" y="12303"/>
                  <a:pt x="9939" y="12505"/>
                  <a:pt x="9897" y="12725"/>
                </a:cubicBezTo>
                <a:cubicBezTo>
                  <a:pt x="9880" y="12816"/>
                  <a:pt x="9868" y="12836"/>
                  <a:pt x="9897" y="12923"/>
                </a:cubicBezTo>
                <a:cubicBezTo>
                  <a:pt x="10009" y="12923"/>
                  <a:pt x="10050" y="12883"/>
                  <a:pt x="10145" y="12824"/>
                </a:cubicBezTo>
                <a:cubicBezTo>
                  <a:pt x="10318" y="12717"/>
                  <a:pt x="10491" y="12660"/>
                  <a:pt x="10691" y="12626"/>
                </a:cubicBezTo>
                <a:cubicBezTo>
                  <a:pt x="10749" y="12618"/>
                  <a:pt x="10806" y="12609"/>
                  <a:pt x="10864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Ink 6"/>
          <p:cNvSpPr/>
          <p:nvPr/>
        </p:nvSpPr>
        <p:spPr>
          <a:xfrm>
            <a:off x="3276720" y="1285920"/>
            <a:ext cx="73080" cy="1349280"/>
          </a:xfrm>
          <a:custGeom>
            <a:avLst/>
            <a:gdLst/>
            <a:ahLst/>
            <a:rect l="l" t="t" r="r" b="b"/>
            <a:pathLst>
              <a:path w="200" h="3746">
                <a:moveTo>
                  <a:pt x="9277" y="4167"/>
                </a:moveTo>
                <a:cubicBezTo>
                  <a:pt x="9258" y="4253"/>
                  <a:pt x="9238" y="4331"/>
                  <a:pt x="9227" y="4415"/>
                </a:cubicBezTo>
              </a:path>
              <a:path w="200" h="3746">
                <a:moveTo>
                  <a:pt x="9203" y="4688"/>
                </a:moveTo>
                <a:cubicBezTo>
                  <a:pt x="9177" y="4784"/>
                  <a:pt x="9158" y="4824"/>
                  <a:pt x="9178" y="4911"/>
                </a:cubicBezTo>
              </a:path>
              <a:path w="200" h="3746">
                <a:moveTo>
                  <a:pt x="9178" y="5085"/>
                </a:moveTo>
                <a:cubicBezTo>
                  <a:pt x="9171" y="5141"/>
                  <a:pt x="9158" y="5164"/>
                  <a:pt x="9178" y="5184"/>
                </a:cubicBezTo>
              </a:path>
              <a:path w="200" h="3746">
                <a:moveTo>
                  <a:pt x="9128" y="3572"/>
                </a:moveTo>
                <a:cubicBezTo>
                  <a:pt x="9163" y="3607"/>
                  <a:pt x="9177" y="3627"/>
                  <a:pt x="9203" y="3671"/>
                </a:cubicBezTo>
              </a:path>
              <a:path w="200" h="3746">
                <a:moveTo>
                  <a:pt x="9128" y="4068"/>
                </a:moveTo>
                <a:cubicBezTo>
                  <a:pt x="9104" y="4201"/>
                  <a:pt x="9078" y="4241"/>
                  <a:pt x="9153" y="4341"/>
                </a:cubicBezTo>
              </a:path>
              <a:path w="200" h="3746">
                <a:moveTo>
                  <a:pt x="9203" y="4688"/>
                </a:moveTo>
                <a:cubicBezTo>
                  <a:pt x="9185" y="4787"/>
                  <a:pt x="9178" y="4863"/>
                  <a:pt x="9178" y="4961"/>
                </a:cubicBezTo>
                <a:cubicBezTo>
                  <a:pt x="9178" y="4978"/>
                  <a:pt x="9178" y="4994"/>
                  <a:pt x="9178" y="5011"/>
                </a:cubicBezTo>
              </a:path>
              <a:path w="200" h="3746">
                <a:moveTo>
                  <a:pt x="9227" y="5259"/>
                </a:moveTo>
                <a:cubicBezTo>
                  <a:pt x="9216" y="5325"/>
                  <a:pt x="9168" y="5462"/>
                  <a:pt x="9178" y="5531"/>
                </a:cubicBezTo>
                <a:cubicBezTo>
                  <a:pt x="9186" y="5564"/>
                  <a:pt x="9195" y="5598"/>
                  <a:pt x="9203" y="5631"/>
                </a:cubicBezTo>
              </a:path>
              <a:path w="200" h="3746">
                <a:moveTo>
                  <a:pt x="9302" y="6102"/>
                </a:moveTo>
                <a:cubicBezTo>
                  <a:pt x="9288" y="6184"/>
                  <a:pt x="9252" y="6313"/>
                  <a:pt x="9277" y="6400"/>
                </a:cubicBezTo>
                <a:cubicBezTo>
                  <a:pt x="9285" y="6416"/>
                  <a:pt x="9294" y="6433"/>
                  <a:pt x="9302" y="6449"/>
                </a:cubicBezTo>
              </a:path>
              <a:path w="200" h="3746">
                <a:moveTo>
                  <a:pt x="9302" y="6921"/>
                </a:moveTo>
                <a:cubicBezTo>
                  <a:pt x="9246" y="7099"/>
                  <a:pt x="9198" y="7158"/>
                  <a:pt x="9252" y="73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nk 7"/>
          <p:cNvSpPr/>
          <p:nvPr/>
        </p:nvSpPr>
        <p:spPr>
          <a:xfrm>
            <a:off x="3313080" y="2840040"/>
            <a:ext cx="27000" cy="1602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9277" y="7888"/>
                </a:moveTo>
                <a:cubicBezTo>
                  <a:pt x="9236" y="8030"/>
                  <a:pt x="9175" y="8142"/>
                  <a:pt x="9227" y="8285"/>
                </a:cubicBezTo>
                <a:cubicBezTo>
                  <a:pt x="9235" y="8301"/>
                  <a:pt x="9244" y="8318"/>
                  <a:pt x="9252" y="83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Ink 8"/>
          <p:cNvSpPr/>
          <p:nvPr/>
        </p:nvSpPr>
        <p:spPr>
          <a:xfrm>
            <a:off x="3259080" y="3187800"/>
            <a:ext cx="81000" cy="214200"/>
          </a:xfrm>
          <a:custGeom>
            <a:avLst/>
            <a:gdLst/>
            <a:ahLst/>
            <a:rect l="l" t="t" r="r" b="b"/>
            <a:pathLst>
              <a:path w="224" h="597">
                <a:moveTo>
                  <a:pt x="9128" y="8880"/>
                </a:moveTo>
                <a:cubicBezTo>
                  <a:pt x="9108" y="8950"/>
                  <a:pt x="9116" y="8994"/>
                  <a:pt x="9203" y="9004"/>
                </a:cubicBezTo>
                <a:cubicBezTo>
                  <a:pt x="9297" y="9015"/>
                  <a:pt x="9277" y="8919"/>
                  <a:pt x="9277" y="8855"/>
                </a:cubicBezTo>
                <a:cubicBezTo>
                  <a:pt x="9227" y="8855"/>
                  <a:pt x="9162" y="8836"/>
                  <a:pt x="9128" y="8880"/>
                </a:cubicBezTo>
                <a:cubicBezTo>
                  <a:pt x="9098" y="8920"/>
                  <a:pt x="9038" y="8975"/>
                  <a:pt x="9103" y="9004"/>
                </a:cubicBezTo>
                <a:cubicBezTo>
                  <a:pt x="9210" y="9051"/>
                  <a:pt x="9239" y="9014"/>
                  <a:pt x="9277" y="8930"/>
                </a:cubicBezTo>
                <a:cubicBezTo>
                  <a:pt x="9269" y="8905"/>
                  <a:pt x="9260" y="8880"/>
                  <a:pt x="9252" y="8855"/>
                </a:cubicBezTo>
                <a:cubicBezTo>
                  <a:pt x="9168" y="8864"/>
                  <a:pt x="9132" y="8889"/>
                  <a:pt x="9079" y="8930"/>
                </a:cubicBezTo>
                <a:cubicBezTo>
                  <a:pt x="9038" y="8962"/>
                  <a:pt x="9057" y="9056"/>
                  <a:pt x="9103" y="9079"/>
                </a:cubicBezTo>
                <a:cubicBezTo>
                  <a:pt x="9163" y="9109"/>
                  <a:pt x="9254" y="9081"/>
                  <a:pt x="9277" y="9029"/>
                </a:cubicBezTo>
                <a:cubicBezTo>
                  <a:pt x="9316" y="8943"/>
                  <a:pt x="9272" y="8930"/>
                  <a:pt x="9203" y="8930"/>
                </a:cubicBezTo>
                <a:cubicBezTo>
                  <a:pt x="9130" y="8930"/>
                  <a:pt x="9138" y="8943"/>
                  <a:pt x="9103" y="9004"/>
                </a:cubicBezTo>
                <a:cubicBezTo>
                  <a:pt x="9124" y="9109"/>
                  <a:pt x="9129" y="9059"/>
                  <a:pt x="9203" y="9029"/>
                </a:cubicBezTo>
              </a:path>
              <a:path w="224" h="597">
                <a:moveTo>
                  <a:pt x="9277" y="8855"/>
                </a:moveTo>
                <a:cubicBezTo>
                  <a:pt x="9217" y="9052"/>
                  <a:pt x="9138" y="9150"/>
                  <a:pt x="9203" y="9327"/>
                </a:cubicBezTo>
                <a:cubicBezTo>
                  <a:pt x="9219" y="9368"/>
                  <a:pt x="9236" y="9410"/>
                  <a:pt x="9252" y="94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Ink 9"/>
          <p:cNvSpPr/>
          <p:nvPr/>
        </p:nvSpPr>
        <p:spPr>
          <a:xfrm>
            <a:off x="3295800" y="3598920"/>
            <a:ext cx="34920" cy="206280"/>
          </a:xfrm>
          <a:custGeom>
            <a:avLst/>
            <a:gdLst/>
            <a:ahLst/>
            <a:rect l="l" t="t" r="r" b="b"/>
            <a:pathLst>
              <a:path w="100" h="572">
                <a:moveTo>
                  <a:pt x="9227" y="9996"/>
                </a:moveTo>
                <a:cubicBezTo>
                  <a:pt x="9195" y="10122"/>
                  <a:pt x="9125" y="10288"/>
                  <a:pt x="9178" y="10418"/>
                </a:cubicBezTo>
                <a:cubicBezTo>
                  <a:pt x="9225" y="10489"/>
                  <a:pt x="9241" y="10511"/>
                  <a:pt x="9252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Ink 10"/>
          <p:cNvSpPr/>
          <p:nvPr/>
        </p:nvSpPr>
        <p:spPr>
          <a:xfrm>
            <a:off x="3295800" y="4000680"/>
            <a:ext cx="34920" cy="214200"/>
          </a:xfrm>
          <a:custGeom>
            <a:avLst/>
            <a:gdLst/>
            <a:ahLst/>
            <a:rect l="l" t="t" r="r" b="b"/>
            <a:pathLst>
              <a:path w="100" h="597">
                <a:moveTo>
                  <a:pt x="9252" y="11112"/>
                </a:moveTo>
                <a:cubicBezTo>
                  <a:pt x="9175" y="11410"/>
                  <a:pt x="9120" y="11460"/>
                  <a:pt x="9203" y="117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Ink 11"/>
          <p:cNvSpPr/>
          <p:nvPr/>
        </p:nvSpPr>
        <p:spPr>
          <a:xfrm>
            <a:off x="3295800" y="4500720"/>
            <a:ext cx="34920" cy="250560"/>
          </a:xfrm>
          <a:custGeom>
            <a:avLst/>
            <a:gdLst/>
            <a:ahLst/>
            <a:rect l="l" t="t" r="r" b="b"/>
            <a:pathLst>
              <a:path w="100" h="695">
                <a:moveTo>
                  <a:pt x="9227" y="12502"/>
                </a:moveTo>
                <a:cubicBezTo>
                  <a:pt x="9181" y="12724"/>
                  <a:pt x="9107" y="12907"/>
                  <a:pt x="9203" y="13122"/>
                </a:cubicBezTo>
                <a:cubicBezTo>
                  <a:pt x="9219" y="13147"/>
                  <a:pt x="9236" y="13171"/>
                  <a:pt x="9252" y="131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Ink 12"/>
          <p:cNvSpPr/>
          <p:nvPr/>
        </p:nvSpPr>
        <p:spPr>
          <a:xfrm>
            <a:off x="3303720" y="4983120"/>
            <a:ext cx="36360" cy="285840"/>
          </a:xfrm>
          <a:custGeom>
            <a:avLst/>
            <a:gdLst/>
            <a:ahLst/>
            <a:rect l="l" t="t" r="r" b="b"/>
            <a:pathLst>
              <a:path w="100" h="795">
                <a:moveTo>
                  <a:pt x="9277" y="13841"/>
                </a:moveTo>
                <a:cubicBezTo>
                  <a:pt x="9226" y="14077"/>
                  <a:pt x="9178" y="14254"/>
                  <a:pt x="9178" y="14486"/>
                </a:cubicBezTo>
                <a:cubicBezTo>
                  <a:pt x="9178" y="14560"/>
                  <a:pt x="9178" y="14585"/>
                  <a:pt x="9178" y="146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nk 13"/>
          <p:cNvSpPr/>
          <p:nvPr/>
        </p:nvSpPr>
        <p:spPr>
          <a:xfrm>
            <a:off x="2894040" y="1276200"/>
            <a:ext cx="98280" cy="4037040"/>
          </a:xfrm>
          <a:custGeom>
            <a:avLst/>
            <a:gdLst/>
            <a:ahLst/>
            <a:rect l="l" t="t" r="r" b="b"/>
            <a:pathLst>
              <a:path w="274" h="11213">
                <a:moveTo>
                  <a:pt x="8161" y="3547"/>
                </a:moveTo>
                <a:cubicBezTo>
                  <a:pt x="8169" y="3547"/>
                  <a:pt x="8178" y="3547"/>
                  <a:pt x="8186" y="3547"/>
                </a:cubicBezTo>
              </a:path>
              <a:path w="274" h="11213">
                <a:moveTo>
                  <a:pt x="8136" y="3870"/>
                </a:moveTo>
                <a:cubicBezTo>
                  <a:pt x="8121" y="3941"/>
                  <a:pt x="8111" y="3976"/>
                  <a:pt x="8111" y="4043"/>
                </a:cubicBezTo>
              </a:path>
              <a:path w="274" h="11213">
                <a:moveTo>
                  <a:pt x="8136" y="4390"/>
                </a:moveTo>
                <a:cubicBezTo>
                  <a:pt x="8097" y="4558"/>
                  <a:pt x="8045" y="4616"/>
                  <a:pt x="8136" y="4738"/>
                </a:cubicBezTo>
              </a:path>
              <a:path w="274" h="11213">
                <a:moveTo>
                  <a:pt x="8210" y="5035"/>
                </a:moveTo>
                <a:cubicBezTo>
                  <a:pt x="8187" y="5115"/>
                  <a:pt x="8108" y="5284"/>
                  <a:pt x="8136" y="5383"/>
                </a:cubicBezTo>
                <a:cubicBezTo>
                  <a:pt x="8144" y="5399"/>
                  <a:pt x="8153" y="5416"/>
                  <a:pt x="8161" y="5432"/>
                </a:cubicBezTo>
              </a:path>
              <a:path w="274" h="11213">
                <a:moveTo>
                  <a:pt x="8210" y="5928"/>
                </a:moveTo>
                <a:cubicBezTo>
                  <a:pt x="8176" y="6109"/>
                  <a:pt x="8170" y="6152"/>
                  <a:pt x="8210" y="6325"/>
                </a:cubicBezTo>
              </a:path>
              <a:path w="274" h="11213">
                <a:moveTo>
                  <a:pt x="8310" y="6846"/>
                </a:moveTo>
                <a:cubicBezTo>
                  <a:pt x="8275" y="6940"/>
                  <a:pt x="8191" y="7105"/>
                  <a:pt x="8210" y="7218"/>
                </a:cubicBezTo>
                <a:cubicBezTo>
                  <a:pt x="8232" y="7285"/>
                  <a:pt x="8237" y="7303"/>
                  <a:pt x="8260" y="7342"/>
                </a:cubicBezTo>
              </a:path>
              <a:path w="274" h="11213">
                <a:moveTo>
                  <a:pt x="8260" y="7888"/>
                </a:moveTo>
                <a:cubicBezTo>
                  <a:pt x="8165" y="8148"/>
                  <a:pt x="8132" y="8171"/>
                  <a:pt x="8210" y="8409"/>
                </a:cubicBezTo>
              </a:path>
              <a:path w="274" h="11213">
                <a:moveTo>
                  <a:pt x="8285" y="8781"/>
                </a:moveTo>
                <a:cubicBezTo>
                  <a:pt x="8208" y="8976"/>
                  <a:pt x="8161" y="9060"/>
                  <a:pt x="8161" y="9252"/>
                </a:cubicBezTo>
                <a:cubicBezTo>
                  <a:pt x="8161" y="9320"/>
                  <a:pt x="8158" y="9339"/>
                  <a:pt x="8186" y="9376"/>
                </a:cubicBezTo>
              </a:path>
              <a:path w="274" h="11213">
                <a:moveTo>
                  <a:pt x="8210" y="9773"/>
                </a:moveTo>
                <a:cubicBezTo>
                  <a:pt x="8135" y="9998"/>
                  <a:pt x="8096" y="10069"/>
                  <a:pt x="8111" y="10269"/>
                </a:cubicBezTo>
                <a:cubicBezTo>
                  <a:pt x="8111" y="10374"/>
                  <a:pt x="8125" y="10426"/>
                  <a:pt x="8186" y="10492"/>
                </a:cubicBezTo>
              </a:path>
              <a:path w="274" h="11213">
                <a:moveTo>
                  <a:pt x="8210" y="11063"/>
                </a:moveTo>
                <a:cubicBezTo>
                  <a:pt x="8170" y="11283"/>
                  <a:pt x="8165" y="11342"/>
                  <a:pt x="8186" y="11534"/>
                </a:cubicBezTo>
                <a:cubicBezTo>
                  <a:pt x="8186" y="11559"/>
                  <a:pt x="8186" y="11584"/>
                  <a:pt x="8186" y="11609"/>
                </a:cubicBezTo>
              </a:path>
              <a:path w="274" h="11213">
                <a:moveTo>
                  <a:pt x="8210" y="11931"/>
                </a:moveTo>
                <a:cubicBezTo>
                  <a:pt x="8179" y="12109"/>
                  <a:pt x="8108" y="12320"/>
                  <a:pt x="8086" y="12502"/>
                </a:cubicBezTo>
                <a:cubicBezTo>
                  <a:pt x="8074" y="12600"/>
                  <a:pt x="8108" y="12683"/>
                  <a:pt x="8136" y="12774"/>
                </a:cubicBezTo>
              </a:path>
              <a:path w="274" h="11213">
                <a:moveTo>
                  <a:pt x="8186" y="13320"/>
                </a:moveTo>
                <a:cubicBezTo>
                  <a:pt x="8152" y="13455"/>
                  <a:pt x="8116" y="13580"/>
                  <a:pt x="8111" y="13717"/>
                </a:cubicBezTo>
                <a:cubicBezTo>
                  <a:pt x="8108" y="13794"/>
                  <a:pt x="8130" y="13863"/>
                  <a:pt x="8136" y="13940"/>
                </a:cubicBezTo>
              </a:path>
              <a:path w="274" h="11213">
                <a:moveTo>
                  <a:pt x="8161" y="14139"/>
                </a:moveTo>
                <a:cubicBezTo>
                  <a:pt x="8134" y="14251"/>
                  <a:pt x="8098" y="14351"/>
                  <a:pt x="8062" y="14461"/>
                </a:cubicBezTo>
                <a:cubicBezTo>
                  <a:pt x="8039" y="14529"/>
                  <a:pt x="8016" y="14635"/>
                  <a:pt x="8037" y="14709"/>
                </a:cubicBezTo>
                <a:cubicBezTo>
                  <a:pt x="8045" y="14726"/>
                  <a:pt x="8054" y="14742"/>
                  <a:pt x="8062" y="147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Ink 14"/>
          <p:cNvSpPr/>
          <p:nvPr/>
        </p:nvSpPr>
        <p:spPr>
          <a:xfrm>
            <a:off x="1866960" y="550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184" y="15280"/>
                </a:moveTo>
                <a:lnTo>
                  <a:pt x="5184" y="1528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nk 15"/>
          <p:cNvSpPr/>
          <p:nvPr/>
        </p:nvSpPr>
        <p:spPr>
          <a:xfrm>
            <a:off x="1670040" y="2857680"/>
            <a:ext cx="776160" cy="26640"/>
          </a:xfrm>
          <a:custGeom>
            <a:avLst/>
            <a:gdLst/>
            <a:ahLst/>
            <a:rect l="l" t="t" r="r" b="b"/>
            <a:pathLst>
              <a:path w="2159" h="75">
                <a:moveTo>
                  <a:pt x="4638" y="7962"/>
                </a:moveTo>
                <a:cubicBezTo>
                  <a:pt x="4713" y="7987"/>
                  <a:pt x="4807" y="8003"/>
                  <a:pt x="4887" y="8012"/>
                </a:cubicBezTo>
                <a:cubicBezTo>
                  <a:pt x="4970" y="8012"/>
                  <a:pt x="5004" y="8010"/>
                  <a:pt x="5060" y="7987"/>
                </a:cubicBezTo>
              </a:path>
              <a:path w="2159" h="75">
                <a:moveTo>
                  <a:pt x="5680" y="7962"/>
                </a:moveTo>
                <a:cubicBezTo>
                  <a:pt x="5763" y="7962"/>
                  <a:pt x="5845" y="7962"/>
                  <a:pt x="5928" y="7962"/>
                </a:cubicBezTo>
              </a:path>
              <a:path w="2159" h="75">
                <a:moveTo>
                  <a:pt x="6548" y="7938"/>
                </a:moveTo>
                <a:cubicBezTo>
                  <a:pt x="6689" y="7938"/>
                  <a:pt x="6713" y="7938"/>
                  <a:pt x="6796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Ink 16"/>
          <p:cNvSpPr/>
          <p:nvPr/>
        </p:nvSpPr>
        <p:spPr>
          <a:xfrm>
            <a:off x="2697120" y="284796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7491" y="7913"/>
                </a:moveTo>
                <a:cubicBezTo>
                  <a:pt x="7628" y="7933"/>
                  <a:pt x="7750" y="7938"/>
                  <a:pt x="7888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nk 17"/>
          <p:cNvSpPr/>
          <p:nvPr/>
        </p:nvSpPr>
        <p:spPr>
          <a:xfrm>
            <a:off x="3116160" y="2847960"/>
            <a:ext cx="169920" cy="9720"/>
          </a:xfrm>
          <a:custGeom>
            <a:avLst/>
            <a:gdLst/>
            <a:ahLst/>
            <a:rect l="l" t="t" r="r" b="b"/>
            <a:pathLst>
              <a:path w="472" h="26">
                <a:moveTo>
                  <a:pt x="8657" y="7913"/>
                </a:moveTo>
                <a:cubicBezTo>
                  <a:pt x="8817" y="7919"/>
                  <a:pt x="8967" y="7938"/>
                  <a:pt x="9128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Ink 18"/>
          <p:cNvSpPr/>
          <p:nvPr/>
        </p:nvSpPr>
        <p:spPr>
          <a:xfrm>
            <a:off x="3581280" y="2857680"/>
            <a:ext cx="231840" cy="17280"/>
          </a:xfrm>
          <a:custGeom>
            <a:avLst/>
            <a:gdLst/>
            <a:ahLst/>
            <a:rect l="l" t="t" r="r" b="b"/>
            <a:pathLst>
              <a:path w="646" h="50">
                <a:moveTo>
                  <a:pt x="9947" y="7938"/>
                </a:moveTo>
                <a:cubicBezTo>
                  <a:pt x="10178" y="7958"/>
                  <a:pt x="10365" y="7978"/>
                  <a:pt x="10592" y="79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nk 19"/>
          <p:cNvSpPr/>
          <p:nvPr/>
        </p:nvSpPr>
        <p:spPr>
          <a:xfrm>
            <a:off x="4044960" y="2874960"/>
            <a:ext cx="16992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1237" y="7987"/>
                </a:moveTo>
                <a:cubicBezTo>
                  <a:pt x="11401" y="8000"/>
                  <a:pt x="11546" y="8012"/>
                  <a:pt x="11708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Ink 20"/>
          <p:cNvSpPr/>
          <p:nvPr/>
        </p:nvSpPr>
        <p:spPr>
          <a:xfrm>
            <a:off x="4572000" y="2884320"/>
            <a:ext cx="135000" cy="1800"/>
          </a:xfrm>
          <a:custGeom>
            <a:avLst/>
            <a:gdLst/>
            <a:ahLst/>
            <a:rect l="l" t="t" r="r" b="b"/>
            <a:pathLst>
              <a:path w="373" h="1">
                <a:moveTo>
                  <a:pt x="12700" y="8012"/>
                </a:moveTo>
                <a:cubicBezTo>
                  <a:pt x="12915" y="8012"/>
                  <a:pt x="12948" y="8012"/>
                  <a:pt x="13072" y="801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Ink 21"/>
          <p:cNvSpPr/>
          <p:nvPr/>
        </p:nvSpPr>
        <p:spPr>
          <a:xfrm>
            <a:off x="5037120" y="2840040"/>
            <a:ext cx="196920" cy="9360"/>
          </a:xfrm>
          <a:custGeom>
            <a:avLst/>
            <a:gdLst/>
            <a:ahLst/>
            <a:rect l="l" t="t" r="r" b="b"/>
            <a:pathLst>
              <a:path w="547" h="26">
                <a:moveTo>
                  <a:pt x="13990" y="7913"/>
                </a:moveTo>
                <a:cubicBezTo>
                  <a:pt x="14145" y="7913"/>
                  <a:pt x="14284" y="7892"/>
                  <a:pt x="14436" y="7888"/>
                </a:cubicBezTo>
                <a:cubicBezTo>
                  <a:pt x="14469" y="7888"/>
                  <a:pt x="14503" y="7888"/>
                  <a:pt x="14536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Ink 22"/>
          <p:cNvSpPr/>
          <p:nvPr/>
        </p:nvSpPr>
        <p:spPr>
          <a:xfrm>
            <a:off x="5537160" y="2820960"/>
            <a:ext cx="249120" cy="9720"/>
          </a:xfrm>
          <a:custGeom>
            <a:avLst/>
            <a:gdLst/>
            <a:ahLst/>
            <a:rect l="l" t="t" r="r" b="b"/>
            <a:pathLst>
              <a:path w="695" h="26">
                <a:moveTo>
                  <a:pt x="15379" y="7838"/>
                </a:moveTo>
                <a:cubicBezTo>
                  <a:pt x="15551" y="7838"/>
                  <a:pt x="15708" y="7849"/>
                  <a:pt x="15875" y="7863"/>
                </a:cubicBezTo>
                <a:cubicBezTo>
                  <a:pt x="15975" y="7863"/>
                  <a:pt x="16009" y="7863"/>
                  <a:pt x="16073" y="78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Ink 23"/>
          <p:cNvSpPr/>
          <p:nvPr/>
        </p:nvSpPr>
        <p:spPr>
          <a:xfrm>
            <a:off x="6062760" y="2813040"/>
            <a:ext cx="768240" cy="27000"/>
          </a:xfrm>
          <a:custGeom>
            <a:avLst/>
            <a:gdLst/>
            <a:ahLst/>
            <a:rect l="l" t="t" r="r" b="b"/>
            <a:pathLst>
              <a:path w="2135" h="76">
                <a:moveTo>
                  <a:pt x="16842" y="7813"/>
                </a:moveTo>
                <a:cubicBezTo>
                  <a:pt x="17062" y="7813"/>
                  <a:pt x="17269" y="7814"/>
                  <a:pt x="17487" y="7838"/>
                </a:cubicBezTo>
              </a:path>
              <a:path w="2135" h="76">
                <a:moveTo>
                  <a:pt x="17884" y="7813"/>
                </a:moveTo>
                <a:cubicBezTo>
                  <a:pt x="18050" y="7813"/>
                  <a:pt x="18218" y="7811"/>
                  <a:pt x="18380" y="7838"/>
                </a:cubicBezTo>
                <a:cubicBezTo>
                  <a:pt x="18513" y="7860"/>
                  <a:pt x="18642" y="7884"/>
                  <a:pt x="18777" y="7888"/>
                </a:cubicBezTo>
                <a:cubicBezTo>
                  <a:pt x="18876" y="7888"/>
                  <a:pt x="18910" y="7888"/>
                  <a:pt x="18976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Ink 24"/>
          <p:cNvSpPr/>
          <p:nvPr/>
        </p:nvSpPr>
        <p:spPr>
          <a:xfrm>
            <a:off x="1509840" y="1133640"/>
            <a:ext cx="1222200" cy="839520"/>
          </a:xfrm>
          <a:custGeom>
            <a:avLst/>
            <a:gdLst/>
            <a:ahLst/>
            <a:rect l="l" t="t" r="r" b="b"/>
            <a:pathLst>
              <a:path w="3399" h="2333">
                <a:moveTo>
                  <a:pt x="6152" y="4490"/>
                </a:moveTo>
                <a:cubicBezTo>
                  <a:pt x="6195" y="4446"/>
                  <a:pt x="6249" y="4342"/>
                  <a:pt x="6152" y="4390"/>
                </a:cubicBezTo>
                <a:cubicBezTo>
                  <a:pt x="6128" y="4414"/>
                  <a:pt x="6034" y="4486"/>
                  <a:pt x="6102" y="4514"/>
                </a:cubicBezTo>
                <a:cubicBezTo>
                  <a:pt x="6142" y="4530"/>
                  <a:pt x="6236" y="4517"/>
                  <a:pt x="6251" y="4465"/>
                </a:cubicBezTo>
                <a:cubicBezTo>
                  <a:pt x="6269" y="4401"/>
                  <a:pt x="6218" y="4363"/>
                  <a:pt x="6176" y="4390"/>
                </a:cubicBezTo>
                <a:cubicBezTo>
                  <a:pt x="6124" y="4423"/>
                  <a:pt x="6093" y="4449"/>
                  <a:pt x="6052" y="4490"/>
                </a:cubicBezTo>
                <a:cubicBezTo>
                  <a:pt x="6094" y="4510"/>
                  <a:pt x="6193" y="4531"/>
                  <a:pt x="6226" y="4465"/>
                </a:cubicBezTo>
                <a:cubicBezTo>
                  <a:pt x="6226" y="4448"/>
                  <a:pt x="6226" y="4432"/>
                  <a:pt x="6226" y="4415"/>
                </a:cubicBezTo>
                <a:cubicBezTo>
                  <a:pt x="6196" y="4342"/>
                  <a:pt x="6182" y="4385"/>
                  <a:pt x="6127" y="4440"/>
                </a:cubicBezTo>
                <a:cubicBezTo>
                  <a:pt x="6119" y="4448"/>
                  <a:pt x="6110" y="4457"/>
                  <a:pt x="6102" y="4465"/>
                </a:cubicBezTo>
                <a:cubicBezTo>
                  <a:pt x="6137" y="4486"/>
                  <a:pt x="6285" y="4485"/>
                  <a:pt x="6201" y="4390"/>
                </a:cubicBezTo>
                <a:cubicBezTo>
                  <a:pt x="6200" y="4388"/>
                  <a:pt x="6086" y="4382"/>
                  <a:pt x="6152" y="4415"/>
                </a:cubicBezTo>
              </a:path>
              <a:path w="3399" h="2333">
                <a:moveTo>
                  <a:pt x="4490" y="4887"/>
                </a:moveTo>
                <a:cubicBezTo>
                  <a:pt x="4559" y="4883"/>
                  <a:pt x="4623" y="4881"/>
                  <a:pt x="4688" y="4862"/>
                </a:cubicBezTo>
                <a:cubicBezTo>
                  <a:pt x="4772" y="4838"/>
                  <a:pt x="4872" y="4807"/>
                  <a:pt x="4961" y="4787"/>
                </a:cubicBezTo>
                <a:cubicBezTo>
                  <a:pt x="5038" y="4769"/>
                  <a:pt x="5111" y="4736"/>
                  <a:pt x="5184" y="4713"/>
                </a:cubicBezTo>
                <a:cubicBezTo>
                  <a:pt x="5285" y="4681"/>
                  <a:pt x="5386" y="4633"/>
                  <a:pt x="5482" y="4589"/>
                </a:cubicBezTo>
                <a:cubicBezTo>
                  <a:pt x="5551" y="4557"/>
                  <a:pt x="5612" y="4536"/>
                  <a:pt x="5680" y="4514"/>
                </a:cubicBezTo>
                <a:cubicBezTo>
                  <a:pt x="5798" y="4477"/>
                  <a:pt x="5916" y="4418"/>
                  <a:pt x="6028" y="4366"/>
                </a:cubicBezTo>
                <a:cubicBezTo>
                  <a:pt x="6102" y="4332"/>
                  <a:pt x="6177" y="4300"/>
                  <a:pt x="6251" y="4266"/>
                </a:cubicBezTo>
                <a:cubicBezTo>
                  <a:pt x="6314" y="4237"/>
                  <a:pt x="6383" y="4199"/>
                  <a:pt x="6449" y="4167"/>
                </a:cubicBezTo>
                <a:cubicBezTo>
                  <a:pt x="6527" y="4129"/>
                  <a:pt x="6602" y="4091"/>
                  <a:pt x="6672" y="4043"/>
                </a:cubicBezTo>
                <a:cubicBezTo>
                  <a:pt x="6726" y="4006"/>
                  <a:pt x="6796" y="3961"/>
                  <a:pt x="6846" y="3919"/>
                </a:cubicBezTo>
                <a:cubicBezTo>
                  <a:pt x="6951" y="3830"/>
                  <a:pt x="7029" y="3720"/>
                  <a:pt x="7094" y="3621"/>
                </a:cubicBezTo>
                <a:cubicBezTo>
                  <a:pt x="7122" y="3579"/>
                  <a:pt x="7161" y="3536"/>
                  <a:pt x="7193" y="3497"/>
                </a:cubicBezTo>
                <a:cubicBezTo>
                  <a:pt x="7227" y="3455"/>
                  <a:pt x="7277" y="3394"/>
                  <a:pt x="7317" y="3349"/>
                </a:cubicBezTo>
                <a:cubicBezTo>
                  <a:pt x="7353" y="3308"/>
                  <a:pt x="7407" y="3276"/>
                  <a:pt x="7441" y="3225"/>
                </a:cubicBezTo>
                <a:cubicBezTo>
                  <a:pt x="7449" y="3208"/>
                  <a:pt x="7458" y="3192"/>
                  <a:pt x="7466" y="3175"/>
                </a:cubicBezTo>
                <a:cubicBezTo>
                  <a:pt x="7364" y="3226"/>
                  <a:pt x="7284" y="3300"/>
                  <a:pt x="7193" y="3373"/>
                </a:cubicBezTo>
                <a:cubicBezTo>
                  <a:pt x="7136" y="3419"/>
                  <a:pt x="7082" y="3457"/>
                  <a:pt x="7020" y="3497"/>
                </a:cubicBezTo>
                <a:cubicBezTo>
                  <a:pt x="7055" y="3433"/>
                  <a:pt x="7093" y="3392"/>
                  <a:pt x="7144" y="3324"/>
                </a:cubicBezTo>
                <a:cubicBezTo>
                  <a:pt x="7187" y="3268"/>
                  <a:pt x="7237" y="3167"/>
                  <a:pt x="7317" y="3150"/>
                </a:cubicBezTo>
                <a:cubicBezTo>
                  <a:pt x="7426" y="3127"/>
                  <a:pt x="7445" y="3288"/>
                  <a:pt x="7466" y="3349"/>
                </a:cubicBezTo>
                <a:cubicBezTo>
                  <a:pt x="7498" y="3444"/>
                  <a:pt x="7497" y="3529"/>
                  <a:pt x="7541" y="3621"/>
                </a:cubicBezTo>
                <a:cubicBezTo>
                  <a:pt x="7573" y="3688"/>
                  <a:pt x="7557" y="3684"/>
                  <a:pt x="7565" y="3746"/>
                </a:cubicBezTo>
              </a:path>
              <a:path w="3399" h="2333">
                <a:moveTo>
                  <a:pt x="4787" y="4465"/>
                </a:moveTo>
                <a:cubicBezTo>
                  <a:pt x="4693" y="4614"/>
                  <a:pt x="4608" y="4756"/>
                  <a:pt x="4490" y="4887"/>
                </a:cubicBezTo>
                <a:cubicBezTo>
                  <a:pt x="4408" y="4978"/>
                  <a:pt x="4290" y="5041"/>
                  <a:pt x="4217" y="5135"/>
                </a:cubicBezTo>
                <a:cubicBezTo>
                  <a:pt x="4149" y="5222"/>
                  <a:pt x="4218" y="5265"/>
                  <a:pt x="4291" y="5308"/>
                </a:cubicBezTo>
                <a:cubicBezTo>
                  <a:pt x="4417" y="5383"/>
                  <a:pt x="4599" y="5414"/>
                  <a:pt x="4738" y="5457"/>
                </a:cubicBezTo>
                <a:cubicBezTo>
                  <a:pt x="4771" y="5465"/>
                  <a:pt x="4804" y="5474"/>
                  <a:pt x="4837" y="54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 204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13,15,21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ST FRIDAY!!!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2.7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one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ing Rational Func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se are the guidelines for graphing a rational function of the form f(x) =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Arial"/>
              </a:rPr>
              <a:t>N(x)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/</a:t>
            </a:r>
            <a:r>
              <a:rPr b="0" lang="en-US" sz="4000" spc="-1" strike="noStrike" baseline="-25000">
                <a:solidFill>
                  <a:srgbClr val="ccffff"/>
                </a:solidFill>
                <a:latin typeface="Arial"/>
              </a:rPr>
              <a:t>D(x)</a:t>
            </a:r>
            <a:br>
              <a:rPr sz="4000"/>
            </a:br>
            <a:r>
              <a:rPr b="0" i="1" lang="en-US" sz="4000" spc="-1" strike="noStrike">
                <a:solidFill>
                  <a:srgbClr val="ccffff"/>
                </a:solidFill>
                <a:latin typeface="Arial"/>
              </a:rPr>
              <a:t>(a six-step proces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 Check for y-intercepts by evaluating f(0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Find x-intercepts by solving for real zeros of N(x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3.  Solve D(x) = 0 to find vertical asympto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Find horizontal asymptotes by using the degr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5.  Plot extra points (try to get them on either sides of asymptote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 Complete the graph by connecting it with smooth cur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ketch f(x) = 5/(x -3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inter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asympt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extra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cu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4"/>
          <p:cNvSpPr/>
          <p:nvPr/>
        </p:nvSpPr>
        <p:spPr>
          <a:xfrm>
            <a:off x="3232080" y="1276200"/>
            <a:ext cx="2536920" cy="831960"/>
          </a:xfrm>
          <a:custGeom>
            <a:avLst/>
            <a:gdLst/>
            <a:ahLst/>
            <a:rect l="l" t="t" r="r" b="b"/>
            <a:pathLst>
              <a:path w="7046" h="2308">
                <a:moveTo>
                  <a:pt x="8979" y="4514"/>
                </a:moveTo>
                <a:cubicBezTo>
                  <a:pt x="9016" y="4587"/>
                  <a:pt x="9045" y="4630"/>
                  <a:pt x="9103" y="4688"/>
                </a:cubicBezTo>
                <a:cubicBezTo>
                  <a:pt x="9172" y="4757"/>
                  <a:pt x="9226" y="4852"/>
                  <a:pt x="9302" y="4911"/>
                </a:cubicBezTo>
                <a:cubicBezTo>
                  <a:pt x="9358" y="4954"/>
                  <a:pt x="9422" y="4988"/>
                  <a:pt x="9475" y="5035"/>
                </a:cubicBezTo>
                <a:cubicBezTo>
                  <a:pt x="9583" y="5132"/>
                  <a:pt x="9502" y="4800"/>
                  <a:pt x="9500" y="4713"/>
                </a:cubicBezTo>
              </a:path>
              <a:path w="7046" h="2308">
                <a:moveTo>
                  <a:pt x="9699" y="4341"/>
                </a:moveTo>
                <a:cubicBezTo>
                  <a:pt x="9699" y="4487"/>
                  <a:pt x="9663" y="4596"/>
                  <a:pt x="9599" y="4738"/>
                </a:cubicBezTo>
                <a:cubicBezTo>
                  <a:pt x="9545" y="4858"/>
                  <a:pt x="9493" y="4983"/>
                  <a:pt x="9451" y="5110"/>
                </a:cubicBezTo>
                <a:cubicBezTo>
                  <a:pt x="9411" y="5231"/>
                  <a:pt x="9390" y="5360"/>
                  <a:pt x="9351" y="5482"/>
                </a:cubicBezTo>
                <a:cubicBezTo>
                  <a:pt x="9323" y="5572"/>
                  <a:pt x="9291" y="5666"/>
                  <a:pt x="9277" y="5755"/>
                </a:cubicBezTo>
                <a:cubicBezTo>
                  <a:pt x="9259" y="5867"/>
                  <a:pt x="9289" y="5861"/>
                  <a:pt x="9302" y="5755"/>
                </a:cubicBezTo>
              </a:path>
              <a:path w="7046" h="2308">
                <a:moveTo>
                  <a:pt x="9947" y="4366"/>
                </a:moveTo>
                <a:cubicBezTo>
                  <a:pt x="10068" y="4366"/>
                  <a:pt x="10180" y="4373"/>
                  <a:pt x="10294" y="4390"/>
                </a:cubicBezTo>
                <a:cubicBezTo>
                  <a:pt x="10372" y="4402"/>
                  <a:pt x="10463" y="4390"/>
                  <a:pt x="10542" y="4390"/>
                </a:cubicBezTo>
              </a:path>
              <a:path w="7046" h="2308">
                <a:moveTo>
                  <a:pt x="9922" y="4589"/>
                </a:moveTo>
                <a:cubicBezTo>
                  <a:pt x="9922" y="4605"/>
                  <a:pt x="9922" y="4622"/>
                  <a:pt x="9922" y="4638"/>
                </a:cubicBezTo>
                <a:cubicBezTo>
                  <a:pt x="10019" y="4638"/>
                  <a:pt x="10104" y="4628"/>
                  <a:pt x="10195" y="4614"/>
                </a:cubicBezTo>
                <a:cubicBezTo>
                  <a:pt x="10258" y="4604"/>
                  <a:pt x="10344" y="4645"/>
                  <a:pt x="10393" y="4638"/>
                </a:cubicBezTo>
                <a:cubicBezTo>
                  <a:pt x="10401" y="4630"/>
                  <a:pt x="10410" y="4622"/>
                  <a:pt x="10418" y="4614"/>
                </a:cubicBezTo>
              </a:path>
              <a:path w="7046" h="2308">
                <a:moveTo>
                  <a:pt x="11112" y="3572"/>
                </a:moveTo>
                <a:cubicBezTo>
                  <a:pt x="11189" y="3581"/>
                  <a:pt x="11257" y="3597"/>
                  <a:pt x="11336" y="3597"/>
                </a:cubicBezTo>
                <a:cubicBezTo>
                  <a:pt x="11405" y="3597"/>
                  <a:pt x="11461" y="3572"/>
                  <a:pt x="11534" y="3572"/>
                </a:cubicBezTo>
                <a:cubicBezTo>
                  <a:pt x="11576" y="3572"/>
                  <a:pt x="11592" y="3580"/>
                  <a:pt x="11584" y="3547"/>
                </a:cubicBezTo>
              </a:path>
              <a:path w="7046" h="2308">
                <a:moveTo>
                  <a:pt x="11137" y="3621"/>
                </a:moveTo>
                <a:cubicBezTo>
                  <a:pt x="11113" y="3710"/>
                  <a:pt x="11112" y="3777"/>
                  <a:pt x="11112" y="3870"/>
                </a:cubicBezTo>
                <a:cubicBezTo>
                  <a:pt x="11112" y="3914"/>
                  <a:pt x="11109" y="3928"/>
                  <a:pt x="11137" y="3944"/>
                </a:cubicBezTo>
                <a:cubicBezTo>
                  <a:pt x="11164" y="3922"/>
                  <a:pt x="11229" y="3854"/>
                  <a:pt x="11261" y="3845"/>
                </a:cubicBezTo>
                <a:cubicBezTo>
                  <a:pt x="11304" y="3833"/>
                  <a:pt x="11453" y="3843"/>
                  <a:pt x="11485" y="3870"/>
                </a:cubicBezTo>
                <a:cubicBezTo>
                  <a:pt x="11540" y="3916"/>
                  <a:pt x="11544" y="3986"/>
                  <a:pt x="11509" y="4043"/>
                </a:cubicBezTo>
                <a:cubicBezTo>
                  <a:pt x="11478" y="4094"/>
                  <a:pt x="11405" y="4110"/>
                  <a:pt x="11361" y="4118"/>
                </a:cubicBezTo>
                <a:cubicBezTo>
                  <a:pt x="11289" y="4132"/>
                  <a:pt x="11241" y="4096"/>
                  <a:pt x="11187" y="4118"/>
                </a:cubicBezTo>
              </a:path>
              <a:path w="7046" h="2308">
                <a:moveTo>
                  <a:pt x="10815" y="4291"/>
                </a:moveTo>
                <a:cubicBezTo>
                  <a:pt x="11074" y="4291"/>
                  <a:pt x="11329" y="4292"/>
                  <a:pt x="11584" y="4316"/>
                </a:cubicBezTo>
                <a:cubicBezTo>
                  <a:pt x="11638" y="4321"/>
                  <a:pt x="11886" y="4288"/>
                  <a:pt x="11782" y="4316"/>
                </a:cubicBezTo>
                <a:cubicBezTo>
                  <a:pt x="11757" y="4324"/>
                  <a:pt x="11733" y="4333"/>
                  <a:pt x="11708" y="4341"/>
                </a:cubicBezTo>
              </a:path>
              <a:path w="7046" h="2308">
                <a:moveTo>
                  <a:pt x="10988" y="4638"/>
                </a:moveTo>
                <a:cubicBezTo>
                  <a:pt x="10948" y="4699"/>
                  <a:pt x="10927" y="4771"/>
                  <a:pt x="10889" y="4837"/>
                </a:cubicBezTo>
                <a:cubicBezTo>
                  <a:pt x="10854" y="4897"/>
                  <a:pt x="10771" y="5027"/>
                  <a:pt x="10790" y="5110"/>
                </a:cubicBezTo>
                <a:cubicBezTo>
                  <a:pt x="10796" y="5135"/>
                  <a:pt x="10858" y="5228"/>
                  <a:pt x="10889" y="5234"/>
                </a:cubicBezTo>
                <a:cubicBezTo>
                  <a:pt x="10984" y="5254"/>
                  <a:pt x="11045" y="5222"/>
                  <a:pt x="11112" y="5159"/>
                </a:cubicBezTo>
                <a:cubicBezTo>
                  <a:pt x="11186" y="5090"/>
                  <a:pt x="11207" y="5064"/>
                  <a:pt x="11212" y="4961"/>
                </a:cubicBezTo>
                <a:cubicBezTo>
                  <a:pt x="11216" y="4869"/>
                  <a:pt x="11203" y="4819"/>
                  <a:pt x="11162" y="4738"/>
                </a:cubicBezTo>
                <a:cubicBezTo>
                  <a:pt x="11140" y="4694"/>
                  <a:pt x="11107" y="4642"/>
                  <a:pt x="11063" y="4614"/>
                </a:cubicBezTo>
                <a:cubicBezTo>
                  <a:pt x="11019" y="4592"/>
                  <a:pt x="11007" y="4589"/>
                  <a:pt x="10988" y="4564"/>
                </a:cubicBezTo>
              </a:path>
              <a:path w="7046" h="2308">
                <a:moveTo>
                  <a:pt x="11336" y="4787"/>
                </a:moveTo>
                <a:cubicBezTo>
                  <a:pt x="11435" y="4787"/>
                  <a:pt x="11534" y="4787"/>
                  <a:pt x="11633" y="4787"/>
                </a:cubicBezTo>
              </a:path>
              <a:path w="7046" h="2308">
                <a:moveTo>
                  <a:pt x="11683" y="4614"/>
                </a:moveTo>
                <a:cubicBezTo>
                  <a:pt x="11751" y="4580"/>
                  <a:pt x="11847" y="4531"/>
                  <a:pt x="11931" y="4564"/>
                </a:cubicBezTo>
                <a:cubicBezTo>
                  <a:pt x="11993" y="4588"/>
                  <a:pt x="11947" y="4682"/>
                  <a:pt x="11931" y="4713"/>
                </a:cubicBezTo>
                <a:cubicBezTo>
                  <a:pt x="11893" y="4783"/>
                  <a:pt x="11867" y="4792"/>
                  <a:pt x="11807" y="4837"/>
                </a:cubicBezTo>
                <a:cubicBezTo>
                  <a:pt x="11747" y="4882"/>
                  <a:pt x="11750" y="4894"/>
                  <a:pt x="11807" y="4837"/>
                </a:cubicBezTo>
                <a:cubicBezTo>
                  <a:pt x="11840" y="4804"/>
                  <a:pt x="11947" y="4789"/>
                  <a:pt x="11981" y="4837"/>
                </a:cubicBezTo>
                <a:cubicBezTo>
                  <a:pt x="12028" y="4903"/>
                  <a:pt x="12026" y="5035"/>
                  <a:pt x="11956" y="5085"/>
                </a:cubicBezTo>
                <a:cubicBezTo>
                  <a:pt x="11893" y="5130"/>
                  <a:pt x="11836" y="5155"/>
                  <a:pt x="11757" y="5159"/>
                </a:cubicBezTo>
                <a:cubicBezTo>
                  <a:pt x="11714" y="5161"/>
                  <a:pt x="11602" y="5128"/>
                  <a:pt x="11584" y="5085"/>
                </a:cubicBezTo>
                <a:cubicBezTo>
                  <a:pt x="11584" y="5068"/>
                  <a:pt x="11584" y="5052"/>
                  <a:pt x="11584" y="5035"/>
                </a:cubicBezTo>
              </a:path>
              <a:path w="7046" h="2308">
                <a:moveTo>
                  <a:pt x="12278" y="4316"/>
                </a:moveTo>
                <a:cubicBezTo>
                  <a:pt x="12350" y="4316"/>
                  <a:pt x="12387" y="4295"/>
                  <a:pt x="12452" y="4291"/>
                </a:cubicBezTo>
                <a:cubicBezTo>
                  <a:pt x="12510" y="4288"/>
                  <a:pt x="12568" y="4291"/>
                  <a:pt x="12626" y="4291"/>
                </a:cubicBezTo>
              </a:path>
              <a:path w="7046" h="2308">
                <a:moveTo>
                  <a:pt x="12254" y="4465"/>
                </a:moveTo>
                <a:cubicBezTo>
                  <a:pt x="12344" y="4465"/>
                  <a:pt x="12418" y="4462"/>
                  <a:pt x="12502" y="4490"/>
                </a:cubicBezTo>
              </a:path>
              <a:path w="7046" h="2308">
                <a:moveTo>
                  <a:pt x="13171" y="3646"/>
                </a:moveTo>
                <a:cubicBezTo>
                  <a:pt x="13271" y="3646"/>
                  <a:pt x="13349" y="3635"/>
                  <a:pt x="13444" y="3621"/>
                </a:cubicBezTo>
                <a:cubicBezTo>
                  <a:pt x="13507" y="3612"/>
                  <a:pt x="13579" y="3621"/>
                  <a:pt x="13643" y="3621"/>
                </a:cubicBezTo>
              </a:path>
              <a:path w="7046" h="2308">
                <a:moveTo>
                  <a:pt x="13171" y="3696"/>
                </a:moveTo>
                <a:cubicBezTo>
                  <a:pt x="13153" y="3799"/>
                  <a:pt x="13126" y="3821"/>
                  <a:pt x="13171" y="3894"/>
                </a:cubicBezTo>
                <a:cubicBezTo>
                  <a:pt x="13213" y="3853"/>
                  <a:pt x="13254" y="3805"/>
                  <a:pt x="13320" y="3820"/>
                </a:cubicBezTo>
                <a:cubicBezTo>
                  <a:pt x="13408" y="3840"/>
                  <a:pt x="13414" y="3897"/>
                  <a:pt x="13469" y="3944"/>
                </a:cubicBezTo>
                <a:cubicBezTo>
                  <a:pt x="13519" y="3987"/>
                  <a:pt x="13547" y="4012"/>
                  <a:pt x="13519" y="4068"/>
                </a:cubicBezTo>
                <a:cubicBezTo>
                  <a:pt x="13472" y="4162"/>
                  <a:pt x="13431" y="4127"/>
                  <a:pt x="13345" y="4142"/>
                </a:cubicBezTo>
                <a:cubicBezTo>
                  <a:pt x="13271" y="4161"/>
                  <a:pt x="13264" y="4169"/>
                  <a:pt x="13221" y="4167"/>
                </a:cubicBezTo>
              </a:path>
              <a:path w="7046" h="2308">
                <a:moveTo>
                  <a:pt x="12948" y="4316"/>
                </a:moveTo>
                <a:cubicBezTo>
                  <a:pt x="13068" y="4316"/>
                  <a:pt x="13180" y="4330"/>
                  <a:pt x="13295" y="4341"/>
                </a:cubicBezTo>
                <a:cubicBezTo>
                  <a:pt x="13426" y="4353"/>
                  <a:pt x="13775" y="4341"/>
                  <a:pt x="13643" y="4341"/>
                </a:cubicBezTo>
              </a:path>
              <a:path w="7046" h="2308">
                <a:moveTo>
                  <a:pt x="12824" y="4762"/>
                </a:moveTo>
                <a:cubicBezTo>
                  <a:pt x="12895" y="4762"/>
                  <a:pt x="12934" y="4743"/>
                  <a:pt x="12998" y="4738"/>
                </a:cubicBezTo>
                <a:cubicBezTo>
                  <a:pt x="13006" y="4738"/>
                  <a:pt x="13014" y="4738"/>
                  <a:pt x="13022" y="4738"/>
                </a:cubicBezTo>
              </a:path>
              <a:path w="7046" h="2308">
                <a:moveTo>
                  <a:pt x="13196" y="4614"/>
                </a:moveTo>
                <a:cubicBezTo>
                  <a:pt x="13276" y="4614"/>
                  <a:pt x="13373" y="4595"/>
                  <a:pt x="13444" y="4638"/>
                </a:cubicBezTo>
                <a:cubicBezTo>
                  <a:pt x="13509" y="4678"/>
                  <a:pt x="13452" y="4749"/>
                  <a:pt x="13419" y="4787"/>
                </a:cubicBezTo>
                <a:cubicBezTo>
                  <a:pt x="13359" y="4854"/>
                  <a:pt x="13314" y="4811"/>
                  <a:pt x="13246" y="4837"/>
                </a:cubicBezTo>
                <a:cubicBezTo>
                  <a:pt x="13238" y="4845"/>
                  <a:pt x="13229" y="4854"/>
                  <a:pt x="13221" y="4862"/>
                </a:cubicBezTo>
                <a:cubicBezTo>
                  <a:pt x="13267" y="4834"/>
                  <a:pt x="13360" y="4819"/>
                  <a:pt x="13419" y="4837"/>
                </a:cubicBezTo>
                <a:cubicBezTo>
                  <a:pt x="13476" y="4855"/>
                  <a:pt x="13553" y="4921"/>
                  <a:pt x="13543" y="4986"/>
                </a:cubicBezTo>
                <a:cubicBezTo>
                  <a:pt x="13532" y="5054"/>
                  <a:pt x="13453" y="5098"/>
                  <a:pt x="13395" y="5110"/>
                </a:cubicBezTo>
                <a:cubicBezTo>
                  <a:pt x="13343" y="5120"/>
                  <a:pt x="13177" y="5104"/>
                  <a:pt x="13246" y="5035"/>
                </a:cubicBezTo>
                <a:cubicBezTo>
                  <a:pt x="13254" y="5035"/>
                  <a:pt x="13263" y="5035"/>
                  <a:pt x="13271" y="5035"/>
                </a:cubicBezTo>
              </a:path>
              <a:path w="7046" h="2308">
                <a:moveTo>
                  <a:pt x="14015" y="4465"/>
                </a:moveTo>
                <a:cubicBezTo>
                  <a:pt x="14081" y="4465"/>
                  <a:pt x="14147" y="4465"/>
                  <a:pt x="14213" y="4465"/>
                </a:cubicBezTo>
              </a:path>
              <a:path w="7046" h="2308">
                <a:moveTo>
                  <a:pt x="13915" y="4663"/>
                </a:moveTo>
                <a:cubicBezTo>
                  <a:pt x="14035" y="4663"/>
                  <a:pt x="14107" y="4656"/>
                  <a:pt x="14213" y="4638"/>
                </a:cubicBezTo>
                <a:cubicBezTo>
                  <a:pt x="14230" y="4638"/>
                  <a:pt x="14246" y="4638"/>
                  <a:pt x="14263" y="4638"/>
                </a:cubicBezTo>
              </a:path>
              <a:path w="7046" h="2308">
                <a:moveTo>
                  <a:pt x="14486" y="4390"/>
                </a:moveTo>
                <a:cubicBezTo>
                  <a:pt x="14585" y="4390"/>
                  <a:pt x="14667" y="4381"/>
                  <a:pt x="14759" y="4366"/>
                </a:cubicBezTo>
                <a:cubicBezTo>
                  <a:pt x="14808" y="4366"/>
                  <a:pt x="14825" y="4366"/>
                  <a:pt x="14858" y="4366"/>
                </a:cubicBezTo>
              </a:path>
              <a:path w="7046" h="2308">
                <a:moveTo>
                  <a:pt x="14982" y="3994"/>
                </a:moveTo>
                <a:cubicBezTo>
                  <a:pt x="14971" y="4066"/>
                  <a:pt x="14957" y="4110"/>
                  <a:pt x="14957" y="4192"/>
                </a:cubicBezTo>
                <a:cubicBezTo>
                  <a:pt x="14957" y="4344"/>
                  <a:pt x="14965" y="4495"/>
                  <a:pt x="14932" y="4638"/>
                </a:cubicBezTo>
                <a:cubicBezTo>
                  <a:pt x="14932" y="4646"/>
                  <a:pt x="14932" y="4655"/>
                  <a:pt x="14932" y="4663"/>
                </a:cubicBezTo>
              </a:path>
              <a:path w="7046" h="2308">
                <a:moveTo>
                  <a:pt x="15255" y="4614"/>
                </a:moveTo>
                <a:cubicBezTo>
                  <a:pt x="15220" y="4648"/>
                  <a:pt x="15181" y="4721"/>
                  <a:pt x="15280" y="4688"/>
                </a:cubicBezTo>
                <a:cubicBezTo>
                  <a:pt x="15304" y="4663"/>
                  <a:pt x="15312" y="4654"/>
                  <a:pt x="15329" y="4638"/>
                </a:cubicBezTo>
                <a:cubicBezTo>
                  <a:pt x="15297" y="4643"/>
                  <a:pt x="15229" y="4637"/>
                  <a:pt x="15280" y="4663"/>
                </a:cubicBezTo>
              </a:path>
              <a:path w="7046" h="2308">
                <a:moveTo>
                  <a:pt x="15627" y="4043"/>
                </a:moveTo>
                <a:cubicBezTo>
                  <a:pt x="15611" y="4130"/>
                  <a:pt x="15603" y="4234"/>
                  <a:pt x="15577" y="4316"/>
                </a:cubicBezTo>
                <a:cubicBezTo>
                  <a:pt x="15555" y="4385"/>
                  <a:pt x="15506" y="4435"/>
                  <a:pt x="15528" y="4514"/>
                </a:cubicBezTo>
                <a:cubicBezTo>
                  <a:pt x="15551" y="4598"/>
                  <a:pt x="15577" y="4648"/>
                  <a:pt x="15652" y="4688"/>
                </a:cubicBezTo>
                <a:cubicBezTo>
                  <a:pt x="15743" y="4737"/>
                  <a:pt x="15840" y="4719"/>
                  <a:pt x="15925" y="4663"/>
                </a:cubicBezTo>
                <a:cubicBezTo>
                  <a:pt x="15998" y="4614"/>
                  <a:pt x="16018" y="4555"/>
                  <a:pt x="15999" y="4490"/>
                </a:cubicBezTo>
                <a:cubicBezTo>
                  <a:pt x="15964" y="4476"/>
                  <a:pt x="15885" y="4469"/>
                  <a:pt x="15850" y="4514"/>
                </a:cubicBezTo>
                <a:cubicBezTo>
                  <a:pt x="15814" y="4560"/>
                  <a:pt x="15763" y="4641"/>
                  <a:pt x="15825" y="4688"/>
                </a:cubicBezTo>
                <a:cubicBezTo>
                  <a:pt x="15833" y="4688"/>
                  <a:pt x="15842" y="4688"/>
                  <a:pt x="15850" y="4688"/>
                </a:cubicBezTo>
              </a:path>
              <a:path w="7046" h="2308">
                <a:moveTo>
                  <a:pt x="15528" y="3944"/>
                </a:moveTo>
                <a:cubicBezTo>
                  <a:pt x="15625" y="3944"/>
                  <a:pt x="15710" y="3954"/>
                  <a:pt x="15801" y="3969"/>
                </a:cubicBezTo>
                <a:cubicBezTo>
                  <a:pt x="15874" y="3981"/>
                  <a:pt x="15930" y="3949"/>
                  <a:pt x="15999" y="3944"/>
                </a:cubicBezTo>
                <a:cubicBezTo>
                  <a:pt x="16007" y="3944"/>
                  <a:pt x="16016" y="3944"/>
                  <a:pt x="16024" y="39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5"/>
          <p:cNvSpPr/>
          <p:nvPr/>
        </p:nvSpPr>
        <p:spPr>
          <a:xfrm>
            <a:off x="6419880" y="1285920"/>
            <a:ext cx="1314360" cy="563400"/>
          </a:xfrm>
          <a:custGeom>
            <a:avLst/>
            <a:gdLst/>
            <a:ahLst/>
            <a:rect l="l" t="t" r="r" b="b"/>
            <a:pathLst>
              <a:path w="3647" h="1564">
                <a:moveTo>
                  <a:pt x="18058" y="3746"/>
                </a:moveTo>
                <a:cubicBezTo>
                  <a:pt x="17987" y="3829"/>
                  <a:pt x="17945" y="3915"/>
                  <a:pt x="17909" y="4018"/>
                </a:cubicBezTo>
                <a:cubicBezTo>
                  <a:pt x="17876" y="4112"/>
                  <a:pt x="17839" y="4194"/>
                  <a:pt x="17835" y="4291"/>
                </a:cubicBezTo>
                <a:cubicBezTo>
                  <a:pt x="17832" y="4357"/>
                  <a:pt x="17861" y="4481"/>
                  <a:pt x="17884" y="4539"/>
                </a:cubicBezTo>
                <a:cubicBezTo>
                  <a:pt x="17897" y="4572"/>
                  <a:pt x="17936" y="4610"/>
                  <a:pt x="17959" y="4638"/>
                </a:cubicBezTo>
              </a:path>
              <a:path w="3647" h="1564">
                <a:moveTo>
                  <a:pt x="18554" y="3944"/>
                </a:moveTo>
                <a:cubicBezTo>
                  <a:pt x="18513" y="3995"/>
                  <a:pt x="18479" y="4056"/>
                  <a:pt x="18455" y="4118"/>
                </a:cubicBezTo>
                <a:cubicBezTo>
                  <a:pt x="18426" y="4193"/>
                  <a:pt x="18392" y="4309"/>
                  <a:pt x="18380" y="4390"/>
                </a:cubicBezTo>
                <a:cubicBezTo>
                  <a:pt x="18365" y="4489"/>
                  <a:pt x="18370" y="4583"/>
                  <a:pt x="18430" y="4663"/>
                </a:cubicBezTo>
                <a:cubicBezTo>
                  <a:pt x="18474" y="4721"/>
                  <a:pt x="18572" y="4721"/>
                  <a:pt x="18628" y="4688"/>
                </a:cubicBezTo>
                <a:cubicBezTo>
                  <a:pt x="18718" y="4635"/>
                  <a:pt x="18794" y="4584"/>
                  <a:pt x="18852" y="4490"/>
                </a:cubicBezTo>
                <a:cubicBezTo>
                  <a:pt x="18893" y="4423"/>
                  <a:pt x="18920" y="4321"/>
                  <a:pt x="18901" y="4242"/>
                </a:cubicBezTo>
                <a:cubicBezTo>
                  <a:pt x="18886" y="4179"/>
                  <a:pt x="18829" y="4105"/>
                  <a:pt x="18777" y="4068"/>
                </a:cubicBezTo>
                <a:cubicBezTo>
                  <a:pt x="18721" y="4028"/>
                  <a:pt x="18624" y="3977"/>
                  <a:pt x="18554" y="3994"/>
                </a:cubicBezTo>
                <a:cubicBezTo>
                  <a:pt x="18546" y="4002"/>
                  <a:pt x="18537" y="4010"/>
                  <a:pt x="18529" y="4018"/>
                </a:cubicBezTo>
              </a:path>
              <a:path w="3647" h="1564">
                <a:moveTo>
                  <a:pt x="19149" y="4663"/>
                </a:moveTo>
                <a:cubicBezTo>
                  <a:pt x="19119" y="4781"/>
                  <a:pt x="19088" y="4921"/>
                  <a:pt x="19050" y="5035"/>
                </a:cubicBezTo>
                <a:cubicBezTo>
                  <a:pt x="19027" y="5104"/>
                  <a:pt x="19044" y="5125"/>
                  <a:pt x="19000" y="5110"/>
                </a:cubicBezTo>
              </a:path>
              <a:path w="3647" h="1564">
                <a:moveTo>
                  <a:pt x="19248" y="4217"/>
                </a:moveTo>
                <a:cubicBezTo>
                  <a:pt x="19357" y="4244"/>
                  <a:pt x="19414" y="4223"/>
                  <a:pt x="19521" y="4217"/>
                </a:cubicBezTo>
                <a:cubicBezTo>
                  <a:pt x="19587" y="4214"/>
                  <a:pt x="19654" y="4217"/>
                  <a:pt x="19720" y="4217"/>
                </a:cubicBezTo>
              </a:path>
              <a:path w="3647" h="1564">
                <a:moveTo>
                  <a:pt x="19993" y="3944"/>
                </a:moveTo>
                <a:cubicBezTo>
                  <a:pt x="19986" y="4040"/>
                  <a:pt x="19986" y="4147"/>
                  <a:pt x="19968" y="4242"/>
                </a:cubicBezTo>
                <a:cubicBezTo>
                  <a:pt x="19950" y="4337"/>
                  <a:pt x="19943" y="4416"/>
                  <a:pt x="19943" y="4514"/>
                </a:cubicBezTo>
                <a:cubicBezTo>
                  <a:pt x="19943" y="4589"/>
                  <a:pt x="19930" y="4623"/>
                  <a:pt x="19943" y="4688"/>
                </a:cubicBezTo>
                <a:cubicBezTo>
                  <a:pt x="19943" y="4705"/>
                  <a:pt x="19943" y="4721"/>
                  <a:pt x="19943" y="4738"/>
                </a:cubicBezTo>
              </a:path>
              <a:path w="3647" h="1564">
                <a:moveTo>
                  <a:pt x="20290" y="4564"/>
                </a:moveTo>
                <a:cubicBezTo>
                  <a:pt x="20251" y="4623"/>
                  <a:pt x="20222" y="4635"/>
                  <a:pt x="20265" y="4663"/>
                </a:cubicBezTo>
                <a:cubicBezTo>
                  <a:pt x="20323" y="4605"/>
                  <a:pt x="20351" y="4584"/>
                  <a:pt x="20265" y="4589"/>
                </a:cubicBezTo>
                <a:cubicBezTo>
                  <a:pt x="20218" y="4592"/>
                  <a:pt x="20148" y="4595"/>
                  <a:pt x="20241" y="4614"/>
                </a:cubicBezTo>
              </a:path>
              <a:path w="3647" h="1564">
                <a:moveTo>
                  <a:pt x="20762" y="3919"/>
                </a:moveTo>
                <a:cubicBezTo>
                  <a:pt x="20753" y="3990"/>
                  <a:pt x="20736" y="4050"/>
                  <a:pt x="20712" y="4118"/>
                </a:cubicBezTo>
                <a:cubicBezTo>
                  <a:pt x="20679" y="4211"/>
                  <a:pt x="20647" y="4319"/>
                  <a:pt x="20638" y="4415"/>
                </a:cubicBezTo>
                <a:cubicBezTo>
                  <a:pt x="20631" y="4485"/>
                  <a:pt x="20666" y="4518"/>
                  <a:pt x="20712" y="4564"/>
                </a:cubicBezTo>
                <a:cubicBezTo>
                  <a:pt x="20772" y="4624"/>
                  <a:pt x="20781" y="4617"/>
                  <a:pt x="20861" y="4589"/>
                </a:cubicBezTo>
                <a:cubicBezTo>
                  <a:pt x="20981" y="4547"/>
                  <a:pt x="20942" y="4508"/>
                  <a:pt x="20985" y="4415"/>
                </a:cubicBezTo>
                <a:cubicBezTo>
                  <a:pt x="21002" y="4379"/>
                  <a:pt x="20982" y="4316"/>
                  <a:pt x="20910" y="4341"/>
                </a:cubicBezTo>
                <a:cubicBezTo>
                  <a:pt x="20870" y="4355"/>
                  <a:pt x="20816" y="4454"/>
                  <a:pt x="20811" y="4490"/>
                </a:cubicBezTo>
                <a:cubicBezTo>
                  <a:pt x="20801" y="4557"/>
                  <a:pt x="20785" y="4676"/>
                  <a:pt x="20861" y="4638"/>
                </a:cubicBezTo>
              </a:path>
              <a:path w="3647" h="1564">
                <a:moveTo>
                  <a:pt x="21158" y="3572"/>
                </a:moveTo>
                <a:cubicBezTo>
                  <a:pt x="21294" y="3707"/>
                  <a:pt x="21374" y="3828"/>
                  <a:pt x="21431" y="4018"/>
                </a:cubicBezTo>
                <a:cubicBezTo>
                  <a:pt x="21475" y="4167"/>
                  <a:pt x="21472" y="4270"/>
                  <a:pt x="21456" y="4415"/>
                </a:cubicBezTo>
                <a:cubicBezTo>
                  <a:pt x="21446" y="4511"/>
                  <a:pt x="21435" y="4615"/>
                  <a:pt x="21357" y="4688"/>
                </a:cubicBezTo>
                <a:cubicBezTo>
                  <a:pt x="21322" y="4721"/>
                  <a:pt x="21230" y="4776"/>
                  <a:pt x="21183" y="4787"/>
                </a:cubicBezTo>
                <a:cubicBezTo>
                  <a:pt x="21167" y="4787"/>
                  <a:pt x="21150" y="4787"/>
                  <a:pt x="21134" y="4787"/>
                </a:cubicBezTo>
              </a:path>
              <a:path w="3647" h="1564">
                <a:moveTo>
                  <a:pt x="20662" y="3696"/>
                </a:moveTo>
                <a:cubicBezTo>
                  <a:pt x="20744" y="3696"/>
                  <a:pt x="20805" y="3718"/>
                  <a:pt x="20886" y="3721"/>
                </a:cubicBezTo>
                <a:cubicBezTo>
                  <a:pt x="20970" y="3724"/>
                  <a:pt x="21028" y="3746"/>
                  <a:pt x="21109" y="37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6"/>
          <p:cNvSpPr/>
          <p:nvPr/>
        </p:nvSpPr>
        <p:spPr>
          <a:xfrm>
            <a:off x="3303720" y="2286000"/>
            <a:ext cx="501480" cy="366840"/>
          </a:xfrm>
          <a:custGeom>
            <a:avLst/>
            <a:gdLst/>
            <a:ahLst/>
            <a:rect l="l" t="t" r="r" b="b"/>
            <a:pathLst>
              <a:path w="1390" h="1018">
                <a:moveTo>
                  <a:pt x="9203" y="6995"/>
                </a:moveTo>
                <a:cubicBezTo>
                  <a:pt x="9196" y="7091"/>
                  <a:pt x="9178" y="7170"/>
                  <a:pt x="9178" y="7268"/>
                </a:cubicBezTo>
                <a:cubicBezTo>
                  <a:pt x="9178" y="7377"/>
                  <a:pt x="9178" y="7377"/>
                  <a:pt x="9178" y="7268"/>
                </a:cubicBezTo>
                <a:cubicBezTo>
                  <a:pt x="9178" y="7183"/>
                  <a:pt x="9203" y="7108"/>
                  <a:pt x="9203" y="7020"/>
                </a:cubicBezTo>
                <a:cubicBezTo>
                  <a:pt x="9203" y="6925"/>
                  <a:pt x="9223" y="6841"/>
                  <a:pt x="9227" y="6747"/>
                </a:cubicBezTo>
                <a:cubicBezTo>
                  <a:pt x="9230" y="6670"/>
                  <a:pt x="9227" y="6569"/>
                  <a:pt x="9252" y="6499"/>
                </a:cubicBezTo>
                <a:cubicBezTo>
                  <a:pt x="9260" y="6491"/>
                  <a:pt x="9269" y="6482"/>
                  <a:pt x="9277" y="6474"/>
                </a:cubicBezTo>
                <a:cubicBezTo>
                  <a:pt x="9325" y="6534"/>
                  <a:pt x="9333" y="6578"/>
                  <a:pt x="9351" y="6648"/>
                </a:cubicBezTo>
                <a:cubicBezTo>
                  <a:pt x="9385" y="6779"/>
                  <a:pt x="9436" y="6903"/>
                  <a:pt x="9500" y="7020"/>
                </a:cubicBezTo>
                <a:cubicBezTo>
                  <a:pt x="9539" y="7091"/>
                  <a:pt x="9553" y="7175"/>
                  <a:pt x="9599" y="7243"/>
                </a:cubicBezTo>
                <a:cubicBezTo>
                  <a:pt x="9629" y="7273"/>
                  <a:pt x="9643" y="7284"/>
                  <a:pt x="9674" y="7293"/>
                </a:cubicBezTo>
                <a:cubicBezTo>
                  <a:pt x="9700" y="7249"/>
                  <a:pt x="9714" y="7174"/>
                  <a:pt x="9723" y="7119"/>
                </a:cubicBezTo>
                <a:cubicBezTo>
                  <a:pt x="9737" y="7032"/>
                  <a:pt x="9738" y="6932"/>
                  <a:pt x="9748" y="6846"/>
                </a:cubicBezTo>
                <a:cubicBezTo>
                  <a:pt x="9759" y="6752"/>
                  <a:pt x="9785" y="6667"/>
                  <a:pt x="9798" y="6573"/>
                </a:cubicBezTo>
                <a:cubicBezTo>
                  <a:pt x="9806" y="6512"/>
                  <a:pt x="9837" y="6452"/>
                  <a:pt x="9847" y="6400"/>
                </a:cubicBezTo>
                <a:cubicBezTo>
                  <a:pt x="9847" y="6383"/>
                  <a:pt x="9847" y="6367"/>
                  <a:pt x="9847" y="6350"/>
                </a:cubicBezTo>
              </a:path>
              <a:path w="1390" h="1018">
                <a:moveTo>
                  <a:pt x="10071" y="6796"/>
                </a:moveTo>
                <a:cubicBezTo>
                  <a:pt x="10071" y="6926"/>
                  <a:pt x="10044" y="7098"/>
                  <a:pt x="10096" y="7218"/>
                </a:cubicBezTo>
                <a:cubicBezTo>
                  <a:pt x="10125" y="7285"/>
                  <a:pt x="10149" y="7314"/>
                  <a:pt x="10220" y="7317"/>
                </a:cubicBezTo>
                <a:cubicBezTo>
                  <a:pt x="10295" y="7320"/>
                  <a:pt x="10382" y="7291"/>
                  <a:pt x="10443" y="7243"/>
                </a:cubicBezTo>
                <a:cubicBezTo>
                  <a:pt x="10501" y="7197"/>
                  <a:pt x="10555" y="7092"/>
                  <a:pt x="10567" y="7020"/>
                </a:cubicBezTo>
                <a:cubicBezTo>
                  <a:pt x="10583" y="6924"/>
                  <a:pt x="10553" y="6834"/>
                  <a:pt x="10542" y="6747"/>
                </a:cubicBezTo>
                <a:cubicBezTo>
                  <a:pt x="10527" y="6628"/>
                  <a:pt x="10513" y="6620"/>
                  <a:pt x="10418" y="6548"/>
                </a:cubicBezTo>
                <a:cubicBezTo>
                  <a:pt x="10357" y="6502"/>
                  <a:pt x="10283" y="6532"/>
                  <a:pt x="10220" y="6573"/>
                </a:cubicBezTo>
                <a:cubicBezTo>
                  <a:pt x="10186" y="6595"/>
                  <a:pt x="10127" y="6657"/>
                  <a:pt x="10120" y="6697"/>
                </a:cubicBezTo>
                <a:cubicBezTo>
                  <a:pt x="10120" y="6763"/>
                  <a:pt x="10120" y="6780"/>
                  <a:pt x="10120" y="68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7"/>
          <p:cNvSpPr/>
          <p:nvPr/>
        </p:nvSpPr>
        <p:spPr>
          <a:xfrm>
            <a:off x="4946760" y="2874960"/>
            <a:ext cx="1063440" cy="260280"/>
          </a:xfrm>
          <a:custGeom>
            <a:avLst/>
            <a:gdLst/>
            <a:ahLst/>
            <a:rect l="l" t="t" r="r" b="b"/>
            <a:pathLst>
              <a:path w="2953" h="720">
                <a:moveTo>
                  <a:pt x="13767" y="8037"/>
                </a:moveTo>
                <a:cubicBezTo>
                  <a:pt x="13804" y="8084"/>
                  <a:pt x="13837" y="8133"/>
                  <a:pt x="13866" y="8186"/>
                </a:cubicBezTo>
                <a:cubicBezTo>
                  <a:pt x="13903" y="8255"/>
                  <a:pt x="13982" y="8304"/>
                  <a:pt x="14015" y="8359"/>
                </a:cubicBezTo>
                <a:cubicBezTo>
                  <a:pt x="14062" y="8438"/>
                  <a:pt x="14096" y="8511"/>
                  <a:pt x="14163" y="8582"/>
                </a:cubicBezTo>
                <a:cubicBezTo>
                  <a:pt x="14201" y="8622"/>
                  <a:pt x="14249" y="8687"/>
                  <a:pt x="14288" y="8706"/>
                </a:cubicBezTo>
              </a:path>
              <a:path w="2953" h="720">
                <a:moveTo>
                  <a:pt x="14039" y="8111"/>
                </a:moveTo>
                <a:cubicBezTo>
                  <a:pt x="13989" y="8187"/>
                  <a:pt x="13908" y="8268"/>
                  <a:pt x="13866" y="8334"/>
                </a:cubicBezTo>
                <a:cubicBezTo>
                  <a:pt x="13825" y="8400"/>
                  <a:pt x="13815" y="8418"/>
                  <a:pt x="13767" y="8483"/>
                </a:cubicBezTo>
                <a:cubicBezTo>
                  <a:pt x="13759" y="8491"/>
                  <a:pt x="13750" y="8500"/>
                  <a:pt x="13742" y="8508"/>
                </a:cubicBezTo>
              </a:path>
              <a:path w="2953" h="720">
                <a:moveTo>
                  <a:pt x="14263" y="8334"/>
                </a:moveTo>
                <a:cubicBezTo>
                  <a:pt x="14395" y="8334"/>
                  <a:pt x="14536" y="8350"/>
                  <a:pt x="14660" y="8310"/>
                </a:cubicBezTo>
              </a:path>
              <a:path w="2953" h="720">
                <a:moveTo>
                  <a:pt x="14808" y="8062"/>
                </a:moveTo>
                <a:cubicBezTo>
                  <a:pt x="14885" y="8010"/>
                  <a:pt x="14923" y="7992"/>
                  <a:pt x="15007" y="8037"/>
                </a:cubicBezTo>
                <a:cubicBezTo>
                  <a:pt x="15070" y="8071"/>
                  <a:pt x="15071" y="8075"/>
                  <a:pt x="15106" y="8136"/>
                </a:cubicBezTo>
                <a:cubicBezTo>
                  <a:pt x="15052" y="8190"/>
                  <a:pt x="15020" y="8248"/>
                  <a:pt x="14957" y="8285"/>
                </a:cubicBezTo>
                <a:cubicBezTo>
                  <a:pt x="14914" y="8307"/>
                  <a:pt x="14903" y="8311"/>
                  <a:pt x="14883" y="8334"/>
                </a:cubicBezTo>
                <a:cubicBezTo>
                  <a:pt x="14946" y="8325"/>
                  <a:pt x="14986" y="8310"/>
                  <a:pt x="15056" y="8310"/>
                </a:cubicBezTo>
                <a:cubicBezTo>
                  <a:pt x="15157" y="8310"/>
                  <a:pt x="15215" y="8323"/>
                  <a:pt x="15255" y="8409"/>
                </a:cubicBezTo>
                <a:cubicBezTo>
                  <a:pt x="15275" y="8453"/>
                  <a:pt x="15266" y="8527"/>
                  <a:pt x="15205" y="8558"/>
                </a:cubicBezTo>
                <a:cubicBezTo>
                  <a:pt x="15152" y="8585"/>
                  <a:pt x="15071" y="8582"/>
                  <a:pt x="15007" y="8582"/>
                </a:cubicBezTo>
                <a:cubicBezTo>
                  <a:pt x="14919" y="8582"/>
                  <a:pt x="14895" y="8580"/>
                  <a:pt x="14883" y="8508"/>
                </a:cubicBezTo>
              </a:path>
              <a:path w="2953" h="720">
                <a:moveTo>
                  <a:pt x="15478" y="8260"/>
                </a:moveTo>
                <a:cubicBezTo>
                  <a:pt x="15586" y="8260"/>
                  <a:pt x="15693" y="8260"/>
                  <a:pt x="15801" y="8260"/>
                </a:cubicBezTo>
              </a:path>
              <a:path w="2953" h="720">
                <a:moveTo>
                  <a:pt x="15503" y="8409"/>
                </a:moveTo>
                <a:cubicBezTo>
                  <a:pt x="15610" y="8409"/>
                  <a:pt x="15718" y="8409"/>
                  <a:pt x="15825" y="8409"/>
                </a:cubicBezTo>
              </a:path>
              <a:path w="2953" h="720">
                <a:moveTo>
                  <a:pt x="16222" y="7987"/>
                </a:moveTo>
                <a:cubicBezTo>
                  <a:pt x="16202" y="8060"/>
                  <a:pt x="16196" y="8141"/>
                  <a:pt x="16173" y="8210"/>
                </a:cubicBezTo>
                <a:cubicBezTo>
                  <a:pt x="16148" y="8285"/>
                  <a:pt x="16132" y="8331"/>
                  <a:pt x="16173" y="8409"/>
                </a:cubicBezTo>
                <a:cubicBezTo>
                  <a:pt x="16222" y="8503"/>
                  <a:pt x="16316" y="8532"/>
                  <a:pt x="16396" y="8558"/>
                </a:cubicBezTo>
                <a:cubicBezTo>
                  <a:pt x="16489" y="8588"/>
                  <a:pt x="16517" y="8555"/>
                  <a:pt x="16594" y="8508"/>
                </a:cubicBezTo>
                <a:cubicBezTo>
                  <a:pt x="16694" y="8446"/>
                  <a:pt x="16694" y="8396"/>
                  <a:pt x="16694" y="8285"/>
                </a:cubicBezTo>
                <a:cubicBezTo>
                  <a:pt x="16694" y="8217"/>
                  <a:pt x="16633" y="8140"/>
                  <a:pt x="16570" y="8111"/>
                </a:cubicBezTo>
                <a:cubicBezTo>
                  <a:pt x="16490" y="8074"/>
                  <a:pt x="16407" y="8086"/>
                  <a:pt x="16321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8"/>
          <p:cNvSpPr/>
          <p:nvPr/>
        </p:nvSpPr>
        <p:spPr>
          <a:xfrm>
            <a:off x="4749840" y="3133800"/>
            <a:ext cx="1411200" cy="1081080"/>
          </a:xfrm>
          <a:custGeom>
            <a:avLst/>
            <a:gdLst/>
            <a:ahLst/>
            <a:rect l="l" t="t" r="r" b="b"/>
            <a:pathLst>
              <a:path w="3920" h="3003">
                <a:moveTo>
                  <a:pt x="14932" y="9079"/>
                </a:moveTo>
                <a:cubicBezTo>
                  <a:pt x="14963" y="9156"/>
                  <a:pt x="15018" y="9246"/>
                  <a:pt x="15081" y="9302"/>
                </a:cubicBezTo>
                <a:cubicBezTo>
                  <a:pt x="15154" y="9367"/>
                  <a:pt x="15227" y="9434"/>
                  <a:pt x="15304" y="9500"/>
                </a:cubicBezTo>
                <a:cubicBezTo>
                  <a:pt x="15378" y="9563"/>
                  <a:pt x="15409" y="9602"/>
                  <a:pt x="15503" y="9624"/>
                </a:cubicBezTo>
                <a:cubicBezTo>
                  <a:pt x="15511" y="9624"/>
                  <a:pt x="15520" y="9624"/>
                  <a:pt x="15528" y="9624"/>
                </a:cubicBezTo>
              </a:path>
              <a:path w="3920" h="3003">
                <a:moveTo>
                  <a:pt x="15205" y="9079"/>
                </a:moveTo>
                <a:cubicBezTo>
                  <a:pt x="15121" y="9186"/>
                  <a:pt x="15074" y="9248"/>
                  <a:pt x="15032" y="9376"/>
                </a:cubicBezTo>
                <a:cubicBezTo>
                  <a:pt x="15017" y="9422"/>
                  <a:pt x="14940" y="9487"/>
                  <a:pt x="14932" y="9525"/>
                </a:cubicBezTo>
                <a:cubicBezTo>
                  <a:pt x="14932" y="9591"/>
                  <a:pt x="14932" y="9624"/>
                  <a:pt x="14932" y="9550"/>
                </a:cubicBezTo>
              </a:path>
              <a:path w="3920" h="3003">
                <a:moveTo>
                  <a:pt x="15652" y="9153"/>
                </a:moveTo>
                <a:cubicBezTo>
                  <a:pt x="15751" y="9153"/>
                  <a:pt x="15850" y="9153"/>
                  <a:pt x="15949" y="9153"/>
                </a:cubicBezTo>
              </a:path>
              <a:path w="3920" h="3003">
                <a:moveTo>
                  <a:pt x="15652" y="9227"/>
                </a:moveTo>
                <a:cubicBezTo>
                  <a:pt x="15799" y="9323"/>
                  <a:pt x="15760" y="9302"/>
                  <a:pt x="15949" y="9302"/>
                </a:cubicBezTo>
              </a:path>
              <a:path w="3920" h="3003">
                <a:moveTo>
                  <a:pt x="16197" y="9004"/>
                </a:moveTo>
                <a:cubicBezTo>
                  <a:pt x="16379" y="8939"/>
                  <a:pt x="16329" y="8957"/>
                  <a:pt x="16470" y="9004"/>
                </a:cubicBezTo>
                <a:cubicBezTo>
                  <a:pt x="16515" y="9004"/>
                  <a:pt x="16528" y="9001"/>
                  <a:pt x="16545" y="9029"/>
                </a:cubicBezTo>
                <a:cubicBezTo>
                  <a:pt x="16536" y="9090"/>
                  <a:pt x="16523" y="9126"/>
                  <a:pt x="16470" y="9153"/>
                </a:cubicBezTo>
                <a:cubicBezTo>
                  <a:pt x="16395" y="9191"/>
                  <a:pt x="16411" y="9227"/>
                  <a:pt x="16321" y="9227"/>
                </a:cubicBezTo>
                <a:cubicBezTo>
                  <a:pt x="16212" y="9227"/>
                  <a:pt x="16260" y="9266"/>
                  <a:pt x="16321" y="9227"/>
                </a:cubicBezTo>
                <a:cubicBezTo>
                  <a:pt x="16399" y="9177"/>
                  <a:pt x="16476" y="9205"/>
                  <a:pt x="16520" y="9302"/>
                </a:cubicBezTo>
                <a:cubicBezTo>
                  <a:pt x="16552" y="9372"/>
                  <a:pt x="16564" y="9459"/>
                  <a:pt x="16520" y="9525"/>
                </a:cubicBezTo>
                <a:cubicBezTo>
                  <a:pt x="16490" y="9570"/>
                  <a:pt x="16424" y="9658"/>
                  <a:pt x="16371" y="9674"/>
                </a:cubicBezTo>
                <a:cubicBezTo>
                  <a:pt x="16290" y="9699"/>
                  <a:pt x="16158" y="9674"/>
                  <a:pt x="16073" y="9674"/>
                </a:cubicBezTo>
              </a:path>
              <a:path w="3920" h="3003">
                <a:moveTo>
                  <a:pt x="14635" y="8806"/>
                </a:moveTo>
                <a:cubicBezTo>
                  <a:pt x="14626" y="8884"/>
                  <a:pt x="14610" y="8949"/>
                  <a:pt x="14610" y="9029"/>
                </a:cubicBezTo>
                <a:cubicBezTo>
                  <a:pt x="14610" y="9209"/>
                  <a:pt x="14655" y="9465"/>
                  <a:pt x="14635" y="9624"/>
                </a:cubicBezTo>
                <a:cubicBezTo>
                  <a:pt x="14627" y="9641"/>
                  <a:pt x="14618" y="9657"/>
                  <a:pt x="14610" y="9674"/>
                </a:cubicBezTo>
              </a:path>
              <a:path w="3920" h="3003">
                <a:moveTo>
                  <a:pt x="14560" y="8781"/>
                </a:moveTo>
                <a:cubicBezTo>
                  <a:pt x="14639" y="8726"/>
                  <a:pt x="14626" y="8717"/>
                  <a:pt x="14734" y="8706"/>
                </a:cubicBezTo>
                <a:cubicBezTo>
                  <a:pt x="14828" y="8696"/>
                  <a:pt x="14968" y="8707"/>
                  <a:pt x="15056" y="8731"/>
                </a:cubicBezTo>
                <a:cubicBezTo>
                  <a:pt x="15232" y="8780"/>
                  <a:pt x="15372" y="8763"/>
                  <a:pt x="15553" y="8781"/>
                </a:cubicBezTo>
                <a:cubicBezTo>
                  <a:pt x="15739" y="8800"/>
                  <a:pt x="15913" y="8848"/>
                  <a:pt x="16098" y="8855"/>
                </a:cubicBezTo>
                <a:cubicBezTo>
                  <a:pt x="16420" y="8867"/>
                  <a:pt x="16744" y="8855"/>
                  <a:pt x="17066" y="8855"/>
                </a:cubicBezTo>
                <a:cubicBezTo>
                  <a:pt x="17079" y="8910"/>
                  <a:pt x="17097" y="8959"/>
                  <a:pt x="17090" y="9029"/>
                </a:cubicBezTo>
                <a:cubicBezTo>
                  <a:pt x="17081" y="9122"/>
                  <a:pt x="17066" y="9206"/>
                  <a:pt x="17066" y="9302"/>
                </a:cubicBezTo>
                <a:cubicBezTo>
                  <a:pt x="17066" y="9411"/>
                  <a:pt x="17060" y="9490"/>
                  <a:pt x="17066" y="9599"/>
                </a:cubicBezTo>
                <a:cubicBezTo>
                  <a:pt x="17070" y="9680"/>
                  <a:pt x="17087" y="9743"/>
                  <a:pt x="17090" y="9823"/>
                </a:cubicBezTo>
                <a:cubicBezTo>
                  <a:pt x="17093" y="9908"/>
                  <a:pt x="17101" y="9925"/>
                  <a:pt x="17090" y="9996"/>
                </a:cubicBezTo>
                <a:cubicBezTo>
                  <a:pt x="17056" y="9990"/>
                  <a:pt x="16921" y="9984"/>
                  <a:pt x="16892" y="9971"/>
                </a:cubicBezTo>
                <a:cubicBezTo>
                  <a:pt x="16771" y="9917"/>
                  <a:pt x="16757" y="9922"/>
                  <a:pt x="16594" y="9922"/>
                </a:cubicBezTo>
                <a:cubicBezTo>
                  <a:pt x="16286" y="9922"/>
                  <a:pt x="15982" y="9916"/>
                  <a:pt x="15677" y="9897"/>
                </a:cubicBezTo>
                <a:cubicBezTo>
                  <a:pt x="15439" y="9882"/>
                  <a:pt x="15212" y="9877"/>
                  <a:pt x="14982" y="9847"/>
                </a:cubicBezTo>
                <a:cubicBezTo>
                  <a:pt x="14835" y="9828"/>
                  <a:pt x="14505" y="9847"/>
                  <a:pt x="14436" y="9847"/>
                </a:cubicBezTo>
              </a:path>
              <a:path w="3920" h="3003">
                <a:moveTo>
                  <a:pt x="13767" y="10344"/>
                </a:moveTo>
                <a:cubicBezTo>
                  <a:pt x="13811" y="10433"/>
                  <a:pt x="13876" y="10482"/>
                  <a:pt x="13940" y="10567"/>
                </a:cubicBezTo>
                <a:cubicBezTo>
                  <a:pt x="14016" y="10668"/>
                  <a:pt x="14108" y="10749"/>
                  <a:pt x="14188" y="10840"/>
                </a:cubicBezTo>
                <a:cubicBezTo>
                  <a:pt x="14235" y="10893"/>
                  <a:pt x="14260" y="10993"/>
                  <a:pt x="14337" y="11013"/>
                </a:cubicBezTo>
                <a:cubicBezTo>
                  <a:pt x="14354" y="11013"/>
                  <a:pt x="14370" y="11013"/>
                  <a:pt x="14387" y="11013"/>
                </a:cubicBezTo>
              </a:path>
              <a:path w="3920" h="3003">
                <a:moveTo>
                  <a:pt x="14436" y="10269"/>
                </a:moveTo>
                <a:cubicBezTo>
                  <a:pt x="14436" y="10343"/>
                  <a:pt x="14425" y="10421"/>
                  <a:pt x="14412" y="10492"/>
                </a:cubicBezTo>
                <a:cubicBezTo>
                  <a:pt x="14384" y="10642"/>
                  <a:pt x="14368" y="10788"/>
                  <a:pt x="14337" y="10939"/>
                </a:cubicBezTo>
                <a:cubicBezTo>
                  <a:pt x="14303" y="11105"/>
                  <a:pt x="14268" y="11264"/>
                  <a:pt x="14263" y="11435"/>
                </a:cubicBezTo>
                <a:cubicBezTo>
                  <a:pt x="14260" y="11535"/>
                  <a:pt x="14250" y="11614"/>
                  <a:pt x="14238" y="11708"/>
                </a:cubicBezTo>
              </a:path>
              <a:path w="3920" h="3003">
                <a:moveTo>
                  <a:pt x="14610" y="10492"/>
                </a:moveTo>
                <a:cubicBezTo>
                  <a:pt x="14773" y="10429"/>
                  <a:pt x="14801" y="10418"/>
                  <a:pt x="14957" y="10418"/>
                </a:cubicBezTo>
                <a:cubicBezTo>
                  <a:pt x="14974" y="10418"/>
                  <a:pt x="14990" y="10418"/>
                  <a:pt x="15007" y="10418"/>
                </a:cubicBezTo>
              </a:path>
              <a:path w="3920" h="3003">
                <a:moveTo>
                  <a:pt x="14560" y="10790"/>
                </a:moveTo>
                <a:cubicBezTo>
                  <a:pt x="14754" y="10886"/>
                  <a:pt x="14804" y="10906"/>
                  <a:pt x="15007" y="10840"/>
                </a:cubicBezTo>
              </a:path>
              <a:path w="3920" h="3003">
                <a:moveTo>
                  <a:pt x="15304" y="10344"/>
                </a:moveTo>
                <a:cubicBezTo>
                  <a:pt x="15254" y="10407"/>
                  <a:pt x="15229" y="10511"/>
                  <a:pt x="15180" y="10567"/>
                </a:cubicBezTo>
                <a:cubicBezTo>
                  <a:pt x="15125" y="10630"/>
                  <a:pt x="15113" y="10674"/>
                  <a:pt x="15180" y="10765"/>
                </a:cubicBezTo>
                <a:cubicBezTo>
                  <a:pt x="15234" y="10838"/>
                  <a:pt x="15385" y="10907"/>
                  <a:pt x="15478" y="10889"/>
                </a:cubicBezTo>
                <a:cubicBezTo>
                  <a:pt x="15536" y="10878"/>
                  <a:pt x="15649" y="10766"/>
                  <a:pt x="15677" y="10716"/>
                </a:cubicBezTo>
                <a:cubicBezTo>
                  <a:pt x="15727" y="10627"/>
                  <a:pt x="15739" y="10505"/>
                  <a:pt x="15677" y="10418"/>
                </a:cubicBezTo>
                <a:cubicBezTo>
                  <a:pt x="15603" y="10313"/>
                  <a:pt x="15493" y="10266"/>
                  <a:pt x="15379" y="10220"/>
                </a:cubicBezTo>
                <a:cubicBezTo>
                  <a:pt x="15354" y="10212"/>
                  <a:pt x="15329" y="10203"/>
                  <a:pt x="15304" y="10195"/>
                </a:cubicBezTo>
              </a:path>
              <a:path w="3920" h="3003">
                <a:moveTo>
                  <a:pt x="14610" y="9748"/>
                </a:moveTo>
                <a:cubicBezTo>
                  <a:pt x="14418" y="9785"/>
                  <a:pt x="14242" y="9857"/>
                  <a:pt x="14064" y="9897"/>
                </a:cubicBezTo>
                <a:cubicBezTo>
                  <a:pt x="13873" y="9940"/>
                  <a:pt x="13704" y="9979"/>
                  <a:pt x="13519" y="10071"/>
                </a:cubicBezTo>
                <a:cubicBezTo>
                  <a:pt x="13425" y="10118"/>
                  <a:pt x="13337" y="10215"/>
                  <a:pt x="13271" y="10294"/>
                </a:cubicBezTo>
                <a:cubicBezTo>
                  <a:pt x="13180" y="10402"/>
                  <a:pt x="13189" y="10516"/>
                  <a:pt x="13221" y="10641"/>
                </a:cubicBezTo>
                <a:cubicBezTo>
                  <a:pt x="13251" y="10758"/>
                  <a:pt x="13315" y="10891"/>
                  <a:pt x="13419" y="10964"/>
                </a:cubicBezTo>
                <a:cubicBezTo>
                  <a:pt x="13567" y="11068"/>
                  <a:pt x="13746" y="11129"/>
                  <a:pt x="13915" y="11187"/>
                </a:cubicBezTo>
                <a:cubicBezTo>
                  <a:pt x="14110" y="11254"/>
                  <a:pt x="14330" y="11298"/>
                  <a:pt x="14536" y="11311"/>
                </a:cubicBezTo>
                <a:cubicBezTo>
                  <a:pt x="14775" y="11327"/>
                  <a:pt x="15017" y="11317"/>
                  <a:pt x="15255" y="11336"/>
                </a:cubicBezTo>
                <a:cubicBezTo>
                  <a:pt x="15456" y="11352"/>
                  <a:pt x="15635" y="11361"/>
                  <a:pt x="15825" y="11286"/>
                </a:cubicBezTo>
                <a:cubicBezTo>
                  <a:pt x="15945" y="11239"/>
                  <a:pt x="16048" y="11161"/>
                  <a:pt x="16098" y="11038"/>
                </a:cubicBezTo>
                <a:cubicBezTo>
                  <a:pt x="16154" y="10900"/>
                  <a:pt x="16167" y="10735"/>
                  <a:pt x="16123" y="10592"/>
                </a:cubicBezTo>
                <a:cubicBezTo>
                  <a:pt x="16052" y="10364"/>
                  <a:pt x="15847" y="10134"/>
                  <a:pt x="15652" y="9996"/>
                </a:cubicBezTo>
                <a:cubicBezTo>
                  <a:pt x="15449" y="9853"/>
                  <a:pt x="15172" y="9703"/>
                  <a:pt x="14932" y="9674"/>
                </a:cubicBezTo>
                <a:cubicBezTo>
                  <a:pt x="14759" y="9674"/>
                  <a:pt x="14701" y="9674"/>
                  <a:pt x="14585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52Z</dcterms:created>
  <dc:creator>jnewman</dc:creator>
  <dc:description/>
  <dc:language>en-US</dc:language>
  <cp:lastModifiedBy>abeason</cp:lastModifiedBy>
  <dcterms:modified xsi:type="dcterms:W3CDTF">2010-05-26T13:52:00Z</dcterms:modified>
  <cp:revision>18</cp:revision>
  <dc:subject/>
  <dc:title>Lesson 2.7 part one</dc:title>
</cp:coreProperties>
</file>